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1EAB-D64D-41CD-96D5-167C893E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9E07-5665-4E1A-A385-FACFE5BC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61CF-387C-4E12-9F4B-553C5253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D5EF-7182-4C23-A000-6558BDF3F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01AD-06A8-456F-9555-46194F2F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B018-F2FE-419E-A484-C4CDAD35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3F8B-9168-44B1-BE3B-F8FBA1B2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69F5-7DEC-427A-8414-CF467783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3008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0155-9D04-4820-B0F1-27FB542E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ABA9-264C-4FE9-B8CF-AEACDD22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52D5-E83E-40D5-9D68-EECB1FC6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08E7-984F-4CA7-998B-6E43B991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250920" y="6402240"/>
            <a:ext cx="14414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02D8-3F2B-479A-8710-FAB21BFBF2C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1979280" y="6400800"/>
            <a:ext cx="5040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380360" y="6402240"/>
            <a:ext cx="1341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617F-923D-4873-A732-BABDCCF17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m5sxl.net/~mats/graphics/images/clipart/cartoon/fishing.pn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google.ie/imgres?imgurl=http://www.scottybud.com/images/Clipart/old%2520radio.jpg&amp;imgrefurl=http://www.scottybud.com/rants.html&amp;h=400&amp;w=348&amp;sz=46&amp;hl=en&amp;start=26&amp;tbnid=ARWiplMtduGFfM:&amp;tbnh=124&amp;tbnw=108&amp;prev=/images%3Fq%3Dclipart%252Bradio%26start%3D20%26ndsp%3D20%26svnum%3D10%26hl%3Den%26lr%3D%26sa%3DN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google.ie/imgres?imgurl=http://www.nps.gov/bowa/bowagif/textbook.gif&amp;imgrefurl=http://www.nps.gov/bowa/edprogram2/choicesinblackandwhite.htm&amp;h=270&amp;w=296&amp;sz=7&amp;hl=en&amp;start=2&amp;tbnid=QE4c9LAYaOyHTM:&amp;tbnh=106&amp;tbnw=116&amp;prev=/images%3Fq%3Dtextbook%26svnum%3D10%26hl%3Den%26lr%3D%26sa%3DG" TargetMode="External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-1206360" y="-189000"/>
            <a:ext cx="10963080" cy="7263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23960" y="1646280"/>
            <a:ext cx="75945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000000"/>
                </a:solidFill>
                <a:latin typeface="Arial"/>
              </a:rPr>
              <a:t>Teicneolaíoc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Arial"/>
              </a:rPr>
              <a:t>Aonad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: T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6843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Dáiliú 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454040" y="1047600"/>
            <a:ext cx="5387400" cy="4095720"/>
            <a:chOff x="1454040" y="1047600"/>
            <a:chExt cx="5387400" cy="4095720"/>
          </a:xfrm>
        </p:grpSpPr>
        <p:cxnSp>
          <p:nvCxnSpPr>
            <p:cNvPr id="97" name="_s194591"/>
            <p:cNvCxnSpPr>
              <a:stCxn id="98" idx="1"/>
              <a:endCxn id="99" idx="2"/>
            </p:cNvCxnSpPr>
            <p:nvPr/>
          </p:nvCxnSpPr>
          <p:spPr>
            <a:xfrm rot="10800000">
              <a:off x="3069360" y="1631880"/>
              <a:ext cx="539280" cy="2341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194583"/>
            <p:cNvCxnSpPr>
              <a:stCxn id="101" idx="1"/>
              <a:endCxn id="99" idx="2"/>
            </p:cNvCxnSpPr>
            <p:nvPr/>
          </p:nvCxnSpPr>
          <p:spPr>
            <a:xfrm rot="10800000">
              <a:off x="3069360" y="1631880"/>
              <a:ext cx="539280" cy="3218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94582"/>
            <p:cNvCxnSpPr>
              <a:stCxn id="103" idx="1"/>
              <a:endCxn id="99" idx="2"/>
            </p:cNvCxnSpPr>
            <p:nvPr/>
          </p:nvCxnSpPr>
          <p:spPr>
            <a:xfrm rot="10800000">
              <a:off x="3069360" y="1631880"/>
              <a:ext cx="539280" cy="1463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94581"/>
            <p:cNvCxnSpPr>
              <a:stCxn id="105" idx="1"/>
              <a:endCxn id="99" idx="2"/>
            </p:cNvCxnSpPr>
            <p:nvPr/>
          </p:nvCxnSpPr>
          <p:spPr>
            <a:xfrm rot="10800000">
              <a:off x="3069360" y="1631880"/>
              <a:ext cx="539280" cy="585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9" name="_s194577"/>
            <p:cNvSpPr/>
            <p:nvPr/>
          </p:nvSpPr>
          <p:spPr>
            <a:xfrm>
              <a:off x="1454040" y="1047600"/>
              <a:ext cx="3232440" cy="585000"/>
            </a:xfrm>
            <a:prstGeom prst="roundRect">
              <a:avLst>
                <a:gd name="adj" fmla="val 16667"/>
              </a:avLst>
            </a:prstGeom>
            <a:solidFill>
              <a:srgbClr val="ffff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700" spc="-1" strike="noStrike">
                  <a:solidFill>
                    <a:srgbClr val="000000"/>
                  </a:solidFill>
                  <a:latin typeface="Arial"/>
                </a:rPr>
                <a:t>Iomlán </a:t>
              </a:r>
              <a:r>
                <a:rPr b="0" lang="en-GB" sz="2700" spc="-1" strike="noStrike">
                  <a:solidFill>
                    <a:srgbClr val="000000"/>
                  </a:solidFill>
                  <a:latin typeface="Arial"/>
                </a:rPr>
                <a:t>   180 </a:t>
              </a:r>
              <a:r>
                <a:rPr b="0" lang="en-IE" sz="2700" spc="-1" strike="noStrike">
                  <a:solidFill>
                    <a:srgbClr val="000000"/>
                  </a:solidFill>
                  <a:latin typeface="Arial"/>
                </a:rPr>
                <a:t>uair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94578"/>
            <p:cNvSpPr/>
            <p:nvPr/>
          </p:nvSpPr>
          <p:spPr>
            <a:xfrm>
              <a:off x="3609000" y="1925280"/>
              <a:ext cx="3232440" cy="585000"/>
            </a:xfrm>
            <a:prstGeom prst="roundRect">
              <a:avLst>
                <a:gd name="adj" fmla="val 16667"/>
              </a:avLst>
            </a:prstGeom>
            <a:solidFill>
              <a:srgbClr val="cbff9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700" spc="-1" strike="noStrike">
                  <a:solidFill>
                    <a:srgbClr val="000000"/>
                  </a:solidFill>
                  <a:latin typeface="Arial"/>
                </a:rPr>
                <a:t>Croí-réimse </a:t>
              </a:r>
              <a:r>
                <a:rPr b="0" lang="en-GB" sz="2700" spc="-1" strike="noStrike">
                  <a:solidFill>
                    <a:srgbClr val="000000"/>
                  </a:solidFill>
                  <a:latin typeface="Arial"/>
                </a:rPr>
                <a:t>90 </a:t>
              </a:r>
              <a:r>
                <a:rPr b="0" lang="en-IE" sz="2700" spc="-1" strike="noStrike">
                  <a:solidFill>
                    <a:srgbClr val="000000"/>
                  </a:solidFill>
                  <a:latin typeface="Arial"/>
                </a:rPr>
                <a:t>uair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94579"/>
            <p:cNvSpPr/>
            <p:nvPr/>
          </p:nvSpPr>
          <p:spPr>
            <a:xfrm>
              <a:off x="3609000" y="2802960"/>
              <a:ext cx="3232440" cy="585000"/>
            </a:xfrm>
            <a:prstGeom prst="roundRect">
              <a:avLst>
                <a:gd name="adj" fmla="val 16667"/>
              </a:avLst>
            </a:prstGeom>
            <a:solidFill>
              <a:srgbClr val="cbff9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700" spc="-1" strike="noStrike">
                  <a:solidFill>
                    <a:srgbClr val="000000"/>
                  </a:solidFill>
                  <a:latin typeface="Arial"/>
                </a:rPr>
                <a:t>Rogha</a:t>
              </a:r>
              <a:r>
                <a:rPr b="0" lang="en-GB" sz="2700" spc="-1" strike="noStrike">
                  <a:solidFill>
                    <a:srgbClr val="000000"/>
                  </a:solidFill>
                  <a:latin typeface="Arial"/>
                </a:rPr>
                <a:t> 1 </a:t>
              </a:r>
              <a:r>
                <a:rPr b="0" lang="en-GB" sz="2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700" spc="-1" strike="noStrike">
                  <a:solidFill>
                    <a:srgbClr val="000000"/>
                  </a:solidFill>
                  <a:latin typeface="Arial"/>
                </a:rPr>
                <a:t>30 </a:t>
              </a:r>
              <a:r>
                <a:rPr b="0" lang="en-IE" sz="2700" spc="-1" strike="noStrike">
                  <a:solidFill>
                    <a:srgbClr val="000000"/>
                  </a:solidFill>
                  <a:latin typeface="Arial"/>
                </a:rPr>
                <a:t>uair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94580"/>
            <p:cNvSpPr/>
            <p:nvPr/>
          </p:nvSpPr>
          <p:spPr>
            <a:xfrm>
              <a:off x="3609000" y="4558320"/>
              <a:ext cx="3232440" cy="585000"/>
            </a:xfrm>
            <a:prstGeom prst="roundRect">
              <a:avLst>
                <a:gd name="adj" fmla="val 16667"/>
              </a:avLst>
            </a:prstGeom>
            <a:solidFill>
              <a:srgbClr val="cbff9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700" spc="-1" strike="noStrike">
                  <a:solidFill>
                    <a:srgbClr val="000000"/>
                  </a:solidFill>
                  <a:latin typeface="Arial"/>
                </a:rPr>
                <a:t>Tionscadal</a:t>
              </a:r>
              <a:r>
                <a:rPr b="0" lang="en-GB" sz="2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700" spc="-1" strike="noStrike">
                  <a:solidFill>
                    <a:srgbClr val="000000"/>
                  </a:solidFill>
                  <a:latin typeface="Arial"/>
                </a:rPr>
                <a:t>30 </a:t>
              </a:r>
              <a:r>
                <a:rPr b="0" lang="en-IE" sz="2700" spc="-1" strike="noStrike">
                  <a:solidFill>
                    <a:srgbClr val="000000"/>
                  </a:solidFill>
                  <a:latin typeface="Arial"/>
                </a:rPr>
                <a:t>uair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590"/>
            <p:cNvSpPr/>
            <p:nvPr/>
          </p:nvSpPr>
          <p:spPr>
            <a:xfrm>
              <a:off x="3609000" y="3680640"/>
              <a:ext cx="3232440" cy="585000"/>
            </a:xfrm>
            <a:prstGeom prst="roundRect">
              <a:avLst>
                <a:gd name="adj" fmla="val 16667"/>
              </a:avLst>
            </a:prstGeom>
            <a:solidFill>
              <a:srgbClr val="cbff9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700" spc="-1" strike="noStrike">
                  <a:solidFill>
                    <a:srgbClr val="000000"/>
                  </a:solidFill>
                  <a:latin typeface="Arial"/>
                </a:rPr>
                <a:t>Rogha</a:t>
              </a:r>
              <a:r>
                <a:rPr b="0" lang="en-GB" sz="2700" spc="-1" strike="noStrike">
                  <a:solidFill>
                    <a:srgbClr val="000000"/>
                  </a:solidFill>
                  <a:latin typeface="Arial"/>
                </a:rPr>
                <a:t> 2 </a:t>
              </a:r>
              <a:r>
                <a:rPr b="0" lang="en-GB" sz="2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700" spc="-1" strike="noStrike">
                  <a:solidFill>
                    <a:srgbClr val="000000"/>
                  </a:solidFill>
                  <a:latin typeface="Arial"/>
                </a:rPr>
                <a:t>30 </a:t>
              </a:r>
              <a:r>
                <a:rPr b="0" lang="en-IE" sz="2700" spc="-1" strike="noStrike">
                  <a:solidFill>
                    <a:srgbClr val="000000"/>
                  </a:solidFill>
                  <a:latin typeface="Arial"/>
                </a:rPr>
                <a:t>uair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Clár 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41120" y="1598760"/>
            <a:ext cx="8228520" cy="2991600"/>
            <a:chOff x="141120" y="1598760"/>
            <a:chExt cx="8228520" cy="2991600"/>
          </a:xfrm>
        </p:grpSpPr>
        <p:cxnSp>
          <p:nvCxnSpPr>
            <p:cNvPr id="108" name="_s199712"/>
            <p:cNvCxnSpPr>
              <a:stCxn id="109" idx="0"/>
              <a:endCxn id="110" idx="2"/>
            </p:cNvCxnSpPr>
            <p:nvPr/>
          </p:nvCxnSpPr>
          <p:spPr>
            <a:xfrm flipH="1" flipV="1" rot="5400000">
              <a:off x="2959920" y="2547720"/>
              <a:ext cx="374400" cy="2215440"/>
            </a:xfrm>
            <a:prstGeom prst="bentConnector3">
              <a:avLst>
                <a:gd name="adj1" fmla="val 33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99710"/>
            <p:cNvCxnSpPr>
              <a:stCxn id="112" idx="0"/>
              <a:endCxn id="110" idx="2"/>
            </p:cNvCxnSpPr>
            <p:nvPr/>
          </p:nvCxnSpPr>
          <p:spPr>
            <a:xfrm flipV="1" rot="16200000">
              <a:off x="5175360" y="2547000"/>
              <a:ext cx="374400" cy="2216160"/>
            </a:xfrm>
            <a:prstGeom prst="bentConnector3">
              <a:avLst>
                <a:gd name="adj1" fmla="val 33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99704"/>
            <p:cNvCxnSpPr>
              <a:stCxn id="110" idx="0"/>
              <a:endCxn id="114" idx="2"/>
            </p:cNvCxnSpPr>
            <p:nvPr/>
          </p:nvCxnSpPr>
          <p:spPr>
            <a:xfrm flipV="1">
              <a:off x="4254480" y="2346120"/>
              <a:ext cx="5400" cy="374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4" name="_s199699"/>
            <p:cNvSpPr/>
            <p:nvPr/>
          </p:nvSpPr>
          <p:spPr>
            <a:xfrm>
              <a:off x="2355840" y="1598760"/>
              <a:ext cx="3797640" cy="74772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Arial"/>
                </a:rPr>
                <a:t>180 </a:t>
              </a:r>
              <a:r>
                <a:rPr b="1" lang="en-IE" sz="1900" spc="-1" strike="noStrike">
                  <a:solidFill>
                    <a:srgbClr val="000000"/>
                  </a:solidFill>
                  <a:latin typeface="Arial"/>
                </a:rPr>
                <a:t>uai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99701"/>
            <p:cNvSpPr/>
            <p:nvPr/>
          </p:nvSpPr>
          <p:spPr>
            <a:xfrm>
              <a:off x="2355840" y="2720520"/>
              <a:ext cx="3797640" cy="74772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Arial"/>
                </a:rPr>
                <a:t>5 </a:t>
              </a:r>
              <a:r>
                <a:rPr b="1" lang="en-IE" sz="1900" spc="-1" strike="noStrike">
                  <a:solidFill>
                    <a:srgbClr val="000000"/>
                  </a:solidFill>
                  <a:latin typeface="Arial"/>
                </a:rPr>
                <a:t>rang sa tseachtai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99709"/>
            <p:cNvSpPr/>
            <p:nvPr/>
          </p:nvSpPr>
          <p:spPr>
            <a:xfrm>
              <a:off x="4572000" y="3842640"/>
              <a:ext cx="3797640" cy="74772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Arial"/>
                </a:rPr>
                <a:t>1 x </a:t>
              </a:r>
              <a:r>
                <a:rPr b="1" lang="en-IE" sz="1900" spc="-1" strike="noStrike">
                  <a:solidFill>
                    <a:srgbClr val="000000"/>
                  </a:solidFill>
                  <a:latin typeface="Arial"/>
                </a:rPr>
                <a:t>rang dúbalt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Arial"/>
                </a:rPr>
                <a:t>3 x </a:t>
              </a:r>
              <a:r>
                <a:rPr b="1" lang="en-IE" sz="1900" spc="-1" strike="noStrike">
                  <a:solidFill>
                    <a:srgbClr val="000000"/>
                  </a:solidFill>
                  <a:latin typeface="Arial"/>
                </a:rPr>
                <a:t>rang singil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99711"/>
            <p:cNvSpPr/>
            <p:nvPr/>
          </p:nvSpPr>
          <p:spPr>
            <a:xfrm>
              <a:off x="141120" y="3842640"/>
              <a:ext cx="3797640" cy="74772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Arial"/>
                </a:rPr>
                <a:t>2 x </a:t>
              </a:r>
              <a:r>
                <a:rPr b="1" lang="en-IE" sz="1900" spc="-1" strike="noStrike">
                  <a:solidFill>
                    <a:srgbClr val="000000"/>
                  </a:solidFill>
                  <a:latin typeface="Arial"/>
                </a:rPr>
                <a:t>rang dúbalt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Arial"/>
                </a:rPr>
                <a:t>1 x </a:t>
              </a:r>
              <a:r>
                <a:rPr b="1" lang="en-IE" sz="1900" spc="-1" strike="noStrike">
                  <a:solidFill>
                    <a:srgbClr val="000000"/>
                  </a:solidFill>
                  <a:latin typeface="Arial"/>
                </a:rPr>
                <a:t>rang singil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944880" y="39146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n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9600" y="961920"/>
            <a:ext cx="8258040" cy="5462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276720" y="1052640"/>
            <a:ext cx="2527200" cy="1346040"/>
            <a:chOff x="3276720" y="1052640"/>
            <a:chExt cx="2527200" cy="1346040"/>
          </a:xfrm>
        </p:grpSpPr>
        <p:sp>
          <p:nvSpPr>
            <p:cNvPr id="118" name=""/>
            <p:cNvSpPr/>
            <p:nvPr/>
          </p:nvSpPr>
          <p:spPr>
            <a:xfrm>
              <a:off x="3276720" y="1052640"/>
              <a:ext cx="2527200" cy="1346040"/>
            </a:xfrm>
            <a:prstGeom prst="ellipse">
              <a:avLst/>
            </a:prstGeom>
            <a:solidFill>
              <a:srgbClr val="e6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22840" y="1328760"/>
              <a:ext cx="139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000000"/>
                  </a:solidFill>
                  <a:latin typeface="Arial"/>
                </a:rPr>
                <a:t>Próiseas Dearaid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489640" y="1925640"/>
            <a:ext cx="2527200" cy="1346040"/>
          </a:xfrm>
          <a:prstGeom prst="ellipse">
            <a:avLst/>
          </a:prstGeom>
          <a:solidFill>
            <a:srgbClr val="fff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18320" y="2054160"/>
            <a:ext cx="233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inistiú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onscadail ag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áilíoch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805360" y="3365640"/>
            <a:ext cx="2527200" cy="1346040"/>
            <a:chOff x="5805360" y="3365640"/>
            <a:chExt cx="2527200" cy="1346040"/>
          </a:xfrm>
        </p:grpSpPr>
        <p:sp>
          <p:nvSpPr>
            <p:cNvPr id="123" name=""/>
            <p:cNvSpPr/>
            <p:nvPr/>
          </p:nvSpPr>
          <p:spPr>
            <a:xfrm>
              <a:off x="5805360" y="3365640"/>
              <a:ext cx="2527200" cy="1346040"/>
            </a:xfrm>
            <a:prstGeom prst="ellipse">
              <a:avLst/>
            </a:prstGeom>
            <a:solidFill>
              <a:srgbClr val="e6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45000" y="3664080"/>
              <a:ext cx="17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000000"/>
                  </a:solidFill>
                  <a:latin typeface="Arial"/>
                </a:rPr>
                <a:t>Ábhar &amp; Táirgead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356000" y="4559400"/>
            <a:ext cx="2629080" cy="1346040"/>
          </a:xfrm>
          <a:prstGeom prst="ellipse">
            <a:avLst/>
          </a:prstGeom>
          <a:solidFill>
            <a:srgbClr val="e6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00720" y="4869000"/>
            <a:ext cx="255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áin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rsáide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rafa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16120" y="4559400"/>
            <a:ext cx="2527200" cy="1346040"/>
          </a:xfrm>
          <a:prstGeom prst="ellipse">
            <a:avLst/>
          </a:prstGeom>
          <a:solidFill>
            <a:srgbClr val="e6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87560" y="4711680"/>
            <a:ext cx="2255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icneolaíocht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isnéise agus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marsá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95280" y="3284640"/>
            <a:ext cx="2527200" cy="1346040"/>
            <a:chOff x="395280" y="3284640"/>
            <a:chExt cx="2527200" cy="1346040"/>
          </a:xfrm>
        </p:grpSpPr>
        <p:sp>
          <p:nvSpPr>
            <p:cNvPr id="130" name=""/>
            <p:cNvSpPr/>
            <p:nvPr/>
          </p:nvSpPr>
          <p:spPr>
            <a:xfrm>
              <a:off x="395280" y="3284640"/>
              <a:ext cx="2527200" cy="1346040"/>
            </a:xfrm>
            <a:prstGeom prst="ellipse">
              <a:avLst/>
            </a:prstGeom>
            <a:solidFill>
              <a:srgbClr val="e6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9640" y="3568320"/>
              <a:ext cx="177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</a:t>
              </a:r>
              <a:r>
                <a:rPr b="0" lang="en-IE" sz="2000" spc="-1" strike="noStrike">
                  <a:solidFill>
                    <a:srgbClr val="000000"/>
                  </a:solidFill>
                  <a:latin typeface="Arial"/>
                </a:rPr>
                <a:t>htúir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&amp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</a:t>
              </a:r>
              <a:r>
                <a:rPr b="0" lang="en-IE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n</a:t>
              </a:r>
              <a:r>
                <a:rPr b="0" lang="en-IE" sz="2000" spc="-1" strike="noStrike">
                  <a:solidFill>
                    <a:srgbClr val="000000"/>
                  </a:solidFill>
                  <a:latin typeface="Arial"/>
                </a:rPr>
                <a:t>íochta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042920" y="1844640"/>
            <a:ext cx="2850840" cy="1346040"/>
            <a:chOff x="1042920" y="1844640"/>
            <a:chExt cx="2850840" cy="1346040"/>
          </a:xfrm>
        </p:grpSpPr>
        <p:sp>
          <p:nvSpPr>
            <p:cNvPr id="133" name=""/>
            <p:cNvSpPr/>
            <p:nvPr/>
          </p:nvSpPr>
          <p:spPr>
            <a:xfrm>
              <a:off x="1042920" y="1844640"/>
              <a:ext cx="2527200" cy="1346040"/>
            </a:xfrm>
            <a:prstGeom prst="ellipse">
              <a:avLst/>
            </a:prstGeom>
            <a:solidFill>
              <a:srgbClr val="e6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76200" y="1992240"/>
              <a:ext cx="2617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000000"/>
                  </a:solidFill>
                  <a:latin typeface="Arial"/>
                </a:rPr>
                <a:t>Fuinneamh, Leictreachas &amp; Leictreona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625920" y="2971800"/>
            <a:ext cx="1863720" cy="11556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5440" y="3284640"/>
            <a:ext cx="21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roí-réim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98720" y="247680"/>
            <a:ext cx="57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Ábhar an Chroí-réim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210360" y="1163520"/>
            <a:ext cx="1817640" cy="997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e6f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19720" y="1163520"/>
            <a:ext cx="17589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órais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alaithe Fheidhmea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10360" y="4470480"/>
            <a:ext cx="1768320" cy="726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e6f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88120" y="4559400"/>
            <a:ext cx="1795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icneolaíocht Ábh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19720" y="5522760"/>
            <a:ext cx="1808280" cy="64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e6f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219720" y="5522760"/>
            <a:ext cx="186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órais Déantúsaíoch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10360" y="2422440"/>
            <a:ext cx="1665360" cy="647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e6f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69040" y="242244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ictreonaic agus Rial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90520" y="820800"/>
            <a:ext cx="8229600" cy="62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21440" y="3344760"/>
            <a:ext cx="2398680" cy="936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e6f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69040" y="3354480"/>
            <a:ext cx="225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icneolaíocht na Faisnéise agus na Cumarsá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/>
          <p:nvPr/>
        </p:nvCxnSpPr>
        <p:spPr>
          <a:xfrm flipV="1">
            <a:off x="5035680" y="1828080"/>
            <a:ext cx="1234080" cy="1981800"/>
          </a:xfrm>
          <a:prstGeom prst="bentConnector3">
            <a:avLst>
              <a:gd name="adj1" fmla="val 4992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800280" y="24768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Ábhair Roghna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106880" y="380988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52520" y="3017880"/>
            <a:ext cx="2754360" cy="15382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52520" y="3214800"/>
            <a:ext cx="275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oghnaigh Pé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51640" y="2832120"/>
            <a:ext cx="55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51640" y="3809880"/>
            <a:ext cx="0" cy="2032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5842080"/>
            <a:ext cx="55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51640" y="4844880"/>
            <a:ext cx="55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51640" y="3809880"/>
            <a:ext cx="469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489040" y="1697040"/>
            <a:ext cx="4581720" cy="581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5040" y="1697040"/>
            <a:ext cx="4175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ictreonaic agus Rial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2920" y="2987640"/>
            <a:ext cx="4587840" cy="2989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5040" y="3191040"/>
            <a:ext cx="4175280" cy="246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 u="sng">
                <a:solidFill>
                  <a:srgbClr val="000000"/>
                </a:solidFill>
                <a:uFillTx/>
                <a:latin typeface="Arial"/>
              </a:rPr>
              <a:t>Topaicí Is Mó Tábh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láir phriontáílte ciorc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iorcaid Loigh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Áiritheoir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79760" y="2278080"/>
            <a:ext cx="363600" cy="770040"/>
          </a:xfrm>
          <a:prstGeom prst="downArrow">
            <a:avLst>
              <a:gd name="adj1" fmla="val 50000"/>
              <a:gd name="adj2" fmla="val 5294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95320" y="228600"/>
            <a:ext cx="44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Modúil Roghna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47840" y="3036960"/>
            <a:ext cx="4656240" cy="32716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98760" y="3314880"/>
            <a:ext cx="4076640" cy="289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 u="sng">
                <a:solidFill>
                  <a:srgbClr val="000000"/>
                </a:solidFill>
                <a:uFillTx/>
                <a:latin typeface="Arial"/>
              </a:rPr>
              <a:t>Topaicí Is Mó Tábh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óbata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léasanna In-ríomhchlárai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eomata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92360" y="1698480"/>
            <a:ext cx="5492520" cy="581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1739880"/>
            <a:ext cx="5356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órais Rialaithe Fheidhmea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79760" y="2306520"/>
            <a:ext cx="363600" cy="770040"/>
          </a:xfrm>
          <a:prstGeom prst="downArrow">
            <a:avLst>
              <a:gd name="adj1" fmla="val 50000"/>
              <a:gd name="adj2" fmla="val 5294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57160" y="266760"/>
            <a:ext cx="46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Modúil Roghna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69840" y="1698480"/>
            <a:ext cx="7228080" cy="581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73480" y="3036960"/>
            <a:ext cx="4397040" cy="2989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42920" y="1730520"/>
            <a:ext cx="7135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eicneolaíocht Faisnéise &amp; Cumarsáí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79760" y="2306520"/>
            <a:ext cx="363600" cy="770040"/>
          </a:xfrm>
          <a:prstGeom prst="downArrow">
            <a:avLst>
              <a:gd name="adj1" fmla="val 50000"/>
              <a:gd name="adj2" fmla="val 5294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76400" y="3429000"/>
            <a:ext cx="4148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 u="sng">
                <a:solidFill>
                  <a:srgbClr val="000000"/>
                </a:solidFill>
                <a:uFillTx/>
                <a:latin typeface="Arial"/>
              </a:rPr>
              <a:t>Topaicí Is Mó Tábh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íomhailtire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íonraí Ríomh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lmheáin &amp; Dear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63720" y="304920"/>
            <a:ext cx="492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Modúil Roghna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076480" y="1698480"/>
            <a:ext cx="4654440" cy="581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73480" y="3036960"/>
            <a:ext cx="4397040" cy="2989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09680" y="1730520"/>
            <a:ext cx="4397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órais Déantúsaíoch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83000" y="3218040"/>
            <a:ext cx="39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 u="sng">
                <a:solidFill>
                  <a:srgbClr val="000000"/>
                </a:solidFill>
                <a:uFillTx/>
                <a:latin typeface="Arial"/>
              </a:rPr>
              <a:t>Topaicí Is Mó Tábh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3908520"/>
            <a:ext cx="40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ainistiú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. &amp; Q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84360" y="4427640"/>
            <a:ext cx="412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nnealtóireacht                   Chomhreath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79760" y="2306520"/>
            <a:ext cx="363600" cy="770040"/>
          </a:xfrm>
          <a:prstGeom prst="downArrow">
            <a:avLst>
              <a:gd name="adj1" fmla="val 50000"/>
              <a:gd name="adj2" fmla="val 5294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27200" y="5322960"/>
            <a:ext cx="40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órais Déantúsaíoch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63720" y="257040"/>
            <a:ext cx="490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Modúil Roghna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408400" y="1698480"/>
            <a:ext cx="4322520" cy="581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73480" y="3036960"/>
            <a:ext cx="4397040" cy="2989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63720" y="173052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eicneolaíocht Ábh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56000" y="3284640"/>
            <a:ext cx="396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 u="sng">
                <a:solidFill>
                  <a:srgbClr val="000000"/>
                </a:solidFill>
                <a:uFillTx/>
                <a:latin typeface="Arial"/>
              </a:rPr>
              <a:t>Topaicí Is Mó Tábh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iríonna Ábh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aothrú Scilea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earbhú Cáilíoch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79760" y="2306520"/>
            <a:ext cx="363600" cy="770040"/>
          </a:xfrm>
          <a:prstGeom prst="downArrow">
            <a:avLst>
              <a:gd name="adj1" fmla="val 50000"/>
              <a:gd name="adj2" fmla="val 5294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63720" y="257040"/>
            <a:ext cx="52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Modúil Roghna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600880" y="3130560"/>
            <a:ext cx="2466720" cy="541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00880" y="3130560"/>
            <a:ext cx="2205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ant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9880" y="2365200"/>
            <a:ext cx="3708720" cy="654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6400" y="2444760"/>
            <a:ext cx="35085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imre Dearai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02320" y="1743120"/>
            <a:ext cx="1770120" cy="479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00880" y="170352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a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99880" y="8082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200" idx="3"/>
            <a:endCxn id="202" idx="1"/>
          </p:cNvCxnSpPr>
          <p:nvPr/>
        </p:nvCxnSpPr>
        <p:spPr>
          <a:xfrm flipV="1">
            <a:off x="4044960" y="1963080"/>
            <a:ext cx="1556640" cy="74196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200" idx="3"/>
            <a:endCxn id="198" idx="1"/>
          </p:cNvCxnSpPr>
          <p:nvPr/>
        </p:nvCxnSpPr>
        <p:spPr>
          <a:xfrm>
            <a:off x="4044960" y="2704680"/>
            <a:ext cx="1556640" cy="68652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355680" y="4124160"/>
            <a:ext cx="8432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ionscnamh bunaithe ar an gCroí-réimse agus ar na roghanna to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éama sainiúil laistigh de pharaméadair rá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00000" y="189000"/>
            <a:ext cx="6067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Tionscnamh an Mhic Léi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3640" y="836640"/>
            <a:ext cx="763884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éasúnaío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orbairt an tSiollab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idhmeanna &amp; Cuspóir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ruchtúr an tSiollab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easún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Ábh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nailís Riachta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5960" y="349200"/>
            <a:ext cx="474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5320" y="-22320"/>
            <a:ext cx="526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12880" y="276120"/>
            <a:ext cx="65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Struchtúr an Léiri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219240" y="1220760"/>
          <a:ext cx="7743600" cy="2664000"/>
        </p:xfrm>
        <a:graphic>
          <a:graphicData uri="http://schemas.openxmlformats.org/drawingml/2006/table">
            <a:tbl>
              <a:tblPr/>
              <a:tblGrid>
                <a:gridCol w="2557440"/>
                <a:gridCol w="2455560"/>
                <a:gridCol w="2730600"/>
              </a:tblGrid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áthleibhé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dleibhé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áipéar Deirid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f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 (2 </a:t>
                      </a: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air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f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 (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½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air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f9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onscnamh an Mhic Léi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7d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04920" y="824040"/>
            <a:ext cx="353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0000" y="1890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Measún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640" y="4629240"/>
            <a:ext cx="6762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7640" y="4629240"/>
            <a:ext cx="714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979800"/>
            <a:ext cx="7797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Páipéar Deiri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oin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: 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n Croí-réim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Ceithre cheist tugtha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ceist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1 </a:t>
            </a:r>
            <a:r>
              <a:rPr b="0" lang="en-IE" sz="1800" spc="-1" strike="noStrike" u="sng">
                <a:solidFill>
                  <a:srgbClr val="ff0000"/>
                </a:solidFill>
                <a:uFillTx/>
                <a:latin typeface="Arial"/>
              </a:rPr>
              <a:t>éigeantach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móide ceann amháín eile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oin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: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a Rogha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Dhá cheist tugtha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ar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gach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rogha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freagair ceist amháin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as gach rogha tofa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0000"/>
                </a:solidFill>
                <a:latin typeface="Arial"/>
              </a:rPr>
              <a:t>Níl ach rúin sa téacs dearg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Idirdhealú idir Léibhé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1314360"/>
            <a:ext cx="369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57200" y="1681200"/>
          <a:ext cx="7639200" cy="4560840"/>
        </p:xfrm>
        <a:graphic>
          <a:graphicData uri="http://schemas.openxmlformats.org/drawingml/2006/table">
            <a:tbl>
              <a:tblPr/>
              <a:tblGrid>
                <a:gridCol w="1981080"/>
                <a:gridCol w="2533680"/>
                <a:gridCol w="3124440"/>
              </a:tblGrid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á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4b4b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é chomh doimhin san ábh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bhreathnú ar Theicneolaíocht &amp; Feidhmchláí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ilís níos géire ag teastáíl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12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cilean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ímse leathan ag teastáí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imse leathan ach go leibhéal níos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í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4b4b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Ábh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tÁbhar atá leagtha amach amhá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íne faoi ábhar bre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4b4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3800" y="274680"/>
            <a:ext cx="7554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ur Chuige Samplach sa Rangsheom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63680" y="1654200"/>
          <a:ext cx="7742160" cy="4330800"/>
        </p:xfrm>
        <a:graphic>
          <a:graphicData uri="http://schemas.openxmlformats.org/drawingml/2006/table">
            <a:tbl>
              <a:tblPr/>
              <a:tblGrid>
                <a:gridCol w="1936080"/>
                <a:gridCol w="1934640"/>
                <a:gridCol w="1936440"/>
                <a:gridCol w="1935000"/>
              </a:tblGrid>
              <a:tr h="10670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1" lang="en-I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háirt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1" lang="en-I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háirt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hphái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c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ictreona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bairt scilean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bdd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bha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a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De</a:t>
                      </a: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d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bdd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. F.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ar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bdd9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c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cníochta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incheapa nu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anamh Samhaltá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amhshamhla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&amp; Q 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19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c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inneamh Inathnua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icneolaíocht &amp; Socha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bhair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</a:t>
                      </a: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níochta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4000" y="90792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4360" y="98100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211400" y="1760400"/>
          <a:ext cx="6719760" cy="4168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1400" y="1760400"/>
                    <a:ext cx="671976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468360" y="8510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3%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áta Aisch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266760"/>
            <a:ext cx="413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Torthaí an tSuirbh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80880" y="1839960"/>
          <a:ext cx="7658280" cy="4564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839960"/>
                    <a:ext cx="7658280" cy="45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1371600" y="1052640"/>
            <a:ext cx="20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Inniúl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247680"/>
            <a:ext cx="470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Torthaí an tSuirbh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577800" y="1123920"/>
          <a:ext cx="7256520" cy="5473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800" y="1123920"/>
                    <a:ext cx="725652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1295280" y="895320"/>
            <a:ext cx="23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Tosaithe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289080"/>
            <a:ext cx="39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Torthaí an tSuirbh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6843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Forbairtí Ar Siúl i gCóna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Ábhar Scrúdai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Forbairt Ghairmiú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iachtanais Sláinte &amp; Sábháilteach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reoirlínte do Mhúinteoir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cmhain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Úsáid Airgead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íomhpho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technology@t4.i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798560" y="1924200"/>
            <a:ext cx="5515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33480" y="228600"/>
            <a:ext cx="53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Ceiste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4640" y="274680"/>
            <a:ext cx="7363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Athruithe sa Saol sa lá atá inniu 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5000" y="1131840"/>
            <a:ext cx="1673280" cy="1654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66680" y="306720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/ Ar lí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24480" y="4341960"/>
            <a:ext cx="1028880" cy="1180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" y="3747960"/>
            <a:ext cx="1714680" cy="1567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5133960" y="1241280"/>
            <a:ext cx="2085840" cy="1316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2992320" y="3316320"/>
            <a:ext cx="2141640" cy="1616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66680" y="558180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Text / Té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92320" y="4932360"/>
            <a:ext cx="22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rf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/ Scimeá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95960" y="2700360"/>
            <a:ext cx="373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lay St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/ Spraoi-stáísiú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81560" y="5764320"/>
            <a:ext cx="28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ireles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/ Gan Sre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14280" y="836280"/>
            <a:ext cx="822960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n tionchar ag Forbairtí Teicneolaíochta ó lá go l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cileanna a chothú don fhoghlaim feadh sa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oghlaimeoirí cruthaíocha neamhspléa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eanúnachas nádúrtha ón Teastas Sóisear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4080" y="246240"/>
            <a:ext cx="48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Réasúnaío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93400" y="836640"/>
            <a:ext cx="843588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8 Dréacht Siollabas Réi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0 Dréacht Siollabas Leasai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5 Fógra faoi Chur i gCr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 Tosú ar Fhorbairt Ghairmiú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 An Siollabas Curtha i gCr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Scrúdú don Chéad U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246240"/>
            <a:ext cx="58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Forbairt an tSiollab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2200" y="82044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acht teicneolaíochta an mhic léinn a uasmhéad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leanna a shaothrú chun cruthaíocht a léiri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cileanna réiteach fadhbanna a shaothr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an breithmheas grinn ar theicneolaíochta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ionchur na Teicneolaíochta a thuisc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12880" y="246240"/>
            <a:ext cx="375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Ai</a:t>
            </a: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dhme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85840" y="836280"/>
            <a:ext cx="81057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6600"/>
                </a:solidFill>
                <a:latin typeface="Arial"/>
              </a:rPr>
              <a:t>Ba cheart go mbeadh mac léinn in ann..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nphrionsabail, fíricí agus téarmaíocht na teicneolaíochta a thuisc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snéis teicneolaíochta a phróiseáil agus a chur in iú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éiteach dearaidh a phleanáil agus a chur i gcr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antán nó córas a bhreithmheas go gri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bheith inniúil ar ábhair a phróiseá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loí le riachtanais sláinte agus sábháilte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70040" y="290520"/>
            <a:ext cx="24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Cuspóir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91960" y="1058400"/>
            <a:ext cx="8229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92040" y="1614600"/>
          <a:ext cx="3527640" cy="3009960"/>
        </p:xfrm>
        <a:graphic>
          <a:graphicData uri="http://schemas.openxmlformats.org/drawingml/2006/table">
            <a:tbl>
              <a:tblPr/>
              <a:tblGrid>
                <a:gridCol w="352764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</a:t>
                      </a: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f9f"/>
                    </a:solidFill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áimhseáíl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p</a:t>
                      </a: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</a:t>
                      </a: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 cheart go bhfoghlaimeodh an mac léinn fao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7d"/>
                    </a:solidFill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rthaí na Foghl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 cheart go mbeadh an mac léinn in ann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4572000" y="213372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95640" y="194472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97440" y="2773440"/>
            <a:ext cx="57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040" y="386712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3440" y="17161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éimse ábhair faoi chaibid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60920" y="24145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ur síos ar an ábha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us gníomhaíochta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60920" y="3519360"/>
            <a:ext cx="401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theaspáínt cad ba cheart a bheith ar chumas na mac léi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9680" y="5486400"/>
            <a:ext cx="6184800" cy="459720"/>
          </a:xfrm>
          <a:prstGeom prst="rect">
            <a:avLst/>
          </a:prstGeom>
          <a:noFill/>
          <a:ln w="9360">
            <a:solidFill>
              <a:srgbClr val="ffff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"/>
              </a:rPr>
              <a:t>Líne faoi ábhar an árdleibhéil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8480" y="217440"/>
            <a:ext cx="73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Leagan Amach Ábhar an tSiollab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79" name=""/>
          <p:cNvSpPr/>
          <p:nvPr/>
        </p:nvSpPr>
        <p:spPr>
          <a:xfrm>
            <a:off x="971640" y="1486080"/>
            <a:ext cx="7219800" cy="4095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33600" y="2900520"/>
            <a:ext cx="2746440" cy="1191960"/>
          </a:xfrm>
          <a:prstGeom prst="roundRect">
            <a:avLst>
              <a:gd name="adj" fmla="val 16667"/>
            </a:avLst>
          </a:prstGeom>
          <a:solidFill>
            <a:srgbClr val="ffff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6786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Strúctúr an tSiollab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43240" y="1868400"/>
            <a:ext cx="2104920" cy="9320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19400" y="2106720"/>
            <a:ext cx="22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roí-réím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4240" y="4121280"/>
            <a:ext cx="1619280" cy="9144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0000" y="4365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ogh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86440" y="1868400"/>
            <a:ext cx="1865160" cy="9320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86440" y="1868400"/>
            <a:ext cx="1865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ionscnam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3240" y="4121280"/>
            <a:ext cx="1619280" cy="9144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4311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ogh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22400" y="2871720"/>
            <a:ext cx="3722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Deara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Sláinte &amp; Sábháílte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Teicneolaíocht &amp; Socha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130720" y="2612880"/>
            <a:ext cx="225720" cy="275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3899160" y="2616480"/>
            <a:ext cx="267840" cy="27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886560" y="4092120"/>
            <a:ext cx="189000" cy="300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26840" y="4091400"/>
            <a:ext cx="254160" cy="248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0:11:05Z</dcterms:created>
  <dc:creator>Elizabeth Davis</dc:creator>
  <dc:description/>
  <dc:language>en-US</dc:language>
  <cp:lastModifiedBy>Noel O'Neill</cp:lastModifiedBy>
  <dcterms:modified xsi:type="dcterms:W3CDTF">2006-10-18T14:44:49Z</dcterms:modified>
  <cp:revision>222</cp:revision>
  <dc:subject/>
  <dc:title>Slide 1</dc:title>
</cp:coreProperties>
</file>