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4860-2F72-4DB3-8B8E-373DBC0D00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8296-FE04-4010-9EB1-E64214EB12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5C1D-9C8F-4EFA-9C0E-69A48A3B2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57E4-60AB-44CB-87C2-773D9CE5F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DB1-197E-4062-A347-35E6F5395A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4965-171E-45E0-A7C4-3C0771034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0D33-34A3-46CB-9D13-EA3F40A2A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13DF-919B-4FB4-B1B2-72A6E5CF2E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A8FA-7CC3-4374-8ED0-2DB78C7C2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3506-52BA-45E1-92DD-792474B4F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EC9-C9D5-4166-9F2E-16975B36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F47-BC8D-4041-81CE-560A05D9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AB6-2A3C-4C2A-82BC-E22F3A48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086-4E8C-459D-A9AD-F49590F1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3EFA-3147-4397-B994-C20BFB24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4088-1F28-4C53-9020-1500132E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0452-C448-438F-A66A-FF848745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71E0-81AB-40B1-84B5-8A1FA41F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842F-F80D-4CA2-8BFB-B746B162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3B13-DB35-4E57-9F6B-BF480465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C403-88AA-400D-9159-AFD44D87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142-FA6E-4809-B19D-DDEFFCEF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FDE0-3CB0-4DEA-A264-3FFAC10E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6B6C-83B8-4BC5-A618-8670A2D6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E9C1-824C-4519-898E-1B0F12CC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8624-44F7-421D-B4FF-7789EE44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785D-D39F-4D8B-97FD-407AB163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595F-5A58-40BF-AE7A-CABBD00B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208C-56ED-45DE-83C2-8DB1C064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DF856-E064-44DF-85A2-7F9EA3F6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2234-41CD-414D-81D3-E69398F7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F044D-2A39-4F78-A938-5B463CE0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F3A-1186-455C-AD3A-6167F08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99F79-405B-468E-94FD-D1188514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42BF-35EB-4B26-8622-C16E2634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25E4-497D-4ABA-81F7-2445B544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74C6-3FB4-484D-AAD1-75092D69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95C8-AD5D-4722-9568-84D034D5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2A63-8A35-4355-B107-1B00A8A9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551C-325B-4309-9CA6-762973B5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321-9D4B-4534-AA9C-E0181AC4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638-84B2-47ED-85C4-4E557D8A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B28-CBFE-44B4-821C-2958828B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68D-5398-4DC6-AEEA-D8CBCB5C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50C-2792-477B-8CC6-7F471809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557B-B3DF-45F4-A3EE-CAAFC86A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920" y="6402240"/>
            <a:ext cx="1441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2F45-C289-4105-BC55-DD47C3D0B8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79280" y="6400800"/>
            <a:ext cx="504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80360" y="6402240"/>
            <a:ext cx="1341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6D16-A479-4FCD-AA56-459F08E78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3A39-4A5A-45B4-8931-1A69F8F183C3}" type="datetime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61DD-5D19-4988-8F65-FB06F4413E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567A-49C7-4669-B6C9-9DB98D6DFC55}" type="datetime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9201-CF27-4866-819C-54D41ED6FF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ie/imgres?imgurl=http://en.onsoftware.com/wp-content/uploads/2007/08/gimp-logo-blog-1.png&amp;imgrefurl=http://en.onsoftware.com/5-free-alternatives-to-adobe-products/&amp;h=164&amp;w=200&amp;sz=22&amp;hl=en&amp;start=2&amp;tbnid=sTTPupd1kjh6wM:&amp;tbnh=85&amp;tbnw=104&amp;prev=/images?q=gimp+logo&amp;gbv=2&amp;hl=en&amp;sa=G" TargetMode="External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6560" y="1197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6920" y="3213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loring I.C.T.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he Sylla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7301"/>
                </a:moveTo>
                <a:lnTo>
                  <a:pt x="11383" y="7301"/>
                </a:lnTo>
                <a:lnTo>
                  <a:pt x="11766" y="7667"/>
                </a:lnTo>
                <a:lnTo>
                  <a:pt x="20975" y="7667"/>
                </a:lnTo>
                <a:lnTo>
                  <a:pt x="21532" y="8224"/>
                </a:lnTo>
                <a:lnTo>
                  <a:pt x="21532" y="8772"/>
                </a:lnTo>
                <a:lnTo>
                  <a:pt x="23377" y="8772"/>
                </a:lnTo>
                <a:lnTo>
                  <a:pt x="23742" y="8224"/>
                </a:lnTo>
                <a:lnTo>
                  <a:pt x="24482" y="8224"/>
                </a:lnTo>
                <a:lnTo>
                  <a:pt x="24482" y="13376"/>
                </a:lnTo>
                <a:lnTo>
                  <a:pt x="23742" y="13376"/>
                </a:lnTo>
                <a:lnTo>
                  <a:pt x="23377" y="12828"/>
                </a:lnTo>
                <a:lnTo>
                  <a:pt x="21532" y="12828"/>
                </a:lnTo>
                <a:lnTo>
                  <a:pt x="21532" y="14107"/>
                </a:lnTo>
                <a:lnTo>
                  <a:pt x="11949" y="14107"/>
                </a:lnTo>
                <a:lnTo>
                  <a:pt x="11949" y="9877"/>
                </a:lnTo>
                <a:lnTo>
                  <a:pt x="11766" y="9877"/>
                </a:lnTo>
                <a:lnTo>
                  <a:pt x="11383" y="10243"/>
                </a:lnTo>
                <a:lnTo>
                  <a:pt x="10469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84360" y="1773360"/>
            <a:ext cx="7358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Introduction to Computer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put, output and storag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mory, Clock Speed, Storag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ore2-Extreme-Quadx500"/>
          <p:cNvPicPr/>
          <p:nvPr/>
        </p:nvPicPr>
        <p:blipFill>
          <a:blip r:embed="rId2"/>
          <a:srcRect l="5427" t="4230" r="9540" b="4883"/>
          <a:stretch/>
        </p:blipFill>
        <p:spPr>
          <a:xfrm>
            <a:off x="1643040" y="4786200"/>
            <a:ext cx="1714680" cy="156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vista-box"/>
          <p:cNvPicPr/>
          <p:nvPr/>
        </p:nvPicPr>
        <p:blipFill>
          <a:blip r:embed="rId3"/>
          <a:srcRect l="16738" t="3799" r="20088" b="1014"/>
          <a:stretch/>
        </p:blipFill>
        <p:spPr>
          <a:xfrm>
            <a:off x="3857760" y="464328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MK8034GSX"/>
          <p:cNvPicPr/>
          <p:nvPr/>
        </p:nvPicPr>
        <p:blipFill>
          <a:blip r:embed="rId4"/>
          <a:srcRect l="0" t="12673" r="0" b="7949"/>
          <a:stretch/>
        </p:blipFill>
        <p:spPr>
          <a:xfrm>
            <a:off x="5572080" y="4714920"/>
            <a:ext cx="1928880" cy="153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/>
          <p:cNvSpPr/>
          <p:nvPr/>
        </p:nvSpPr>
        <p:spPr>
          <a:xfrm>
            <a:off x="539640" y="191628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aunch Programs, Exit Program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naging Files and Folders  -  Create, Move, Sav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ata Security  -  Virus Protection, Backu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http://www.guidebookgallery.org/pics/gui/desktop/empty/winxppro.png"/>
          <p:cNvPicPr/>
          <p:nvPr/>
        </p:nvPicPr>
        <p:blipFill>
          <a:blip r:embed="rId2"/>
          <a:stretch/>
        </p:blipFill>
        <p:spPr>
          <a:xfrm>
            <a:off x="1258920" y="407664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http://www.bcschools.net/staff/images/WindowsExplorer.jpg"/>
          <p:cNvPicPr/>
          <p:nvPr/>
        </p:nvPicPr>
        <p:blipFill>
          <a:blip r:embed="rId3"/>
          <a:stretch/>
        </p:blipFill>
        <p:spPr>
          <a:xfrm>
            <a:off x="4427640" y="4149720"/>
            <a:ext cx="2855880" cy="1785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360" y="1557360"/>
            <a:ext cx="40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808080"/>
                </a:solidFill>
                <a:latin typeface="Arial"/>
              </a:rPr>
              <a:t>Introduction to Computer Sys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5"/>
          <p:cNvSpPr/>
          <p:nvPr/>
        </p:nvSpPr>
        <p:spPr>
          <a:xfrm>
            <a:off x="642960" y="1643040"/>
            <a:ext cx="785808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pplications and Softw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search and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ut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ord-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sk Top Pub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ff"/>
                </a:solidFill>
                <a:latin typeface="Arial"/>
              </a:rPr>
              <a:t>Computer Graphics </a:t>
            </a:r>
            <a:r>
              <a:rPr b="0" lang="en-IE" sz="1400" spc="-1" strike="noStrike">
                <a:solidFill>
                  <a:srgbClr val="0000ff"/>
                </a:solidFill>
                <a:latin typeface="Arial"/>
              </a:rPr>
              <a:t>(Communications &amp; Graphic Med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blogs.dotnethell.it/filestore/4763_ie7bellissimo.jpg"/>
          <p:cNvPicPr/>
          <p:nvPr/>
        </p:nvPicPr>
        <p:blipFill>
          <a:blip r:embed="rId2"/>
          <a:stretch/>
        </p:blipFill>
        <p:spPr>
          <a:xfrm>
            <a:off x="6300720" y="1628640"/>
            <a:ext cx="1349280" cy="134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www.productwiki.com/upload/images/ms_outlook_express_logo-150-150.jpg"/>
          <p:cNvPicPr/>
          <p:nvPr/>
        </p:nvPicPr>
        <p:blipFill>
          <a:blip r:embed="rId3"/>
          <a:stretch/>
        </p:blipFill>
        <p:spPr>
          <a:xfrm>
            <a:off x="6443640" y="3141720"/>
            <a:ext cx="1135080" cy="1135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ttp://bagdady.org/up/uploads/fe7b7789d0.jpg"/>
          <p:cNvPicPr/>
          <p:nvPr/>
        </p:nvPicPr>
        <p:blipFill>
          <a:blip r:embed="rId4"/>
          <a:stretch/>
        </p:blipFill>
        <p:spPr>
          <a:xfrm>
            <a:off x="6012000" y="4365720"/>
            <a:ext cx="1911240" cy="157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5"/>
          <p:cNvSpPr/>
          <p:nvPr/>
        </p:nvSpPr>
        <p:spPr>
          <a:xfrm>
            <a:off x="642960" y="1714680"/>
            <a:ext cx="7858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mputer Archite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uter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uter B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http://images.google.ie/url?q=http://www.xpcomputers.ca/catalog/images/sodimm.jpg&amp;usg=AFQjCNFh52RoFsYB4uK1YDM09e5d8XcB8Q"/>
          <p:cNvPicPr/>
          <p:nvPr/>
        </p:nvPicPr>
        <p:blipFill>
          <a:blip r:embed="rId2"/>
          <a:srcRect l="0" t="11846" r="1313" b="19077"/>
          <a:stretch/>
        </p:blipFill>
        <p:spPr>
          <a:xfrm>
            <a:off x="4716360" y="2060640"/>
            <a:ext cx="1857600" cy="1299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http://www.trustedreviews.com/images/article/inline/1916-bios.jpg"/>
          <p:cNvPicPr/>
          <p:nvPr/>
        </p:nvPicPr>
        <p:blipFill>
          <a:blip r:embed="rId3"/>
          <a:srcRect l="18008" t="4293" r="21996" b="3565"/>
          <a:stretch/>
        </p:blipFill>
        <p:spPr>
          <a:xfrm>
            <a:off x="7164360" y="2133720"/>
            <a:ext cx="1228680" cy="1322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http://www.alexnolan.net/articles/terms/motherboard.jpg"/>
          <p:cNvPicPr/>
          <p:nvPr/>
        </p:nvPicPr>
        <p:blipFill>
          <a:blip r:embed="rId4"/>
          <a:stretch/>
        </p:blipFill>
        <p:spPr>
          <a:xfrm>
            <a:off x="5508720" y="3933720"/>
            <a:ext cx="1985760" cy="1743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5"/>
          <p:cNvSpPr/>
          <p:nvPr/>
        </p:nvSpPr>
        <p:spPr>
          <a:xfrm>
            <a:off x="642960" y="1643040"/>
            <a:ext cx="7858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uter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reWire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5" descr="ASUS_A8R-MVP6"/>
          <p:cNvPicPr/>
          <p:nvPr/>
        </p:nvPicPr>
        <p:blipFill>
          <a:blip r:embed="rId2"/>
          <a:srcRect l="0" t="29783" r="0" b="12002"/>
          <a:stretch/>
        </p:blipFill>
        <p:spPr>
          <a:xfrm>
            <a:off x="4500720" y="4076640"/>
            <a:ext cx="3454200" cy="126216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29"/>
          <p:cNvGrpSpPr/>
          <p:nvPr/>
        </p:nvGrpSpPr>
        <p:grpSpPr>
          <a:xfrm>
            <a:off x="4284720" y="1989000"/>
            <a:ext cx="3452760" cy="1140120"/>
            <a:chOff x="4284720" y="1989000"/>
            <a:chExt cx="3452760" cy="1140120"/>
          </a:xfrm>
        </p:grpSpPr>
        <p:pic>
          <p:nvPicPr>
            <p:cNvPr id="167" name="Picture 19" descr="http://i5.photobucket.com/albums/y188/eazyvg/OSS%20Logos/DesignedForLinux.png"/>
            <p:cNvPicPr/>
            <p:nvPr/>
          </p:nvPicPr>
          <p:blipFill>
            <a:blip r:embed="rId3"/>
            <a:stretch/>
          </p:blipFill>
          <p:spPr>
            <a:xfrm>
              <a:off x="6951240" y="2094120"/>
              <a:ext cx="7862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1" descr="http://readerszone.com/wp-content/uploads/2008/04/windows-logo-readerszone.jpg"/>
            <p:cNvPicPr/>
            <p:nvPr/>
          </p:nvPicPr>
          <p:blipFill>
            <a:blip r:embed="rId4"/>
            <a:stretch/>
          </p:blipFill>
          <p:spPr>
            <a:xfrm>
              <a:off x="5524920" y="2199240"/>
              <a:ext cx="117792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3" descr="http://www.mediabistro.com/fishbowlLA/original/apple-logo1.jpg"/>
            <p:cNvPicPr/>
            <p:nvPr/>
          </p:nvPicPr>
          <p:blipFill>
            <a:blip r:embed="rId5"/>
            <a:stretch/>
          </p:blipFill>
          <p:spPr>
            <a:xfrm>
              <a:off x="4284720" y="1989000"/>
              <a:ext cx="1112040" cy="114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5"/>
          <p:cNvSpPr/>
          <p:nvPr/>
        </p:nvSpPr>
        <p:spPr>
          <a:xfrm>
            <a:off x="642960" y="1643040"/>
            <a:ext cx="7858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Data Communications and Net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ndard Codes for Information Inter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AN’s  -  Function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og on and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sing a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4929120" y="2857680"/>
            <a:ext cx="1928880" cy="122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http://www.itgeorgia.com/images/Web%20Network4.gif"/>
          <p:cNvPicPr/>
          <p:nvPr/>
        </p:nvPicPr>
        <p:blipFill>
          <a:blip r:embed="rId3"/>
          <a:stretch/>
        </p:blipFill>
        <p:spPr>
          <a:xfrm>
            <a:off x="5857920" y="4500720"/>
            <a:ext cx="1500120" cy="20332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5"/>
          <p:cNvSpPr/>
          <p:nvPr/>
        </p:nvSpPr>
        <p:spPr>
          <a:xfrm>
            <a:off x="642960" y="1643040"/>
            <a:ext cx="785808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Internet and the World Wid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avigate using a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oolean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ternet 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nd and Receive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dd Attachments to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t up an Email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ff"/>
                </a:solidFill>
                <a:latin typeface="Arial"/>
              </a:rPr>
              <a:t>Video Conferencing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500040" cy="825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www.tgdaily.com/picturegalleries/20070423/1_google_logo.jpg"/>
          <p:cNvPicPr/>
          <p:nvPr/>
        </p:nvPicPr>
        <p:blipFill>
          <a:blip r:embed="rId3"/>
          <a:srcRect l="0" t="27632" r="0" b="22368"/>
          <a:stretch/>
        </p:blipFill>
        <p:spPr>
          <a:xfrm>
            <a:off x="6227640" y="2924280"/>
            <a:ext cx="1822680" cy="6429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5"/>
          <p:cNvSpPr/>
          <p:nvPr/>
        </p:nvSpPr>
        <p:spPr>
          <a:xfrm>
            <a:off x="642960" y="1643040"/>
            <a:ext cx="785808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mage E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mport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dit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vert 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reate Soun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dit Sound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vert 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http://tbn0.google.com/images?q=tbn:sTTPupd1kjh6wM:http://en.onsoftware.com/wp-content/uploads/2007/08/gimp-logo-blog-1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638360"/>
            <a:ext cx="1285920" cy="1050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tbn0.google.com/images?q=tbn:Nv0xfQBBliWQ5M:http://www.cs.hmc.edu/~mbrubeck/gslug/ui/AudacityLogo.png"/>
          <p:cNvPicPr/>
          <p:nvPr/>
        </p:nvPicPr>
        <p:blipFill>
          <a:blip r:embed="rId4"/>
          <a:stretch/>
        </p:blipFill>
        <p:spPr>
          <a:xfrm>
            <a:off x="6084720" y="3995640"/>
            <a:ext cx="1285920" cy="113976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7"/>
          <p:cNvGrpSpPr/>
          <p:nvPr/>
        </p:nvGrpSpPr>
        <p:grpSpPr>
          <a:xfrm>
            <a:off x="6084720" y="5281560"/>
            <a:ext cx="1500480" cy="784440"/>
            <a:chOff x="6084720" y="5281560"/>
            <a:chExt cx="1500480" cy="784440"/>
          </a:xfrm>
        </p:grpSpPr>
        <p:pic>
          <p:nvPicPr>
            <p:cNvPr id="198" name="Picture 9" descr=""/>
            <p:cNvPicPr/>
            <p:nvPr/>
          </p:nvPicPr>
          <p:blipFill>
            <a:blip r:embed="rId5"/>
            <a:stretch/>
          </p:blipFill>
          <p:spPr>
            <a:xfrm>
              <a:off x="6084720" y="5352840"/>
              <a:ext cx="642960" cy="71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0" descr=""/>
            <p:cNvPicPr/>
            <p:nvPr/>
          </p:nvPicPr>
          <p:blipFill>
            <a:blip r:embed="rId6"/>
            <a:stretch/>
          </p:blipFill>
          <p:spPr>
            <a:xfrm>
              <a:off x="6942240" y="5281560"/>
              <a:ext cx="642960" cy="75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20"/>
          <p:cNvGrpSpPr/>
          <p:nvPr/>
        </p:nvGrpSpPr>
        <p:grpSpPr>
          <a:xfrm>
            <a:off x="6084720" y="2781360"/>
            <a:ext cx="1714680" cy="830160"/>
            <a:chOff x="6084720" y="2781360"/>
            <a:chExt cx="1714680" cy="830160"/>
          </a:xfrm>
        </p:grpSpPr>
        <p:pic>
          <p:nvPicPr>
            <p:cNvPr id="201" name="Picture 11" descr=""/>
            <p:cNvPicPr/>
            <p:nvPr/>
          </p:nvPicPr>
          <p:blipFill>
            <a:blip r:embed="rId7"/>
            <a:stretch/>
          </p:blipFill>
          <p:spPr>
            <a:xfrm>
              <a:off x="6084720" y="2781360"/>
              <a:ext cx="78588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2" descr=""/>
            <p:cNvPicPr/>
            <p:nvPr/>
          </p:nvPicPr>
          <p:blipFill>
            <a:blip r:embed="rId8"/>
            <a:stretch/>
          </p:blipFill>
          <p:spPr>
            <a:xfrm>
              <a:off x="7013520" y="2781360"/>
              <a:ext cx="785880" cy="78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Rectangle 2"/>
          <p:cNvSpPr/>
          <p:nvPr/>
        </p:nvSpPr>
        <p:spPr>
          <a:xfrm>
            <a:off x="765000" y="274680"/>
            <a:ext cx="699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Technology Syllabus – I.C.T.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684360" y="981000"/>
            <a:ext cx="70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Information &amp; Communication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0:11:05Z</dcterms:created>
  <dc:creator>Elizabeth Davis</dc:creator>
  <dc:description/>
  <dc:language>en-US</dc:language>
  <cp:lastModifiedBy>GEC</cp:lastModifiedBy>
  <dcterms:modified xsi:type="dcterms:W3CDTF">2008-09-24T09:44:04Z</dcterms:modified>
  <cp:revision>462</cp:revision>
  <dc:subject/>
  <dc:title>Slide 1</dc:title>
</cp:coreProperties>
</file>