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EB2E-0C52-4898-8032-FC4E7BF5DC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0C99-7FF3-48ED-A0CD-67976358C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5AA2-2D69-48A5-94F8-9AD1C19BB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2BC9-C287-4CFB-8F72-4A5256D328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3EE6-CAAC-48B8-8BF6-B1894F074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746D-C646-4B8A-8391-D57EE3404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30D-1E29-4E22-B785-A3D64B72F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3BE-74EF-4980-9F75-8C25C17B0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1ED-91FC-4C20-B780-C8E27142C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CFD-1348-47AD-816E-54E8B1D31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37E-2B08-4066-870F-AF854A69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ADE-C6DB-4BD2-81DA-021FBC44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C40-CA53-4142-AF0F-09DE2C7D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BFD-E0B0-42D7-91AD-4153049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2A26-8474-4AA9-885A-B4B1588C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4917-4071-4862-B11F-7D76A30A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80A-5673-4F71-B0DE-E7D27E4A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83D5-81D6-4C29-A157-8032C157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B1FF-55D8-4843-B041-FB74E41B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357D-36F5-42CC-950F-A9EE740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1EB4-9E2A-480F-9DA1-E4F37E72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954-1DD4-43EA-81DC-A058EA54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A0FE-C499-480B-9631-B59DE88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82E8-431B-4E0E-A887-F17B4E2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689A-A7DC-4E3D-A1F3-0D75ECFE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FEE7-5610-4DD4-87AE-0A554BB6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5C6D-EFFE-4452-9FEC-5977B24B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D381-FC2F-4C2F-9EFC-98A004D6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A0EA-EB7A-412C-9423-8F1E18FD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91A6-6E02-4AA9-A9B7-3A8E7D03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F268-1DCD-4A58-A24B-C316B0A7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5A79F-7ED8-433A-AC26-E560726F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3AF-F93D-4041-B370-F8B07928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40EA5-B2F9-4970-94C1-D020E57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50FA-E829-4636-9C54-480ED62F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17BF-03B1-4B48-B738-236DFE54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8A73-373A-4003-B864-D456980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2C6B-2793-441C-8CA8-1F5675B0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1A895-EDE3-4ADC-91CD-96260DEC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4A831-A5E7-41D0-8408-32725D73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F69-8910-409F-BD69-26488D1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867-5AB0-4954-8404-F0F26D40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4C6-3CBE-4FF0-B301-0C18E32B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F69-C751-4291-BB08-390E6D5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0E6-BD67-47E4-9373-DB4CA87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724-BF82-4D53-BEB5-3E076EBD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FD00-597C-4C10-A381-6FACE729AA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5AC3-8C08-445F-B88A-C072F72B7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9FEA-5BD9-432B-AF10-7D84B6E2ECA0}" type="datetime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662B-2815-4BDB-9235-B9BB569B96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D2D3-8F8E-4836-8205-D31E9F9F2E07}" type="datetime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2B15-14AE-4081-8C17-72748CFD71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ie/imgres?imgurl=http://en.onsoftware.com/wp-content/uploads/2007/08/gimp-logo-blog-1.png&amp;imgrefurl=http://en.onsoftware.com/5-free-alternatives-to-adobe-products/&amp;h=164&amp;w=200&amp;sz=22&amp;hl=en&amp;start=2&amp;tbnid=sTTPupd1kjh6wM:&amp;tbnh=85&amp;tbnw=104&amp;prev=/images?q=gimp+logo&amp;gbv=2&amp;hl=en&amp;sa=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656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213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loring I.C.T.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e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7301"/>
                </a:moveTo>
                <a:lnTo>
                  <a:pt x="11383" y="7301"/>
                </a:lnTo>
                <a:lnTo>
                  <a:pt x="11766" y="7667"/>
                </a:lnTo>
                <a:lnTo>
                  <a:pt x="20975" y="7667"/>
                </a:lnTo>
                <a:lnTo>
                  <a:pt x="21532" y="8224"/>
                </a:lnTo>
                <a:lnTo>
                  <a:pt x="21532" y="8772"/>
                </a:lnTo>
                <a:lnTo>
                  <a:pt x="23377" y="8772"/>
                </a:lnTo>
                <a:lnTo>
                  <a:pt x="23742" y="8224"/>
                </a:lnTo>
                <a:lnTo>
                  <a:pt x="24482" y="8224"/>
                </a:lnTo>
                <a:lnTo>
                  <a:pt x="24482" y="13376"/>
                </a:lnTo>
                <a:lnTo>
                  <a:pt x="23742" y="13376"/>
                </a:lnTo>
                <a:lnTo>
                  <a:pt x="23377" y="12828"/>
                </a:lnTo>
                <a:lnTo>
                  <a:pt x="21532" y="12828"/>
                </a:lnTo>
                <a:lnTo>
                  <a:pt x="21532" y="14107"/>
                </a:lnTo>
                <a:lnTo>
                  <a:pt x="11949" y="14107"/>
                </a:lnTo>
                <a:lnTo>
                  <a:pt x="11949" y="9877"/>
                </a:lnTo>
                <a:lnTo>
                  <a:pt x="11766" y="9877"/>
                </a:lnTo>
                <a:lnTo>
                  <a:pt x="11383" y="10243"/>
                </a:lnTo>
                <a:lnTo>
                  <a:pt x="1046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84360" y="1773360"/>
            <a:ext cx="7358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troduction to Computer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put, output and storag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mory, Clock Speed, Storag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ore2-Extreme-Quadx500"/>
          <p:cNvPicPr/>
          <p:nvPr/>
        </p:nvPicPr>
        <p:blipFill>
          <a:blip r:embed="rId2"/>
          <a:srcRect l="5427" t="4230" r="9540" b="4883"/>
          <a:stretch/>
        </p:blipFill>
        <p:spPr>
          <a:xfrm>
            <a:off x="1643040" y="4786200"/>
            <a:ext cx="1714680" cy="15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vista-box"/>
          <p:cNvPicPr/>
          <p:nvPr/>
        </p:nvPicPr>
        <p:blipFill>
          <a:blip r:embed="rId3"/>
          <a:srcRect l="16738" t="3799" r="20088" b="1014"/>
          <a:stretch/>
        </p:blipFill>
        <p:spPr>
          <a:xfrm>
            <a:off x="3857760" y="464328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MK8034GSX"/>
          <p:cNvPicPr/>
          <p:nvPr/>
        </p:nvPicPr>
        <p:blipFill>
          <a:blip r:embed="rId4"/>
          <a:srcRect l="0" t="12673" r="0" b="7949"/>
          <a:stretch/>
        </p:blipFill>
        <p:spPr>
          <a:xfrm>
            <a:off x="5572080" y="4714920"/>
            <a:ext cx="1928880" cy="153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539640" y="19162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aunch Programs, Exit Progra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naging Files and Folders  -  Create, Move, Sav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Security  -  Virus Protection, Backu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www.guidebookgallery.org/pics/gui/desktop/empty/winxppro.png"/>
          <p:cNvPicPr/>
          <p:nvPr/>
        </p:nvPicPr>
        <p:blipFill>
          <a:blip r:embed="rId2"/>
          <a:stretch/>
        </p:blipFill>
        <p:spPr>
          <a:xfrm>
            <a:off x="1258920" y="407664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bcschools.net/staff/images/WindowsExplorer.jpg"/>
          <p:cNvPicPr/>
          <p:nvPr/>
        </p:nvPicPr>
        <p:blipFill>
          <a:blip r:embed="rId3"/>
          <a:stretch/>
        </p:blipFill>
        <p:spPr>
          <a:xfrm>
            <a:off x="4427640" y="4149720"/>
            <a:ext cx="2855880" cy="1785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360" y="1557360"/>
            <a:ext cx="40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8080"/>
                </a:solidFill>
                <a:latin typeface="Arial"/>
              </a:rPr>
              <a:t>Introduction to Computer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5"/>
          <p:cNvSpPr/>
          <p:nvPr/>
        </p:nvSpPr>
        <p:spPr>
          <a:xfrm>
            <a:off x="642960" y="1643040"/>
            <a:ext cx="78580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pplications and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search and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ord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sk Top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Computer Graphics </a:t>
            </a:r>
            <a:r>
              <a:rPr b="0" lang="en-IE" sz="1400" spc="-1" strike="noStrike">
                <a:solidFill>
                  <a:srgbClr val="0000ff"/>
                </a:solidFill>
                <a:latin typeface="Arial"/>
              </a:rPr>
              <a:t>(Communications &amp; Graphic Me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blogs.dotnethell.it/filestore/4763_ie7bellissimo.jpg"/>
          <p:cNvPicPr/>
          <p:nvPr/>
        </p:nvPicPr>
        <p:blipFill>
          <a:blip r:embed="rId2"/>
          <a:stretch/>
        </p:blipFill>
        <p:spPr>
          <a:xfrm>
            <a:off x="6300720" y="1628640"/>
            <a:ext cx="1349280" cy="134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productwiki.com/upload/images/ms_outlook_express_logo-150-150.jpg"/>
          <p:cNvPicPr/>
          <p:nvPr/>
        </p:nvPicPr>
        <p:blipFill>
          <a:blip r:embed="rId3"/>
          <a:stretch/>
        </p:blipFill>
        <p:spPr>
          <a:xfrm>
            <a:off x="6443640" y="3141720"/>
            <a:ext cx="1135080" cy="1135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bagdady.org/up/uploads/fe7b7789d0.jpg"/>
          <p:cNvPicPr/>
          <p:nvPr/>
        </p:nvPicPr>
        <p:blipFill>
          <a:blip r:embed="rId4"/>
          <a:stretch/>
        </p:blipFill>
        <p:spPr>
          <a:xfrm>
            <a:off x="6012000" y="4365720"/>
            <a:ext cx="1911240" cy="157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/>
          <p:cNvSpPr/>
          <p:nvPr/>
        </p:nvSpPr>
        <p:spPr>
          <a:xfrm>
            <a:off x="642960" y="1714680"/>
            <a:ext cx="7858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mputer 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images.google.ie/url?q=http://www.xpcomputers.ca/catalog/images/sodimm.jpg&amp;usg=AFQjCNFh52RoFsYB4uK1YDM09e5d8XcB8Q"/>
          <p:cNvPicPr/>
          <p:nvPr/>
        </p:nvPicPr>
        <p:blipFill>
          <a:blip r:embed="rId2"/>
          <a:srcRect l="0" t="11846" r="1313" b="19077"/>
          <a:stretch/>
        </p:blipFill>
        <p:spPr>
          <a:xfrm>
            <a:off x="4716360" y="2060640"/>
            <a:ext cx="1857600" cy="129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trustedreviews.com/images/article/inline/1916-bios.jpg"/>
          <p:cNvPicPr/>
          <p:nvPr/>
        </p:nvPicPr>
        <p:blipFill>
          <a:blip r:embed="rId3"/>
          <a:srcRect l="18008" t="4293" r="21996" b="3565"/>
          <a:stretch/>
        </p:blipFill>
        <p:spPr>
          <a:xfrm>
            <a:off x="7164360" y="2133720"/>
            <a:ext cx="1228680" cy="132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www.alexnolan.net/articles/terms/motherboard.jpg"/>
          <p:cNvPicPr/>
          <p:nvPr/>
        </p:nvPicPr>
        <p:blipFill>
          <a:blip r:embed="rId4"/>
          <a:stretch/>
        </p:blipFill>
        <p:spPr>
          <a:xfrm>
            <a:off x="5508720" y="3933720"/>
            <a:ext cx="1985760" cy="1743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642960" y="164304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reWir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5" descr="ASUS_A8R-MVP6"/>
          <p:cNvPicPr/>
          <p:nvPr/>
        </p:nvPicPr>
        <p:blipFill>
          <a:blip r:embed="rId2"/>
          <a:srcRect l="0" t="29783" r="0" b="12002"/>
          <a:stretch/>
        </p:blipFill>
        <p:spPr>
          <a:xfrm>
            <a:off x="4500720" y="4076640"/>
            <a:ext cx="34542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29"/>
          <p:cNvGrpSpPr/>
          <p:nvPr/>
        </p:nvGrpSpPr>
        <p:grpSpPr>
          <a:xfrm>
            <a:off x="4284720" y="1989000"/>
            <a:ext cx="3452760" cy="1140120"/>
            <a:chOff x="4284720" y="1989000"/>
            <a:chExt cx="3452760" cy="1140120"/>
          </a:xfrm>
        </p:grpSpPr>
        <p:pic>
          <p:nvPicPr>
            <p:cNvPr id="167" name="Picture 19" descr="http://i5.photobucket.com/albums/y188/eazyvg/OSS%20Logos/DesignedForLinux.png"/>
            <p:cNvPicPr/>
            <p:nvPr/>
          </p:nvPicPr>
          <p:blipFill>
            <a:blip r:embed="rId3"/>
            <a:stretch/>
          </p:blipFill>
          <p:spPr>
            <a:xfrm>
              <a:off x="6951240" y="2094120"/>
              <a:ext cx="7862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1" descr="http://readerszone.com/wp-content/uploads/2008/04/windows-logo-readerszone.jpg"/>
            <p:cNvPicPr/>
            <p:nvPr/>
          </p:nvPicPr>
          <p:blipFill>
            <a:blip r:embed="rId4"/>
            <a:stretch/>
          </p:blipFill>
          <p:spPr>
            <a:xfrm>
              <a:off x="5524920" y="2199240"/>
              <a:ext cx="117792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3" descr="http://www.mediabistro.com/fishbowlLA/original/apple-logo1.jpg"/>
            <p:cNvPicPr/>
            <p:nvPr/>
          </p:nvPicPr>
          <p:blipFill>
            <a:blip r:embed="rId5"/>
            <a:stretch/>
          </p:blipFill>
          <p:spPr>
            <a:xfrm>
              <a:off x="4284720" y="1989000"/>
              <a:ext cx="1112040" cy="11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/>
          <p:cNvSpPr/>
          <p:nvPr/>
        </p:nvSpPr>
        <p:spPr>
          <a:xfrm>
            <a:off x="642960" y="1643040"/>
            <a:ext cx="7858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Data Communications and Net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ndard Codes for Information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AN’s  -  Functio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g on and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ing a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4929120" y="2857680"/>
            <a:ext cx="1928880" cy="122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www.itgeorgia.com/images/Web%20Network4.gif"/>
          <p:cNvPicPr/>
          <p:nvPr/>
        </p:nvPicPr>
        <p:blipFill>
          <a:blip r:embed="rId3"/>
          <a:stretch/>
        </p:blipFill>
        <p:spPr>
          <a:xfrm>
            <a:off x="5857920" y="4500720"/>
            <a:ext cx="1500120" cy="2033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5"/>
          <p:cNvSpPr/>
          <p:nvPr/>
        </p:nvSpPr>
        <p:spPr>
          <a:xfrm>
            <a:off x="642960" y="1643040"/>
            <a:ext cx="78580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avigate using a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oolean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ternet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nd and Receive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dd Attachments to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 up an Email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ff"/>
                </a:solidFill>
                <a:latin typeface="Arial"/>
              </a:rPr>
              <a:t>Video Conferencin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500040" cy="825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tgdaily.com/picturegalleries/20070423/1_google_logo.jpg"/>
          <p:cNvPicPr/>
          <p:nvPr/>
        </p:nvPicPr>
        <p:blipFill>
          <a:blip r:embed="rId3"/>
          <a:srcRect l="0" t="27632" r="0" b="22368"/>
          <a:stretch/>
        </p:blipFill>
        <p:spPr>
          <a:xfrm>
            <a:off x="6227640" y="2924280"/>
            <a:ext cx="1822680" cy="6429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5"/>
          <p:cNvSpPr/>
          <p:nvPr/>
        </p:nvSpPr>
        <p:spPr>
          <a:xfrm>
            <a:off x="642960" y="1643040"/>
            <a:ext cx="78580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age 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port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it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vert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eate Soun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it Soun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vert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http://tbn0.google.com/images?q=tbn:sTTPupd1kjh6wM:http://en.onsoftware.com/wp-content/uploads/2007/08/gimp-logo-blog-1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638360"/>
            <a:ext cx="1285920" cy="1050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tbn0.google.com/images?q=tbn:Nv0xfQBBliWQ5M:http://www.cs.hmc.edu/~mbrubeck/gslug/ui/AudacityLogo.png"/>
          <p:cNvPicPr/>
          <p:nvPr/>
        </p:nvPicPr>
        <p:blipFill>
          <a:blip r:embed="rId4"/>
          <a:stretch/>
        </p:blipFill>
        <p:spPr>
          <a:xfrm>
            <a:off x="6084720" y="3995640"/>
            <a:ext cx="12859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7"/>
          <p:cNvGrpSpPr/>
          <p:nvPr/>
        </p:nvGrpSpPr>
        <p:grpSpPr>
          <a:xfrm>
            <a:off x="6084720" y="5281560"/>
            <a:ext cx="1500480" cy="784440"/>
            <a:chOff x="6084720" y="5281560"/>
            <a:chExt cx="1500480" cy="784440"/>
          </a:xfrm>
        </p:grpSpPr>
        <p:pic>
          <p:nvPicPr>
            <p:cNvPr id="198" name="Picture 9" descr=""/>
            <p:cNvPicPr/>
            <p:nvPr/>
          </p:nvPicPr>
          <p:blipFill>
            <a:blip r:embed="rId5"/>
            <a:stretch/>
          </p:blipFill>
          <p:spPr>
            <a:xfrm>
              <a:off x="6084720" y="5352840"/>
              <a:ext cx="6429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0" descr=""/>
            <p:cNvPicPr/>
            <p:nvPr/>
          </p:nvPicPr>
          <p:blipFill>
            <a:blip r:embed="rId6"/>
            <a:stretch/>
          </p:blipFill>
          <p:spPr>
            <a:xfrm>
              <a:off x="6942240" y="5281560"/>
              <a:ext cx="642960" cy="7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20"/>
          <p:cNvGrpSpPr/>
          <p:nvPr/>
        </p:nvGrpSpPr>
        <p:grpSpPr>
          <a:xfrm>
            <a:off x="6084720" y="2781360"/>
            <a:ext cx="1714680" cy="830160"/>
            <a:chOff x="6084720" y="2781360"/>
            <a:chExt cx="1714680" cy="830160"/>
          </a:xfrm>
        </p:grpSpPr>
        <p:pic>
          <p:nvPicPr>
            <p:cNvPr id="201" name="Picture 11" descr=""/>
            <p:cNvPicPr/>
            <p:nvPr/>
          </p:nvPicPr>
          <p:blipFill>
            <a:blip r:embed="rId7"/>
            <a:stretch/>
          </p:blipFill>
          <p:spPr>
            <a:xfrm>
              <a:off x="6084720" y="2781360"/>
              <a:ext cx="78588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2" descr=""/>
            <p:cNvPicPr/>
            <p:nvPr/>
          </p:nvPicPr>
          <p:blipFill>
            <a:blip r:embed="rId8"/>
            <a:stretch/>
          </p:blipFill>
          <p:spPr>
            <a:xfrm>
              <a:off x="7013520" y="2781360"/>
              <a:ext cx="785880" cy="78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GEC</cp:lastModifiedBy>
  <dcterms:modified xsi:type="dcterms:W3CDTF">2008-09-24T09:44:04Z</dcterms:modified>
  <cp:revision>462</cp:revision>
  <dc:subject/>
  <dc:title>Slide 1</dc:title>
</cp:coreProperties>
</file>