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A2B-5935-4D30-82FD-7A90B0ED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104-B9F9-4531-988D-2C14F37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933-2953-4941-A2DA-4FB0B759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4CD-5422-41CB-8FD8-A623A942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F9F-6FE7-4D22-A9AD-F750B87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D76-7077-423B-9DC5-35DFEC48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FD6-ADB4-4EE6-BEA8-3A3651E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0BB-2CE8-4D5D-BDCF-9DC284A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1AE-2F00-4215-971C-A3E479E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F32-4670-4DB4-92D5-1008612C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A62-BF7F-4680-A92F-80C93EB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5CE-B6A0-4172-B2AC-B12C8D0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333-C494-4A08-871A-D50BCAD9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GEC584/Desktop/Introduction/Presentation.pps" TargetMode="External"/><Relationship Id="rId3" Type="http://schemas.openxmlformats.org/officeDocument/2006/relationships/hyperlink" Target="file:///C:/Documents%20and%20Settings/GEC584/Desktop/Introduction/Presentation.pps" TargetMode="External"/><Relationship Id="rId4" Type="http://schemas.openxmlformats.org/officeDocument/2006/relationships/hyperlink" Target="file:///C:/Documents%20and%20Settings/GEC584/Desktop/Introduction/Presentation.pps" TargetMode="External"/><Relationship Id="rId5" Type="http://schemas.openxmlformats.org/officeDocument/2006/relationships/hyperlink" Target="file:///C:/Documents%20and%20Settings/GEC584/Desktop/Introduction/Presentation.pp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4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Michelle_Kavanagh@education.gov.i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6327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Round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95280" y="508464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Britannic Bold"/>
                <a:hlinkClick r:id="rId3"/>
              </a:rPr>
              <a:t>Fáilte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395280" y="508464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Britannic Bold"/>
                <a:hlinkClick r:id="rId5"/>
              </a:rPr>
              <a:t>Fáilte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08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Fáil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08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Fáil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9F8-49F3-43CD-B360-69FD399A3BB4}" type="slidenum">
              <a:t>1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341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9.15 – 9.3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roduction &amp;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Pat Lyn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9.30 – 10.45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e: - Quality Management &amp;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Elizabeth Dav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.45- 11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Tea/Coffe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1.00 – 13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ject: - Sample content ‘Student Design Fol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Elizabeth Dav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.00 – 14.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4.00 – 16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e &amp; Option: - Information &amp; Communication 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Pat Lyn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1989000"/>
            <a:ext cx="1082520" cy="16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4600" y="266400"/>
            <a:ext cx="7715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ucture for today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32720" y="4076640"/>
            <a:ext cx="1433520" cy="8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147-6117-4DE8-B4B5-D78B9515070E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155520"/>
            <a:ext cx="59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in T4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797120"/>
            <a:ext cx="61930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n Cassidy - new ANC (Acting) for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gh McLean -  new RDO (Acting) f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am Murphy appointed E.A.M. within the S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m Rowan -    new ANC for DCG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5013360"/>
            <a:ext cx="189072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2A5-9298-4B59-95F2-792D32227F78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6960" y="155520"/>
            <a:ext cx="6737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4 support Service 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New Stru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197000"/>
            <a:ext cx="77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gional Organiser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ganises the sessions in their assigned Education Centres, creates the invitations &amp; record attendances. Schools fax back confirmation of attendance to Regional Organ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ubject Support Per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fers advice in relation to the particular subject matter, resources, assessment requirem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4508640"/>
          <a:ext cx="7559280" cy="1215720"/>
        </p:xfrm>
        <a:graphic>
          <a:graphicData uri="http://schemas.openxmlformats.org/drawingml/2006/table">
            <a:tbl>
              <a:tblPr/>
              <a:tblGrid>
                <a:gridCol w="2518560"/>
                <a:gridCol w="2522160"/>
                <a:gridCol w="25185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C.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D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y Beas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D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95280" y="3933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Limerick Education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950080"/>
            <a:ext cx="71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e t4 web sit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t4.i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or 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C77-2A29-447B-AA16-EF367972B989}" type="slidenum">
              <a:t>4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99880"/>
            <a:ext cx="6408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itannic Bold"/>
              </a:rPr>
              <a:t>Leaving Certificat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05264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57480"/>
            <a:ext cx="8424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ase one Sept. 2007 Leaving Certificate Technology- 44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ase two Sept. 2008 – 14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rriculum fun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l phase two schools must confirm in writing they are o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. Cert. Technology Sept. 2008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chelle Kavanag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rinisation &amp; Policy School Building Un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partment Of Education &amp; Sc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ulla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: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ritannic Bold"/>
                <a:hlinkClick r:id="rId2"/>
              </a:rPr>
              <a:t>Michelle_Kavanagh@education.gov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027-3E99-4861-9639-4E8BA235762A}" type="slidenum">
              <a:t>5</a:t>
            </a:fld>
          </a:p>
        </p:txBody>
      </p:sp>
    </p:spTree>
  </p:cSld>
  <p:transition spd="med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71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Sample Paper -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34136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te Exams Commission will issue Sample pa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Leaving Certificate Technology terminal exam to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the end of September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068640"/>
            <a:ext cx="770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4 hope to provide resource material to teachers an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he underlying principles contained in the questions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3870" t="23033" r="3870" b="0"/>
          <a:stretch/>
        </p:blipFill>
        <p:spPr>
          <a:xfrm>
            <a:off x="3780000" y="4221000"/>
            <a:ext cx="3816360" cy="21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BAC-DEE1-4009-A450-C92978B0B240}" type="slidenum">
              <a:t>6</a:t>
            </a:fld>
          </a:p>
        </p:txBody>
      </p:sp>
    </p:spTree>
  </p:cSld>
  <p:transition spd="med"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268280"/>
            <a:ext cx="734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ewal notices issued at the end of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ter from T4 issued on 16th J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d letter from Dell – September 08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deadline is 30th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annual/perpetual license for MS Learning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existing licensing arrangement for MS products –            DEIS, VEC agreement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MS Office &amp; Publis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d processing fre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720" y="18900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Learning Suite -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E4E-6DFF-4FDD-97FA-6A4FDC9B95C7}" type="slidenum">
              <a:t>7</a:t>
            </a:fld>
          </a:p>
        </p:txBody>
      </p:sp>
    </p:spTree>
  </p:cSld>
  <p:transition spd="med">
    <p:pull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4960" y="274320"/>
            <a:ext cx="5927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ent for rounds 7, 8 &amp;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628640"/>
          <a:ext cx="7705800" cy="4040280"/>
        </p:xfrm>
        <a:graphic>
          <a:graphicData uri="http://schemas.openxmlformats.org/drawingml/2006/table">
            <a:tbl>
              <a:tblPr/>
              <a:tblGrid>
                <a:gridCol w="1366920"/>
                <a:gridCol w="1682640"/>
                <a:gridCol w="2357280"/>
                <a:gridCol w="22989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Sep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: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Control &amp; Rel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cont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Design Folder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&amp; 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De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 Systems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es &amp; Mech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 &amp;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ed Contro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o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b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 Systems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ed Contro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euma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915-778F-4BA3-9BF7-16E98374066A}" type="slidenum">
              <a:t>8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6:06Z</dcterms:created>
  <dc:creator>Niamh Ni Mhuiri</dc:creator>
  <dc:description/>
  <dc:language>en-US</dc:language>
  <cp:lastModifiedBy>GEC</cp:lastModifiedBy>
  <dcterms:modified xsi:type="dcterms:W3CDTF">2008-09-24T14:17:57Z</dcterms:modified>
  <cp:revision>114</cp:revision>
  <dc:subject/>
  <dc:title>T4</dc:title>
</cp:coreProperties>
</file>