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EDA-FDC1-43EB-9B27-0E6F1FA09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B8F6-3F7A-44CA-A723-81D436C7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4E27-5F36-4938-A033-B463D127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5382-2B9C-4802-96D2-11D8A4F0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9E1-8555-4129-95CC-88E227D4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0537-30E1-4C35-BF42-67D35A7C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8CB-E3F5-4483-8679-DE9AE402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ED5-EFDB-4D3B-80EC-FD871634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1468-636B-40AA-B737-E2A5053B3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F816-F74D-4430-BF3D-2D475237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BDE-D1D5-4378-BB34-09679264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3C77-E56C-463F-A1D1-3D11781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71B3-B372-4BB3-ABC7-1EB495AF1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C:/Documents%20and%20Settings/GEC584/Desktop/Introduction/Presentation.pps" TargetMode="External"/><Relationship Id="rId3" Type="http://schemas.openxmlformats.org/officeDocument/2006/relationships/hyperlink" Target="file:///C:/Documents%20and%20Settings/GEC584/Desktop/Introduction/Presentation.pps" TargetMode="External"/><Relationship Id="rId4" Type="http://schemas.openxmlformats.org/officeDocument/2006/relationships/hyperlink" Target="file:///C:/Documents%20and%20Settings/GEC584/Desktop/Introduction/Presentation.pps" TargetMode="External"/><Relationship Id="rId5" Type="http://schemas.openxmlformats.org/officeDocument/2006/relationships/hyperlink" Target="file:///C:/Documents%20and%20Settings/GEC584/Desktop/Introduction/Presentation.pps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4.ie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Michelle_Kavanagh@education.gov.ie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4360" y="475920"/>
            <a:ext cx="763272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Round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2"/>
          </p:cNvPr>
          <p:cNvSpPr/>
          <p:nvPr/>
        </p:nvSpPr>
        <p:spPr>
          <a:xfrm>
            <a:off x="395280" y="5084640"/>
            <a:ext cx="83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9999"/>
                </a:solidFill>
                <a:uFillTx/>
                <a:latin typeface="Britannic Bold"/>
                <a:hlinkClick r:id="rId3"/>
              </a:rPr>
              <a:t>Fáilte</a:t>
            </a: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4"/>
          </p:cNvPr>
          <p:cNvSpPr/>
          <p:nvPr/>
        </p:nvSpPr>
        <p:spPr>
          <a:xfrm>
            <a:off x="395280" y="5084640"/>
            <a:ext cx="8353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009999"/>
                </a:solidFill>
                <a:uFillTx/>
                <a:latin typeface="Britannic Bold"/>
                <a:hlinkClick r:id="rId5"/>
              </a:rPr>
              <a:t>Fáilte</a:t>
            </a: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08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Fáil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95280" y="5084640"/>
            <a:ext cx="83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Fáilt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9873-45A8-4A46-BFF6-32D171E963AD}" type="slidenum">
              <a:t>1</a:t>
            </a:fld>
          </a:p>
        </p:txBody>
      </p:sp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34136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9.15 – 9.30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troduction &amp; Up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9933"/>
                </a:solidFill>
                <a:latin typeface="Tahoma"/>
              </a:rPr>
              <a:t>(Pat Lyn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9.30 – 10.45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e: - Quality Management &amp;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9933"/>
                </a:solidFill>
                <a:latin typeface="Tahoma"/>
              </a:rPr>
              <a:t>(Elizabeth Dav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0.45- 11.00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Tea/Coffe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1.00 – 13.00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ject: - Sample content ‘Student Design Fold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9933"/>
                </a:solidFill>
                <a:latin typeface="Tahoma"/>
              </a:rPr>
              <a:t>(Elizabeth Dav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3.00 – 14.00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Lu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14.00 – 16.00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re &amp; Option: - Information &amp; Communication Te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9933"/>
                </a:solidFill>
                <a:latin typeface="Tahoma"/>
              </a:rPr>
              <a:t>(Pat Lyn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877080" y="1989000"/>
            <a:ext cx="1082520" cy="1616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4600" y="266400"/>
            <a:ext cx="7715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Structure for today</a:t>
            </a:r>
            <a:r>
              <a:rPr b="0" lang="en-GB" sz="40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90600" y="220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32720" y="4076640"/>
            <a:ext cx="1433520" cy="88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421B-D616-4998-BD6A-6239F6C24739}" type="slidenum">
              <a:t>2</a:t>
            </a:fld>
          </a:p>
        </p:txBody>
      </p:sp>
    </p:spTree>
  </p:cSld>
  <p:transition spd="med"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86960" y="155520"/>
            <a:ext cx="5977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in T4 Suppor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26920" y="1797120"/>
            <a:ext cx="619308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tin Cassidy - new ANC (Acting) for Technolog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ugh McLean -  new RDO (Acting) for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am Murphy appointed E.A.M. within the S.E.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m Rowan -    new ANC for DCG</a:t>
            </a: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64000" y="5013360"/>
            <a:ext cx="1890720" cy="93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D2E9-C574-47CC-94B4-D7F486F528D0}" type="slidenum">
              <a:t>3</a:t>
            </a:fld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6960" y="155520"/>
            <a:ext cx="6737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4 support Service  -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(New Structu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197000"/>
            <a:ext cx="770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Regional Organiser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ganises the sessions in their assigned Education Centres, creates the invitations &amp; record attendances. Schools fax back confirmation of attendance to Regional Organ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Subject Support Pers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fers advice in relation to the particular subject matter, resources, assessment requirement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4508640"/>
          <a:ext cx="7559280" cy="1215720"/>
        </p:xfrm>
        <a:graphic>
          <a:graphicData uri="http://schemas.openxmlformats.org/drawingml/2006/table">
            <a:tbl>
              <a:tblPr/>
              <a:tblGrid>
                <a:gridCol w="2518560"/>
                <a:gridCol w="2522160"/>
                <a:gridCol w="2518560"/>
              </a:tblGrid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s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C.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 Sup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4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zabeth Dav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rney Beas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zabeth Dav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95280" y="393372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Limerick Education Cent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950080"/>
            <a:ext cx="7127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ee t4 web site </a:t>
            </a:r>
            <a:r>
              <a:rPr b="0" lang="en-GB" sz="20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t4.ie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for contact deta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904-E2B2-4FE6-8E89-41BEFFB32132}" type="slidenum">
              <a:t>4</a:t>
            </a:fld>
          </a:p>
        </p:txBody>
      </p: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299880"/>
            <a:ext cx="640872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itannic Bold"/>
              </a:rPr>
              <a:t>Leaving Certificate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1052640"/>
            <a:ext cx="66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257480"/>
            <a:ext cx="842472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hase one Sept. 2007 Leaving Certificate Technology- 44 sch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hase two Sept. 2008 – 14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urriculum fun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l phase two schools must confirm in writing they are off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. Cert. Technology Sept. 2008 t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ichelle Kavanag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erinisation &amp; Policy School Building Uni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partment Of Education &amp; Sc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ulla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ail: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Britannic Bold"/>
                <a:hlinkClick r:id="rId2"/>
              </a:rPr>
              <a:t>Michelle_Kavanagh@education.gov.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F126-B32B-4416-96FC-E84AB347CF76}" type="slidenum">
              <a:t>5</a:t>
            </a:fld>
          </a:p>
        </p:txBody>
      </p:sp>
    </p:spTree>
  </p:cSld>
  <p:transition spd="med">
    <p:pull dir="r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90600" y="220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7120" y="18900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Sample Paper - S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1341360"/>
            <a:ext cx="74167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State Exams Commission will issue Sample pap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the Leaving Certificate Technology terminal exam to schoo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the end of September 200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9640" y="3068640"/>
            <a:ext cx="77094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4 hope to provide resource material to teachers and stud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 the underlying principles contained in the questions o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ple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rcRect l="3870" t="23033" r="3870" b="0"/>
          <a:stretch/>
        </p:blipFill>
        <p:spPr>
          <a:xfrm>
            <a:off x="3780000" y="4221000"/>
            <a:ext cx="3816360" cy="212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A486-27BE-43AC-AEE8-208609254B48}" type="slidenum">
              <a:t>6</a:t>
            </a:fld>
          </a:p>
        </p:txBody>
      </p:sp>
    </p:spTree>
  </p:cSld>
  <p:transition spd="med">
    <p:pull dir="r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90600" y="220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1268280"/>
            <a:ext cx="7343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newal notices issued at the end of May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ter from T4 issued on 16th Ju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d letter from Dell – September 08</a:t>
            </a:r>
            <a:r>
              <a:rPr b="0" lang="en-US" sz="1800" spc="-1" strike="noStrike">
                <a:solidFill>
                  <a:srgbClr val="000000"/>
                </a:solidFill>
                <a:latin typeface="Britannic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deadline is 30th 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chase annual/perpetual license for MS Learning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 at existing licensing arrangement for MS products –            DEIS, VEC agreement,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rchase MS Office &amp; Publis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d processing free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2720" y="189000"/>
            <a:ext cx="54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S Learning Suite -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729E-2A7A-400C-A929-5CA5BA3A69BC}" type="slidenum">
              <a:t>7</a:t>
            </a:fld>
          </a:p>
        </p:txBody>
      </p:sp>
    </p:spTree>
  </p:cSld>
  <p:transition spd="med">
    <p:pull dir="rd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2000"/>
                                        <p:tgtEl>
                                          <p:spTgt spid="6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4960" y="274320"/>
            <a:ext cx="59277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tent for rounds 7, 8 &amp;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90600" y="2205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8360" y="1628640"/>
          <a:ext cx="7705800" cy="4040280"/>
        </p:xfrm>
        <a:graphic>
          <a:graphicData uri="http://schemas.openxmlformats.org/drawingml/2006/table">
            <a:tbl>
              <a:tblPr/>
              <a:tblGrid>
                <a:gridCol w="1366920"/>
                <a:gridCol w="1682640"/>
                <a:gridCol w="2357280"/>
                <a:gridCol w="2298960"/>
              </a:tblGrid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ssion 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ssion 2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ession 3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187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Sept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c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: -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lity Control &amp; Reli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mple content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‘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udent Design Folder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 &amp; Option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tion an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unication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Nov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De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on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facturing Systems 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re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ructures &amp; Mechanis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chnology &amp; Socie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on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ed Control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bo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und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Feb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Mar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on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ufacturing Systems 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on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erial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ption: 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plied Control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euma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F2B-DC17-4E96-B8A9-4C94F564FC8A}" type="slidenum">
              <a:t>8</a:t>
            </a:fld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0:36:06Z</dcterms:created>
  <dc:creator>Niamh Ni Mhuiri</dc:creator>
  <dc:description/>
  <dc:language>en-US</dc:language>
  <cp:lastModifiedBy>GEC</cp:lastModifiedBy>
  <dcterms:modified xsi:type="dcterms:W3CDTF">2008-09-24T14:17:57Z</dcterms:modified>
  <cp:revision>114</cp:revision>
  <dc:subject/>
  <dc:title>T4</dc:title>
</cp:coreProperties>
</file>