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2.png" ContentType="image/png"/>
  <Override PartName="/ppt/media/image3.gif" ContentType="image/gif"/>
  <Override PartName="/ppt/media/image23.gif" ContentType="image/gif"/>
  <Override PartName="/ppt/media/image15.png" ContentType="image/png"/>
  <Override PartName="/ppt/media/image22.gif" ContentType="image/gif"/>
  <Override PartName="/ppt/media/image14.png" ContentType="image/png"/>
  <Override PartName="/ppt/media/image20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498-DD1D-45E0-BCB8-975EF0D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5BC-A310-4EF6-A7AF-0D2F8AA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A55-BBDF-430A-851D-FDBD7623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0A9-C378-4E05-BF0F-0C12EA4C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3FF-A735-4ED8-9E0C-B6366CF3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0FE-881A-4020-848F-3972AA9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3BC-0F11-42A6-8052-BD7325D2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22D-2427-4F8B-A66C-BC3B051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E04-509C-408C-BB85-F974A9E8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BE6-F58C-45E5-994E-8E060DC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31A-17DC-4203-8960-8F70178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D9B-2830-4279-BBD4-9F76C0B9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940-0FB5-49BF-8415-0EA0E901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5256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24360" y="1773360"/>
            <a:ext cx="2592720" cy="3600360"/>
            <a:chOff x="5724360" y="1773360"/>
            <a:chExt cx="2592720" cy="3600360"/>
          </a:xfrm>
        </p:grpSpPr>
        <p:sp>
          <p:nvSpPr>
            <p:cNvPr id="44" name=""/>
            <p:cNvSpPr/>
            <p:nvPr/>
          </p:nvSpPr>
          <p:spPr>
            <a:xfrm>
              <a:off x="5724360" y="1773360"/>
              <a:ext cx="2521080" cy="360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796000" y="1844640"/>
              <a:ext cx="201780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flipH="1" flipV="1">
              <a:off x="7308720" y="3357720"/>
              <a:ext cx="5032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6948000" y="2204640"/>
              <a:ext cx="574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5278320" y="2506680"/>
              <a:ext cx="16099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443640" y="4221000"/>
              <a:ext cx="7905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80360" y="37893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9308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Fol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835280" y="2276640"/>
            <a:ext cx="3744720" cy="28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907920"/>
            <a:ext cx="5194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is a device which can convert rotary motion (circular motion) into linear motion (movement in a straight line)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s (val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58100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2781360"/>
            <a:ext cx="1150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lanes.gif (6649 bytes)"/>
          <p:cNvPicPr/>
          <p:nvPr/>
        </p:nvPicPr>
        <p:blipFill>
          <a:blip r:embed="rId2"/>
          <a:stretch/>
        </p:blipFill>
        <p:spPr>
          <a:xfrm>
            <a:off x="5148360" y="981000"/>
            <a:ext cx="2409840" cy="230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095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The cam can have various shapes. These are know as cam prof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1400040" cy="17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1152720" cy="178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411280" y="4005360"/>
            <a:ext cx="10764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95280" y="3860640"/>
            <a:ext cx="109692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602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602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602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11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300720" y="1341360"/>
            <a:ext cx="719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276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ollower is a component which is designed to move up and down as it follows the edge of the ca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105912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124272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12556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588000" y="3429000"/>
            <a:ext cx="1257480" cy="201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5589720"/>
            <a:ext cx="136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if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5589720"/>
            <a:ext cx="11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lat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558972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589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780000" y="0"/>
            <a:ext cx="5148000" cy="38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56000" y="21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34936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16360" y="1197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5113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'bumps' on a cam are call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lob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square cam illustrated has four lobes, and lifts the follower four times each revolu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1952640" cy="3191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40360" y="429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quare 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20000" y="191628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588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838680" cy="176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5445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amples of other rotary cam pro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Examples of a Rotary cams in 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20364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2903400" cy="281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30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ontrol the movement of the engine va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s used in a p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3827520" cy="4321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0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The linear cam moves backwards and forwards in a reciprocating mo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76720" y="2852640"/>
            <a:ext cx="1800720" cy="1079640"/>
            <a:chOff x="6876720" y="2852640"/>
            <a:chExt cx="1800720" cy="1079640"/>
          </a:xfrm>
        </p:grpSpPr>
        <p:sp>
          <p:nvSpPr>
            <p:cNvPr id="107" name=""/>
            <p:cNvSpPr/>
            <p:nvPr/>
          </p:nvSpPr>
          <p:spPr>
            <a:xfrm>
              <a:off x="7093080" y="2852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Linear c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876720" y="328464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971640" y="3357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istance moved by the 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68360" y="3716280"/>
            <a:ext cx="2519640" cy="576360"/>
            <a:chOff x="2268360" y="3716280"/>
            <a:chExt cx="2519640" cy="576360"/>
          </a:xfrm>
        </p:grpSpPr>
        <p:sp>
          <p:nvSpPr>
            <p:cNvPr id="111" name=""/>
            <p:cNvSpPr/>
            <p:nvPr/>
          </p:nvSpPr>
          <p:spPr>
            <a:xfrm flipH="1">
              <a:off x="3059280" y="429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059280" y="3716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371628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68360" y="3716280"/>
              <a:ext cx="721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59280" y="22766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am Fol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56536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REC"/>
          <p:cNvPicPr/>
          <p:nvPr/>
        </p:nvPicPr>
        <p:blipFill>
          <a:blip r:embed="rId3"/>
          <a:stretch/>
        </p:blipFill>
        <p:spPr>
          <a:xfrm>
            <a:off x="3203640" y="5157720"/>
            <a:ext cx="4500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1341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s can also be cylindrical in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elow a cylindrical cam and roller follow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4869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cam follower does not have to move up and down - it can be an oscillating lever as shown above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2738520" cy="2879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5508720" y="4581360"/>
            <a:ext cx="2665080" cy="1736640"/>
            <a:chOff x="5508720" y="4581360"/>
            <a:chExt cx="2665080" cy="1736640"/>
          </a:xfrm>
        </p:grpSpPr>
        <p:pic>
          <p:nvPicPr>
            <p:cNvPr id="124" name="Picture 7" descr=""/>
            <p:cNvPicPr/>
            <p:nvPr/>
          </p:nvPicPr>
          <p:blipFill>
            <a:blip r:embed="rId4"/>
            <a:stretch/>
          </p:blipFill>
          <p:spPr>
            <a:xfrm>
              <a:off x="5508720" y="4963680"/>
              <a:ext cx="26650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08720" y="4581360"/>
              <a:ext cx="24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333399"/>
                  </a:solidFill>
                  <a:latin typeface="Arial"/>
                </a:rPr>
                <a:t>Cam rise and 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94480" y="5155560"/>
              <a:ext cx="13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rial"/>
                </a:rPr>
                <a:t>Max L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92040" y="5828040"/>
              <a:ext cx="12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Min L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5:17Z</dcterms:modified>
  <cp:revision>173</cp:revision>
  <dc:subject/>
  <dc:title>Slide 1</dc:title>
</cp:coreProperties>
</file>