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12.png" ContentType="image/png"/>
  <Override PartName="/ppt/media/image3.gif" ContentType="image/gif"/>
  <Override PartName="/ppt/media/image23.gif" ContentType="image/gif"/>
  <Override PartName="/ppt/media/image15.png" ContentType="image/png"/>
  <Override PartName="/ppt/media/image22.gif" ContentType="image/gif"/>
  <Override PartName="/ppt/media/image14.png" ContentType="image/png"/>
  <Override PartName="/ppt/media/image20.gif" ContentType="image/gif"/>
  <Override PartName="/ppt/media/image24.png" ContentType="image/png"/>
  <Override PartName="/ppt/media/image21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7.gif" ContentType="image/gif"/>
  <Override PartName="/ppt/media/image2.jpeg" ContentType="image/jpeg"/>
  <Override PartName="/ppt/media/image1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947-175E-4CF7-A3CC-CDEB98DC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190-05C2-4DD3-A610-6EE59617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37B-8A1F-4CEA-BF9E-7C0DA450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A03-1C71-4CF0-92CA-13959036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2DA-745F-4A41-B769-FF90FB75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B7B3-2C9F-4B90-A159-48D2341B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FE1-E26D-4561-B093-BF0B8EB7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BB7-DF7C-4D21-8EE6-157157BD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115920"/>
            <a:ext cx="67071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A79-6616-405D-A811-6D64521A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342-78A9-4816-A272-DB63306A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35E-CB51-445B-B80C-E384AE4B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019-9901-4694-AA1F-8A4901D6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6C2E-AB6A-450E-931D-2DACCED47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692280"/>
            <a:ext cx="568944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Structu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echanism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5256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Arial"/>
              </a:rPr>
              <a:t>Cam and Follow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24360" y="1773360"/>
            <a:ext cx="2592720" cy="3600360"/>
            <a:chOff x="5724360" y="1773360"/>
            <a:chExt cx="2592720" cy="3600360"/>
          </a:xfrm>
        </p:grpSpPr>
        <p:sp>
          <p:nvSpPr>
            <p:cNvPr id="44" name=""/>
            <p:cNvSpPr/>
            <p:nvPr/>
          </p:nvSpPr>
          <p:spPr>
            <a:xfrm>
              <a:off x="5724360" y="1773360"/>
              <a:ext cx="2521080" cy="3600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5796000" y="1844640"/>
              <a:ext cx="2017800" cy="23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flipH="1" flipV="1">
              <a:off x="7308720" y="3357720"/>
              <a:ext cx="50328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6948000" y="2204640"/>
              <a:ext cx="57492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 rot="16200000">
              <a:off x="5278320" y="2506680"/>
              <a:ext cx="160992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6443640" y="4221000"/>
              <a:ext cx="7905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380360" y="378936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C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93080" y="2349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Follo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835280" y="2276640"/>
            <a:ext cx="3744720" cy="280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907920"/>
            <a:ext cx="51944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cam and followe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is a device which can convert rotary motion (circular motion) into linear motion (movement in a straight line)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5589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llowers (val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256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581000"/>
            <a:ext cx="1440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92360" y="2781360"/>
            <a:ext cx="1150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planes.gif (6649 bytes)"/>
          <p:cNvPicPr/>
          <p:nvPr/>
        </p:nvPicPr>
        <p:blipFill>
          <a:blip r:embed="rId2"/>
          <a:stretch/>
        </p:blipFill>
        <p:spPr>
          <a:xfrm>
            <a:off x="5148360" y="981000"/>
            <a:ext cx="2409840" cy="2305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Arial"/>
              </a:rPr>
              <a:t>Cam and Follow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095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The cam can have various shapes. These are know as cam profi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443640" y="4076640"/>
            <a:ext cx="1400040" cy="176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716360" y="4005360"/>
            <a:ext cx="1152720" cy="1780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411280" y="4005360"/>
            <a:ext cx="1076400" cy="1752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95280" y="3860640"/>
            <a:ext cx="1096920" cy="1800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1280" y="602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6021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602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4000" y="6021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13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1125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fol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300720" y="1341360"/>
            <a:ext cx="719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27664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Arial"/>
              </a:rPr>
              <a:t>Cam and Follow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251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follower is a component which is designed to move up and down as it follows the edge of the ca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1059120" cy="1872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24000" y="3429000"/>
            <a:ext cx="1242720" cy="1871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500720" y="3429000"/>
            <a:ext cx="1255680" cy="201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588000" y="3429000"/>
            <a:ext cx="1257480" cy="201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4000" y="5589720"/>
            <a:ext cx="1366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Knife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l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27280" y="5589720"/>
            <a:ext cx="11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lat f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l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5589720"/>
            <a:ext cx="12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f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l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5589720"/>
            <a:ext cx="10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l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780000" y="0"/>
            <a:ext cx="5148000" cy="3860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356000" y="21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48360" y="981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l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2349360"/>
            <a:ext cx="576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516360" y="1197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Arial"/>
              </a:rPr>
              <a:t>Cam and Follow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51134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The 'bumps' on a cam are call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lob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The square cam illustrated has four lobes, and lifts the follower four times each revolu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580000" y="981000"/>
            <a:ext cx="1952640" cy="3191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940360" y="429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Square c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148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Fol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020000" y="1916280"/>
            <a:ext cx="504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588000" y="393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3838680" cy="1762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5640" y="5445000"/>
            <a:ext cx="44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Examples of other rotary cam pro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Arial"/>
              </a:rPr>
              <a:t>Cam and Follow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ahoma"/>
              </a:rPr>
              <a:t>Examples of a Rotary cams in op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3203640" cy="3716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148360" y="1989000"/>
            <a:ext cx="2903400" cy="2813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530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ontrol the movement of the engine val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508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ams used in a pu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76720" y="765000"/>
            <a:ext cx="3827520" cy="4321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Arial"/>
              </a:rPr>
              <a:t>Cam and Follow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640" y="907560"/>
            <a:ext cx="70581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Tahoma"/>
              </a:rPr>
              <a:t>The linear cam moves backwards and forwards in a reciprocating mo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876720" y="2852640"/>
            <a:ext cx="1800720" cy="1079640"/>
            <a:chOff x="6876720" y="2852640"/>
            <a:chExt cx="1800720" cy="1079640"/>
          </a:xfrm>
        </p:grpSpPr>
        <p:sp>
          <p:nvSpPr>
            <p:cNvPr id="107" name=""/>
            <p:cNvSpPr/>
            <p:nvPr/>
          </p:nvSpPr>
          <p:spPr>
            <a:xfrm>
              <a:off x="7093080" y="285264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800" spc="-1" strike="noStrike">
                  <a:solidFill>
                    <a:srgbClr val="000000"/>
                  </a:solidFill>
                  <a:latin typeface="Arial"/>
                </a:rPr>
                <a:t>Linear c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876720" y="3284640"/>
              <a:ext cx="647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971640" y="335772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Distance moved by the fol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68360" y="3716280"/>
            <a:ext cx="2519640" cy="576360"/>
            <a:chOff x="2268360" y="3716280"/>
            <a:chExt cx="2519640" cy="576360"/>
          </a:xfrm>
        </p:grpSpPr>
        <p:sp>
          <p:nvSpPr>
            <p:cNvPr id="111" name=""/>
            <p:cNvSpPr/>
            <p:nvPr/>
          </p:nvSpPr>
          <p:spPr>
            <a:xfrm flipH="1">
              <a:off x="3059280" y="429264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059280" y="3716280"/>
              <a:ext cx="172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3640" y="3716280"/>
              <a:ext cx="0" cy="576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68360" y="3716280"/>
              <a:ext cx="7210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59280" y="227664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600" spc="-1" strike="noStrike">
                <a:solidFill>
                  <a:srgbClr val="000000"/>
                </a:solidFill>
                <a:latin typeface="Arial"/>
              </a:rPr>
              <a:t>Cam Foll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2565360"/>
            <a:ext cx="865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REC"/>
          <p:cNvPicPr/>
          <p:nvPr/>
        </p:nvPicPr>
        <p:blipFill>
          <a:blip r:embed="rId3"/>
          <a:stretch/>
        </p:blipFill>
        <p:spPr>
          <a:xfrm>
            <a:off x="3203640" y="5157720"/>
            <a:ext cx="450036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670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000000"/>
                </a:solidFill>
                <a:latin typeface="Arial"/>
              </a:rPr>
              <a:t>Cam and Follow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4032360" cy="3024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76720" y="134136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Cams can also be cylindrical in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Below a cylindrical cam and roller follower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486900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AU" sz="1800" spc="-1" strike="noStrike">
                <a:solidFill>
                  <a:srgbClr val="000000"/>
                </a:solidFill>
                <a:latin typeface="Arial"/>
              </a:rPr>
              <a:t>The cam follower does not have to move up and down - it can be an oscillating lever as shown above.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16360" y="2060640"/>
            <a:ext cx="2738520" cy="287964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5508720" y="4581360"/>
            <a:ext cx="2665080" cy="1736640"/>
            <a:chOff x="5508720" y="4581360"/>
            <a:chExt cx="2665080" cy="1736640"/>
          </a:xfrm>
        </p:grpSpPr>
        <p:pic>
          <p:nvPicPr>
            <p:cNvPr id="124" name="Picture 7" descr=""/>
            <p:cNvPicPr/>
            <p:nvPr/>
          </p:nvPicPr>
          <p:blipFill>
            <a:blip r:embed="rId4"/>
            <a:stretch/>
          </p:blipFill>
          <p:spPr>
            <a:xfrm>
              <a:off x="5508720" y="4963680"/>
              <a:ext cx="266508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508720" y="4581360"/>
              <a:ext cx="24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400" spc="-1" strike="noStrike">
                  <a:solidFill>
                    <a:srgbClr val="333399"/>
                  </a:solidFill>
                  <a:latin typeface="Arial"/>
                </a:rPr>
                <a:t>Cam rise and F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94480" y="5155560"/>
              <a:ext cx="138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IE" sz="1400" spc="-1" strike="noStrike">
                  <a:solidFill>
                    <a:srgbClr val="000000"/>
                  </a:solidFill>
                  <a:latin typeface="Arial"/>
                </a:rPr>
                <a:t>Max Li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92040" y="5828040"/>
              <a:ext cx="12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400" spc="-1" strike="noStrike">
                  <a:solidFill>
                    <a:srgbClr val="000000"/>
                  </a:solidFill>
                  <a:latin typeface="Arial"/>
                </a:rPr>
                <a:t>Min Lif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2:13:45Z</dcterms:created>
  <dc:creator>Tadhg O'Sullivan</dc:creator>
  <dc:description/>
  <dc:language>en-US</dc:language>
  <cp:lastModifiedBy>Pat Lynch</cp:lastModifiedBy>
  <dcterms:modified xsi:type="dcterms:W3CDTF">2009-02-11T08:55:17Z</dcterms:modified>
  <cp:revision>173</cp:revision>
  <dc:subject/>
  <dc:title>Slide 1</dc:title>
</cp:coreProperties>
</file>