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2.gif" ContentType="image/gif"/>
  <Override PartName="/ppt/media/image3.jpeg" ContentType="image/jpeg"/>
  <Override PartName="/ppt/media/image11.png" ContentType="image/png"/>
  <Override PartName="/ppt/media/image9.gif" ContentType="image/gif"/>
  <Override PartName="/ppt/media/image8.gif" ContentType="image/gif"/>
  <Override PartName="/ppt/media/image20.jpeg" ContentType="image/jpeg"/>
  <Override PartName="/ppt/media/image14.gif" ContentType="image/gif"/>
  <Override PartName="/ppt/media/image19.gif" ContentType="image/gif"/>
  <Override PartName="/ppt/media/image17.gif" ContentType="image/gif"/>
  <Override PartName="/ppt/media/image2.jpeg" ContentType="image/jpeg"/>
  <Override PartName="/ppt/media/image16.jpeg" ContentType="image/jpeg"/>
  <Override PartName="/ppt/media/image18.png" ContentType="image/png"/>
  <Override PartName="/ppt/media/image15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6B0-4FE4-46E8-855F-CEC44B7F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82C-65C5-48F9-9211-D2C6AEA1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9062-7419-4592-ABBF-09C558B3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457-F18B-40C4-82DC-720240B1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53BA-9EAC-4576-8240-D3EEE1CC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0DA5-7D9D-4CC6-B8F5-E336618F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CD0-5BFB-4297-8AEC-5ECD7FC8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9B6F-92AD-4C07-942A-0614C314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115920"/>
            <a:ext cx="67071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AE1-E271-4A8D-A844-390FEDAE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BFB-6197-4C30-9196-EFCCDDC7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48E-2425-4FD3-B58D-DF072B05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7C5-3D93-4391-9CA7-98541EA7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344D-F1A3-4059-9042-52A5A8C44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hyperlink" Target="http://catalog.pitsco.com/ImagePopup.aspx?reftype=2&amp;refid=6&amp;defimg=106&amp;pop=1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692280"/>
            <a:ext cx="568944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tructu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echanism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G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3827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AU" sz="1800" spc="-1" strike="noStrike">
                <a:solidFill>
                  <a:srgbClr val="000000"/>
                </a:solidFill>
                <a:latin typeface="Tahoma"/>
              </a:rPr>
              <a:t>The worm gear is always the drive g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4321440" cy="218268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716360" y="1700280"/>
            <a:ext cx="3240360" cy="2817000"/>
            <a:chOff x="4716360" y="1700280"/>
            <a:chExt cx="3240360" cy="2817000"/>
          </a:xfrm>
        </p:grpSpPr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4716360" y="1700280"/>
              <a:ext cx="3240360" cy="21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293080" y="4149000"/>
              <a:ext cx="206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orm and wheel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899640" y="835560"/>
            <a:ext cx="33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Arial"/>
              </a:rPr>
              <a:t>Worm gear and whee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G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2060640"/>
            <a:ext cx="3529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Tahoma"/>
              </a:rPr>
              <a:t>The rack and pinion gear is used to convert between rotary and linear motion.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3716280"/>
            <a:ext cx="6193080" cy="2486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72360" y="90684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Rack and Pin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43280" y="981000"/>
            <a:ext cx="2310120" cy="388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32720" y="314172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Heavy Du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Car J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G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60483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Bevel gears are used to transfer drive through an angle of 90</a:t>
            </a:r>
            <a:r>
              <a:rPr b="1" i="1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24360" y="2133720"/>
            <a:ext cx="4176720" cy="3098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654160" y="55159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Bevel Gea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8360" y="2997360"/>
            <a:ext cx="3384360" cy="2903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71280" y="88272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Bevel g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15920"/>
            <a:ext cx="6553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Important Calculations : -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55736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k Do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Force x Distance moved in the direction of the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5440" y="2708280"/>
            <a:ext cx="20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=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28526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 Time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2852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42100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 Work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7280" y="3932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63640" y="3500280"/>
            <a:ext cx="4176720" cy="830880"/>
            <a:chOff x="1763640" y="3500280"/>
            <a:chExt cx="4176720" cy="830880"/>
          </a:xfrm>
        </p:grpSpPr>
        <p:sp>
          <p:nvSpPr>
            <p:cNvPr id="134" name=""/>
            <p:cNvSpPr/>
            <p:nvPr/>
          </p:nvSpPr>
          <p:spPr>
            <a:xfrm>
              <a:off x="1763640" y="371628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Efficiency %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24360" y="350028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wer 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24360" y="3932280"/>
              <a:ext cx="18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wer In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95280" y="547992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iction: 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Resists the movement of one surface over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08720" y="3789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35280" y="4437000"/>
            <a:ext cx="49687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"/>
              </a:rPr>
              <a:t>Efficiency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Mechanical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Velocity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4869000"/>
            <a:ext cx="244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G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052640"/>
            <a:ext cx="7704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gear is a wheel with teeth on its outer ed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eeth of one gear mesh (or engage) with the teeth of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00000" y="2276640"/>
            <a:ext cx="3024360" cy="227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43280" y="544500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Gears meshing or eng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G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36576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Driver and Drive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wo meshed gears always rotate in opposite direction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5734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Driver 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558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Driven 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050920" y="4797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5724000" y="4723920"/>
            <a:ext cx="287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68360" y="2491560"/>
            <a:ext cx="3745080" cy="2556720"/>
            <a:chOff x="2268360" y="2491560"/>
            <a:chExt cx="3745080" cy="255672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268360" y="3141720"/>
              <a:ext cx="3745080" cy="19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061080" y="2491560"/>
              <a:ext cx="141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pur Gea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348000" y="1413000"/>
            <a:ext cx="3672000" cy="4147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G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6373800" y="31417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dler 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1700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4581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227280" y="1773360"/>
            <a:ext cx="505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5796000" y="3284280"/>
            <a:ext cx="504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084720" y="4508640"/>
            <a:ext cx="935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126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er g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95280" y="3860640"/>
            <a:ext cx="42418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5113080" cy="3470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G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91628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Multiple gears can be connected together to form a gear t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98100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Simple Gear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4360" y="42926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Each shaft carries only one gear whe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47640" y="5300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Intermediate gears are known as Idler G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G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" descr="Click for thumbnail"/>
          <p:cNvPicPr/>
          <p:nvPr/>
        </p:nvPicPr>
        <p:blipFill>
          <a:blip r:embed="rId2"/>
          <a:stretch/>
        </p:blipFill>
        <p:spPr>
          <a:xfrm>
            <a:off x="971640" y="3141720"/>
            <a:ext cx="2041560" cy="2305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26920" y="8366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333399"/>
                </a:solidFill>
                <a:latin typeface="Arial"/>
              </a:rPr>
              <a:t>Compound Gear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270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2852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Compound G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5877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306864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79280" y="3357720"/>
            <a:ext cx="8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476360" y="5300280"/>
            <a:ext cx="358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987640" y="3716280"/>
            <a:ext cx="4969080" cy="2597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859280" y="1052640"/>
            <a:ext cx="3529080" cy="3074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71640" y="148428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If two gear wheels are mounted on a common shaft then it’s a Compound Gear t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2933640" cy="3311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G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92000" y="1341360"/>
            <a:ext cx="4753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Generally, the Gear Ratio is calculated by counting the teeth of the two gears, and applying the following formul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426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4797360"/>
            <a:ext cx="5184720" cy="80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ar ratio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umber of teeth on driven 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Number of teeth on driver 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836640"/>
            <a:ext cx="2952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Gear Ratio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76720" y="1052640"/>
            <a:ext cx="2853000" cy="2879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G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1268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Gear Ratio -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A 100 tooth gear drives a 25 tooth gear. Calculate the gear ratio for the meshing teeth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860640"/>
            <a:ext cx="6408720" cy="80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ar ratio =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umber of teeth on driven 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Number of teeth on driver 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5084640"/>
            <a:ext cx="720108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Gear ratio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=       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driven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river      100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This is written as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1: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G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9079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333399"/>
                </a:solidFill>
                <a:latin typeface="Arial"/>
              </a:rPr>
              <a:t>Gear Speed :-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170028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A motor gear has 28 teeth and revolves at 100 rev/min. The driven gear has 10 teeth. What is its rotational sp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4005360"/>
            <a:ext cx="691200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 of driven gear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umber of teeth on driver g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x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Number of teeth on driven 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5157720"/>
            <a:ext cx="684072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 of driven gear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riv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x  100  =   280 rev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drive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716360" y="1268280"/>
            <a:ext cx="3454560" cy="2670120"/>
            <a:chOff x="4716360" y="1268280"/>
            <a:chExt cx="3454560" cy="267012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5867280" y="1268280"/>
              <a:ext cx="2303640" cy="20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716360" y="2708280"/>
              <a:ext cx="122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600" spc="-1" strike="noStrike">
                  <a:solidFill>
                    <a:srgbClr val="000000"/>
                  </a:solidFill>
                  <a:latin typeface="Arial"/>
                </a:rPr>
                <a:t>28 teeth, dr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56360" y="3357720"/>
              <a:ext cx="108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600" spc="-1" strike="noStrike">
                  <a:solidFill>
                    <a:srgbClr val="000000"/>
                  </a:solidFill>
                  <a:latin typeface="Arial"/>
                </a:rPr>
                <a:t>10 teeth, driv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020000" y="3357360"/>
              <a:ext cx="3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580000" y="2852640"/>
              <a:ext cx="503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2:13:45Z</dcterms:created>
  <dc:creator>Tadhg O'Sullivan</dc:creator>
  <dc:description/>
  <dc:language>en-US</dc:language>
  <cp:lastModifiedBy>Pat Lynch</cp:lastModifiedBy>
  <dcterms:modified xsi:type="dcterms:W3CDTF">2009-02-11T08:56:06Z</dcterms:modified>
  <cp:revision>189</cp:revision>
  <dc:subject/>
  <dc:title>Slide 1</dc:title>
</cp:coreProperties>
</file>