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2.gif" ContentType="image/gif"/>
  <Override PartName="/ppt/media/image3.jpeg" ContentType="image/jpeg"/>
  <Override PartName="/ppt/media/image11.png" ContentType="image/png"/>
  <Override PartName="/ppt/media/image9.gif" ContentType="image/gif"/>
  <Override PartName="/ppt/media/image8.gif" ContentType="image/gif"/>
  <Override PartName="/ppt/media/image20.jpeg" ContentType="image/jpeg"/>
  <Override PartName="/ppt/media/image14.gif" ContentType="image/gif"/>
  <Override PartName="/ppt/media/image19.gif" ContentType="image/gif"/>
  <Override PartName="/ppt/media/image17.gif" ContentType="image/gif"/>
  <Override PartName="/ppt/media/image2.jpeg" ContentType="image/jpeg"/>
  <Override PartName="/ppt/media/image16.jpeg" ContentType="image/jpeg"/>
  <Override PartName="/ppt/media/image18.png" ContentType="image/png"/>
  <Override PartName="/ppt/media/image15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C32-5265-41C0-8BC0-E029F072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7DAD-0DA0-47E3-A417-DB741624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28E-9D18-4DBC-BA57-16C5E29D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5A5-1170-49C6-BF84-D76C7A4F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54C-FF03-4873-BB1F-4D32C894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C02-E76C-4BAD-80CE-47816201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DF6-AFFC-4F6D-A195-CCF6149F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DA0-A492-4497-BBF0-5BA55B56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115920"/>
            <a:ext cx="67071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1C7-88EF-4DD6-AD30-AF453EAF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AFA-464B-448B-8887-1EE2C99E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7B7-C7BD-499B-BF5A-22CFD63F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646-B01E-48DA-99F2-806FDAD3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6977-C93F-49F4-A7C8-6A595D380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hyperlink" Target="http://catalog.pitsco.com/ImagePopup.aspx?reftype=2&amp;refid=6&amp;defimg=106&amp;pop=1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692280"/>
            <a:ext cx="568944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truct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echanism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3827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AU" sz="1800" spc="-1" strike="noStrike">
                <a:solidFill>
                  <a:srgbClr val="000000"/>
                </a:solidFill>
                <a:latin typeface="Tahoma"/>
              </a:rPr>
              <a:t>The worm gear is always the drive g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4321440" cy="218268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716360" y="1700280"/>
            <a:ext cx="3240360" cy="2817000"/>
            <a:chOff x="4716360" y="1700280"/>
            <a:chExt cx="3240360" cy="2817000"/>
          </a:xfrm>
        </p:grpSpPr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4716360" y="1700280"/>
              <a:ext cx="3240360" cy="21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293080" y="4149000"/>
              <a:ext cx="206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orm and wheel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899640" y="835560"/>
            <a:ext cx="339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99"/>
                </a:solidFill>
                <a:latin typeface="Arial"/>
              </a:rPr>
              <a:t>Worm gear and whee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3529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Tahoma"/>
              </a:rPr>
              <a:t>The rack and pinion gear is used to convert between rotary and linear motion.</a:t>
            </a: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6193080" cy="2486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72360" y="90684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Rack and Pin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43280" y="981000"/>
            <a:ext cx="2310120" cy="388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32720" y="314172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Heavy Du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ar J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604836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Bevel gears are used to transfer drive through an angle of 90</a:t>
            </a:r>
            <a:r>
              <a:rPr b="1" i="1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24360" y="2133720"/>
            <a:ext cx="4176720" cy="3098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654160" y="55159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Bevel Gea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8360" y="2997360"/>
            <a:ext cx="3384360" cy="2903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71280" y="88272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Bevel g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6553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Important Calculations : -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55736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ork Do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Force x Distance moved in the direction of the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5440" y="2708280"/>
            <a:ext cx="20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=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2852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 Time T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285264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42100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tal Work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3932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63640" y="3500280"/>
            <a:ext cx="4176720" cy="830880"/>
            <a:chOff x="1763640" y="3500280"/>
            <a:chExt cx="4176720" cy="830880"/>
          </a:xfrm>
        </p:grpSpPr>
        <p:sp>
          <p:nvSpPr>
            <p:cNvPr id="134" name=""/>
            <p:cNvSpPr/>
            <p:nvPr/>
          </p:nvSpPr>
          <p:spPr>
            <a:xfrm>
              <a:off x="1763640" y="371628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Efficiency %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24360" y="3500280"/>
              <a:ext cx="20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wer 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24360" y="3932280"/>
              <a:ext cx="18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wer In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95280" y="547992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iction: -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2000" spc="-1" strike="noStrike">
                <a:solidFill>
                  <a:srgbClr val="ff3300"/>
                </a:solidFill>
                <a:latin typeface="Arial"/>
              </a:rPr>
              <a:t>Resists the movement of one surface over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08720" y="37893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35280" y="4437000"/>
            <a:ext cx="49687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"/>
              </a:rPr>
              <a:t>Efficiency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Mechanical adva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Velocity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4869000"/>
            <a:ext cx="244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052640"/>
            <a:ext cx="7704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 gear is a wheel with teeth on its outer ed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eeth of one gear mesh (or engage) with the teeth of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00000" y="2276640"/>
            <a:ext cx="3024360" cy="227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43280" y="5445000"/>
            <a:ext cx="31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Gears meshing or eng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36576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Driver and Drive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wo meshed gears always rotate in opposite direction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543564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Driver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5589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Driven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050920" y="4797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724000" y="4723920"/>
            <a:ext cx="28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68360" y="2491560"/>
            <a:ext cx="3745080" cy="2556720"/>
            <a:chOff x="2268360" y="2491560"/>
            <a:chExt cx="3745080" cy="255672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268360" y="3141720"/>
              <a:ext cx="3745080" cy="19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061080" y="2491560"/>
              <a:ext cx="141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pur Gea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348000" y="1413000"/>
            <a:ext cx="3672000" cy="4147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6373800" y="31417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dler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1700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4581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227280" y="1773360"/>
            <a:ext cx="505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796000" y="3284280"/>
            <a:ext cx="504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084720" y="4508640"/>
            <a:ext cx="935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12682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er g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42418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5113080" cy="3470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971640" y="191628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Multiple gears can be connected together to form a gear t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98100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Simple Gear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4360" y="4292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Each shaft carries only one gear whe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47640" y="5300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Intermediate gears are known as Idler G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" descr="Click for thumbnail"/>
          <p:cNvPicPr/>
          <p:nvPr/>
        </p:nvPicPr>
        <p:blipFill>
          <a:blip r:embed="rId2"/>
          <a:stretch/>
        </p:blipFill>
        <p:spPr>
          <a:xfrm>
            <a:off x="971640" y="3141720"/>
            <a:ext cx="2041560" cy="230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26920" y="8366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3399"/>
                </a:solidFill>
                <a:latin typeface="Arial"/>
              </a:rPr>
              <a:t>Compound Gear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2708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2852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ompound G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5877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Dr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306864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79280" y="3357720"/>
            <a:ext cx="863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476360" y="5300280"/>
            <a:ext cx="358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987640" y="3716280"/>
            <a:ext cx="4969080" cy="2597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859280" y="1052640"/>
            <a:ext cx="3529080" cy="3074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148428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If two gear wheels are mounted on a common shaft then it’s a Compound Gear tr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2933640" cy="3311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92000" y="1341360"/>
            <a:ext cx="4753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Generally, the Gear Ratio is calculated by counting the teeth of the two gears, and applying the following formul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4267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4797360"/>
            <a:ext cx="5184720" cy="80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ar ratio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umber of teeth on driven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Number of teeth on driver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836640"/>
            <a:ext cx="2952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Gear Rati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76720" y="1052640"/>
            <a:ext cx="2853000" cy="2879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1268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Gear Ratio -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05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A 100 tooth gear drives a 25 tooth gear. Calculate the gear ratio for the meshing teeth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3860640"/>
            <a:ext cx="6408720" cy="80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ar ratio =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umber of teeth on driven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Number of teeth on driver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5084640"/>
            <a:ext cx="720108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Gear ratio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=        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driven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25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river      100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This is written as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1: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ahoma"/>
              </a:rPr>
              <a:t>G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9079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333399"/>
                </a:solidFill>
                <a:latin typeface="Arial"/>
              </a:rPr>
              <a:t>Gear Speed :-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170028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Arial"/>
              </a:rPr>
              <a:t>A motor gear has 28 teeth and revolves at 100 rev/min. The driven gear has 10 teeth. What is its rotational sp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4005360"/>
            <a:ext cx="691200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 of driven gear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umber of teeth on driver g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x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Number of teeth on driven g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5157720"/>
            <a:ext cx="684072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 of driven gear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riv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x  100  =   280 rev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drive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716360" y="1268280"/>
            <a:ext cx="3454560" cy="2670120"/>
            <a:chOff x="4716360" y="1268280"/>
            <a:chExt cx="3454560" cy="267012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5867280" y="1268280"/>
              <a:ext cx="2303640" cy="20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716360" y="2708280"/>
              <a:ext cx="122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600" spc="-1" strike="noStrike">
                  <a:solidFill>
                    <a:srgbClr val="000000"/>
                  </a:solidFill>
                  <a:latin typeface="Arial"/>
                </a:rPr>
                <a:t>28 teeth, dr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56360" y="3357720"/>
              <a:ext cx="108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600" spc="-1" strike="noStrike">
                  <a:solidFill>
                    <a:srgbClr val="000000"/>
                  </a:solidFill>
                  <a:latin typeface="Arial"/>
                </a:rPr>
                <a:t>10 teeth, driv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020000" y="3357360"/>
              <a:ext cx="3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580000" y="2852640"/>
              <a:ext cx="5032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2:13:45Z</dcterms:created>
  <dc:creator>Tadhg O'Sullivan</dc:creator>
  <dc:description/>
  <dc:language>en-US</dc:language>
  <cp:lastModifiedBy>Pat Lynch</cp:lastModifiedBy>
  <dcterms:modified xsi:type="dcterms:W3CDTF">2009-02-11T08:56:06Z</dcterms:modified>
  <cp:revision>189</cp:revision>
  <dc:subject/>
  <dc:title>Slide 1</dc:title>
</cp:coreProperties>
</file>