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gif" ContentType="image/gif"/>
  <Override PartName="/ppt/media/image4.gif" ContentType="image/gif"/>
  <Override PartName="/ppt/media/image8.png" ContentType="image/png"/>
  <Override PartName="/ppt/media/image13.png" ContentType="image/png"/>
  <Override PartName="/ppt/media/image6.gif" ContentType="image/gif"/>
  <Override PartName="/ppt/media/image11.gif" ContentType="image/gif"/>
  <Override PartName="/ppt/media/image7.jpeg" ContentType="image/jpeg"/>
  <Override PartName="/ppt/media/image9.gif" ContentType="image/gif"/>
  <Override PartName="/ppt/media/image10.gif" ContentType="image/gif"/>
  <Override PartName="/ppt/media/image1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717E-C209-4AD4-8E9F-3910CE790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9D43-0A43-419A-A1FE-96B4C2C76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9F1A-2504-4175-97E5-608F2FDD2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81F2-A3E4-445E-83FC-54F993F31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AA51-FAAB-4CCF-8590-BB3575A12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5238-78FD-4813-A2E9-48FFF8009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861E-508F-4FE7-BB0A-4B39F6573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E86B-E7F6-4756-9528-79A0420B9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5280" y="115920"/>
            <a:ext cx="670716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0167-139F-4F5F-B79C-F4A84A85C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9D85-A8D9-485E-8DCD-1647B551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618F-8858-4F59-B347-4D2D077B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0959-EB14-4D5E-BFD4-5C190216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16D31-724C-4DA3-A871-B35338B2A2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92360" y="692280"/>
            <a:ext cx="5689440" cy="47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Structur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Mechanisms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Tahoma"/>
              </a:rPr>
              <a:t>Linkag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42560" y="1052280"/>
            <a:ext cx="5545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ahoma"/>
              </a:rPr>
              <a:t>A linkage is a mechanism made by connecting together two or more levers.</a:t>
            </a:r>
            <a:r>
              <a:rPr b="0" lang="en-AU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"/>
          <p:cNvSpPr/>
          <p:nvPr/>
        </p:nvSpPr>
        <p:spPr>
          <a:xfrm>
            <a:off x="3203640" y="580536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Windscreen wipers on a 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979640" y="2276640"/>
            <a:ext cx="5186160" cy="27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5280" y="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Tahoma"/>
              </a:rPr>
              <a:t>Linkag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219640" y="1844640"/>
            <a:ext cx="2987640" cy="2130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936320" y="4941000"/>
            <a:ext cx="291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Reverse Motion Link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77080" y="2637000"/>
            <a:ext cx="151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Fulcr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or pivot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732720" y="2924280"/>
            <a:ext cx="406440" cy="73080"/>
          </a:xfrm>
          <a:custGeom>
            <a:avLst/>
            <a:gdLst/>
            <a:ahLst/>
            <a:rect l="l" t="t" r="r" b="b"/>
            <a:pathLst>
              <a:path w="256" h="46">
                <a:moveTo>
                  <a:pt x="256" y="46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155736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Reverse Motion Lin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042920" y="2637000"/>
            <a:ext cx="3240000" cy="3193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971640" y="6093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Garage D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7280" y="4221000"/>
            <a:ext cx="503280" cy="43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9280" y="3497400"/>
            <a:ext cx="2122200" cy="796680"/>
          </a:xfrm>
          <a:custGeom>
            <a:avLst/>
            <a:gdLst/>
            <a:ahLst/>
            <a:rect l="l" t="t" r="r" b="b"/>
            <a:pathLst>
              <a:path w="1337" h="502">
                <a:moveTo>
                  <a:pt x="0" y="502"/>
                </a:moveTo>
                <a:lnTo>
                  <a:pt x="1337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076720" y="1268280"/>
            <a:ext cx="3313080" cy="3313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Tahoma"/>
              </a:rPr>
              <a:t>Linkag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580000" y="1773360"/>
            <a:ext cx="2808360" cy="25876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710520" y="191556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 Bell Crank Lev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443640" y="3500280"/>
            <a:ext cx="2160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Fulcrum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Pivot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7092720" y="2997000"/>
            <a:ext cx="647640" cy="50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1341360"/>
            <a:ext cx="21603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Bell Crank Lev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826920" y="1844640"/>
            <a:ext cx="1789200" cy="1944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11280" y="4076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Bicycle Br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2556000" y="2852640"/>
            <a:ext cx="2489040" cy="3089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132000" y="5950080"/>
            <a:ext cx="15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Pedal B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64000" y="4653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Fulc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788000" y="5013360"/>
            <a:ext cx="792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Tahoma"/>
              </a:rPr>
              <a:t>Linkag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1280" y="1267920"/>
            <a:ext cx="30240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ahoma"/>
              </a:rPr>
              <a:t>Parallel Motion Linka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067280" y="1628640"/>
            <a:ext cx="2592360" cy="12193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788000" y="2997360"/>
            <a:ext cx="27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Parallel Motion Lin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95280" y="1989000"/>
            <a:ext cx="3306600" cy="3961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547640" y="544500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Tool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6012000" y="4149720"/>
            <a:ext cx="2087280" cy="1474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419640" y="4221000"/>
            <a:ext cx="23745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ahoma"/>
              </a:rPr>
              <a:t>Push-pull lin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596360" y="407664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Pivot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7667280" y="4437000"/>
            <a:ext cx="576360" cy="43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Tahoma"/>
              </a:rPr>
              <a:t>Linkag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979640" y="4365720"/>
            <a:ext cx="4897440" cy="16812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044000" y="2348640"/>
            <a:ext cx="206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rank and Slid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643280" y="1700280"/>
            <a:ext cx="2606760" cy="1722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435640" y="2421000"/>
            <a:ext cx="1657440" cy="1008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03280" y="4149720"/>
            <a:ext cx="6121440" cy="2305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788000" y="3357720"/>
            <a:ext cx="1008000" cy="79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22:13:45Z</dcterms:created>
  <dc:creator>Tadhg O'Sullivan</dc:creator>
  <dc:description/>
  <dc:language>en-US</dc:language>
  <cp:lastModifiedBy>Pat Lynch</cp:lastModifiedBy>
  <dcterms:modified xsi:type="dcterms:W3CDTF">2009-02-11T08:56:59Z</dcterms:modified>
  <cp:revision>150</cp:revision>
  <dc:subject/>
  <dc:title>Slide 1</dc:title>
</cp:coreProperties>
</file>