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8.png" ContentType="image/png"/>
  <Override PartName="/ppt/media/image13.png" ContentType="image/png"/>
  <Override PartName="/ppt/media/image6.gif" ContentType="image/gif"/>
  <Override PartName="/ppt/media/image11.gif" ContentType="image/gif"/>
  <Override PartName="/ppt/media/image7.jpeg" ContentType="image/jpeg"/>
  <Override PartName="/ppt/media/image9.gif" ContentType="image/gif"/>
  <Override PartName="/ppt/media/image10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816-C3F6-46AB-88C6-346481CC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A1E-C916-44DF-857C-04D64FC1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2AF-D1D9-439B-A0DA-C9906BB3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916-74ED-42FE-91C5-6B3772E7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0FF-43C9-49EF-83E6-13676A54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963-2912-4853-91F7-7DE51315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5B72-C9D3-47CB-A79C-91D13794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4CA-F3F7-433D-BE7E-1B1186E7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115920"/>
            <a:ext cx="67071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454-6157-420B-8204-7BD92F20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C38-D765-4571-9CFD-6D25E907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4006-7A8E-44E6-A76A-A417AB79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311-279B-4C14-8236-BA40BD3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AD99-39A6-4949-B4C7-FF94F7808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692280"/>
            <a:ext cx="568944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truct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echanism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Linka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2560" y="1052280"/>
            <a:ext cx="5545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A linkage is a mechanism made by connecting together two or more levers.</a:t>
            </a: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5805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indscreen wipers on a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79640" y="2276640"/>
            <a:ext cx="518616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Linka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2987640" cy="2130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6320" y="4941000"/>
            <a:ext cx="29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everse Motion Link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7080" y="263700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ulcr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r pivo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32720" y="2924280"/>
            <a:ext cx="406440" cy="73080"/>
          </a:xfrm>
          <a:custGeom>
            <a:avLst/>
            <a:gdLst/>
            <a:ahLst/>
            <a:rect l="l" t="t" r="r" b="b"/>
            <a:pathLst>
              <a:path w="256" h="46">
                <a:moveTo>
                  <a:pt x="256" y="46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557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verse Motion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042920" y="2637000"/>
            <a:ext cx="3240000" cy="3193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71640" y="609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Garage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4221000"/>
            <a:ext cx="503280" cy="43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3497400"/>
            <a:ext cx="2122200" cy="796680"/>
          </a:xfrm>
          <a:custGeom>
            <a:avLst/>
            <a:gdLst/>
            <a:ahLst/>
            <a:rect l="l" t="t" r="r" b="b"/>
            <a:pathLst>
              <a:path w="1337" h="502">
                <a:moveTo>
                  <a:pt x="0" y="502"/>
                </a:moveTo>
                <a:lnTo>
                  <a:pt x="133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6720" y="1268280"/>
            <a:ext cx="3313080" cy="3313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Linka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2808360" cy="2587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10520" y="191556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Bell Crank Lev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43640" y="3500280"/>
            <a:ext cx="216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ulcrum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ivot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7092720" y="2997000"/>
            <a:ext cx="647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341360"/>
            <a:ext cx="2160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ll Crank Le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6920" y="1844640"/>
            <a:ext cx="1789200" cy="1944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1280" y="407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Bicycle Br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556000" y="2852640"/>
            <a:ext cx="2489040" cy="3089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132000" y="595008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Pedal 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465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788000" y="5013360"/>
            <a:ext cx="79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Linka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3024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Parallel Motion Link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067280" y="1628640"/>
            <a:ext cx="2592360" cy="1219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8000" y="299736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arallel Motion Lin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3306600" cy="3961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47640" y="5445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Too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012000" y="4149720"/>
            <a:ext cx="2087280" cy="1474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19640" y="4221000"/>
            <a:ext cx="2374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Push-pull lin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4076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ivo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667280" y="4437000"/>
            <a:ext cx="57636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Linka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79640" y="4365720"/>
            <a:ext cx="4897440" cy="1681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4000" y="234864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ank and Sli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643280" y="1700280"/>
            <a:ext cx="2606760" cy="1722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435640" y="2421000"/>
            <a:ext cx="1657440" cy="10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4149720"/>
            <a:ext cx="6121440" cy="2305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788000" y="3357720"/>
            <a:ext cx="100800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2:13:45Z</dcterms:created>
  <dc:creator>Tadhg O'Sullivan</dc:creator>
  <dc:description/>
  <dc:language>en-US</dc:language>
  <cp:lastModifiedBy>Pat Lynch</cp:lastModifiedBy>
  <dcterms:modified xsi:type="dcterms:W3CDTF">2009-02-11T08:56:59Z</dcterms:modified>
  <cp:revision>150</cp:revision>
  <dc:subject/>
  <dc:title>Slide 1</dc:title>
</cp:coreProperties>
</file>