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13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10.png" ContentType="image/png"/>
  <Override PartName="/ppt/media/image9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570-9766-4427-ABD9-35D9D991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273-9688-40CA-97D7-830E7151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835-4B72-4122-B687-4BC7EC42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084-C5B3-42B6-9DEE-BBCE87CF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816-495E-4230-A3BB-0CF1FCE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2BF-5472-4C03-8324-199441C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F76-F576-4E9F-A2C8-C0B3549D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E31-4A8A-4C54-960A-CF824DFF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348-6A5F-469E-AAE5-B6FF8CF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60B-B7F4-4AE3-B3FE-D9F28FB7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CF1-90C3-4FFE-915A-42F5CD3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A4A-2541-4F83-966E-B5563BB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AD67-5B09-4827-B52B-5FC55AC43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20500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Mechanism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25304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Class One Lev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200400" cy="25923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3887640" cy="197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3640" y="206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ee-s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2603520" cy="2525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14036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row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052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Class Two Lev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392360" cy="20480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755640" y="4191120"/>
            <a:ext cx="5583240" cy="2666880"/>
            <a:chOff x="755640" y="4191120"/>
            <a:chExt cx="5583240" cy="266688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195640" y="4191120"/>
              <a:ext cx="414324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5640" y="602136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heel Bar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0360" y="1844640"/>
            <a:ext cx="2476440" cy="3105000"/>
            <a:chOff x="5940360" y="1844640"/>
            <a:chExt cx="2476440" cy="31050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5940360" y="1844640"/>
              <a:ext cx="247644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300720" y="45813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Brake ped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920" y="1052640"/>
            <a:ext cx="26640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Class Three Le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4537080" cy="21128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258920" y="4005360"/>
            <a:ext cx="4537080" cy="2390760"/>
            <a:chOff x="1258920" y="4005360"/>
            <a:chExt cx="4537080" cy="239076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1258920" y="4005360"/>
              <a:ext cx="28954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211640" y="56610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Fishing r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796000" y="2637000"/>
            <a:ext cx="2449440" cy="2376360"/>
            <a:chOff x="5796000" y="2637000"/>
            <a:chExt cx="2449440" cy="2376360"/>
          </a:xfrm>
        </p:grpSpPr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796000" y="2637000"/>
              <a:ext cx="237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308720" y="35002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Sho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Mechanical Advanta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268280"/>
            <a:ext cx="3671640" cy="785520"/>
          </a:xfrm>
          <a:prstGeom prst="rect">
            <a:avLst/>
          </a:prstGeom>
          <a:solidFill>
            <a:srgbClr val="99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ff3300"/>
                </a:solidFill>
                <a:latin typeface="Arial"/>
              </a:rPr>
              <a:t>Mechanical Advantag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16000" y="2205000"/>
            <a:ext cx="6995880" cy="3897360"/>
            <a:chOff x="1116000" y="2205000"/>
            <a:chExt cx="6995880" cy="3897360"/>
          </a:xfrm>
        </p:grpSpPr>
        <p:grpSp>
          <p:nvGrpSpPr>
            <p:cNvPr id="150" name=""/>
            <p:cNvGrpSpPr/>
            <p:nvPr/>
          </p:nvGrpSpPr>
          <p:grpSpPr>
            <a:xfrm>
              <a:off x="1116000" y="2205000"/>
              <a:ext cx="6995880" cy="3897360"/>
              <a:chOff x="1116000" y="2205000"/>
              <a:chExt cx="6995880" cy="38973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116000" y="2205000"/>
                <a:ext cx="6995880" cy="3897360"/>
                <a:chOff x="1116000" y="2205000"/>
                <a:chExt cx="6995880" cy="3897360"/>
              </a:xfrm>
            </p:grpSpPr>
            <p:pic>
              <p:nvPicPr>
                <p:cNvPr id="15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16000" y="2205000"/>
                  <a:ext cx="5195880" cy="389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>
                  <a:off x="1116000" y="2563920"/>
                  <a:ext cx="25207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IE" sz="2000" spc="-1" strike="noStrike">
                      <a:solidFill>
                        <a:srgbClr val="ff3300"/>
                      </a:solidFill>
                      <a:latin typeface="Arial"/>
                    </a:rPr>
                    <a:t>Man lifting a Stone with a Lev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979640" y="357192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800" spc="-1" strike="noStrike">
                    <a:solidFill>
                      <a:srgbClr val="000000"/>
                    </a:solidFill>
                    <a:latin typeface="Arial"/>
                  </a:rPr>
                  <a:t>Lo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00360" y="3861000"/>
                <a:ext cx="79200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80000" y="234792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800" spc="-1" strike="noStrike">
                    <a:solidFill>
                      <a:srgbClr val="000000"/>
                    </a:solidFill>
                    <a:latin typeface="Arial"/>
                  </a:rPr>
                  <a:t>Eff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56360" y="2637000"/>
                <a:ext cx="43164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V="1">
              <a:off x="3564000" y="4797000"/>
              <a:ext cx="865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16360" y="57340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ulc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5640" y="292428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L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27640" y="3284640"/>
              <a:ext cx="7207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Mechanical Advanta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5112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Tahoma"/>
              </a:rPr>
              <a:t>Mechanical Advantage - Calc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1628640"/>
            <a:ext cx="6912000" cy="2187720"/>
            <a:chOff x="900000" y="1628640"/>
            <a:chExt cx="6912000" cy="218772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492360" y="2421000"/>
              <a:ext cx="4319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00000" y="1628640"/>
              <a:ext cx="3167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To raise a weight 400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It was found that the weight could be lifted with an effort of 100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5640" y="3789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Mechanical Advantag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mechanis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6913800" cy="7855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chanical Advantage  =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Load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400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   4: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100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419640" y="1557360"/>
            <a:ext cx="4752720" cy="3456000"/>
            <a:chOff x="3419640" y="1557360"/>
            <a:chExt cx="4752720" cy="3456000"/>
          </a:xfrm>
        </p:grpSpPr>
        <p:sp>
          <p:nvSpPr>
            <p:cNvPr id="170" name=""/>
            <p:cNvSpPr/>
            <p:nvPr/>
          </p:nvSpPr>
          <p:spPr>
            <a:xfrm>
              <a:off x="3419640" y="4005360"/>
              <a:ext cx="1116000" cy="1008000"/>
            </a:xfrm>
            <a:prstGeom prst="upArrowCallout">
              <a:avLst>
                <a:gd name="adj1" fmla="val 27681"/>
                <a:gd name="adj2" fmla="val 27679"/>
                <a:gd name="adj3" fmla="val 16667"/>
                <a:gd name="adj4" fmla="val 6666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0000" y="1557360"/>
              <a:ext cx="1152360" cy="936720"/>
            </a:xfrm>
            <a:prstGeom prst="downArrowCallout">
              <a:avLst>
                <a:gd name="adj1" fmla="val 30758"/>
                <a:gd name="adj2" fmla="val 30755"/>
                <a:gd name="adj3" fmla="val 16667"/>
                <a:gd name="adj4" fmla="val 6666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411280" y="1700280"/>
            <a:ext cx="5618160" cy="3168360"/>
            <a:chOff x="2411280" y="1700280"/>
            <a:chExt cx="5618160" cy="3168360"/>
          </a:xfrm>
        </p:grpSpPr>
        <p:grpSp>
          <p:nvGrpSpPr>
            <p:cNvPr id="173" name=""/>
            <p:cNvGrpSpPr/>
            <p:nvPr/>
          </p:nvGrpSpPr>
          <p:grpSpPr>
            <a:xfrm>
              <a:off x="2411280" y="1700280"/>
              <a:ext cx="5618160" cy="3168360"/>
              <a:chOff x="2411280" y="1700280"/>
              <a:chExt cx="5618160" cy="31683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1700280"/>
                <a:ext cx="4680000" cy="31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7093080" y="277956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800" spc="-1" strike="noStrike">
                    <a:solidFill>
                      <a:srgbClr val="000000"/>
                    </a:solidFill>
                    <a:latin typeface="Arial"/>
                  </a:rPr>
                  <a:t>Lo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516720" y="3211560"/>
                <a:ext cx="792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4284720" y="2635200"/>
                <a:ext cx="503280" cy="12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220356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800" spc="-1" strike="noStrike">
                    <a:solidFill>
                      <a:srgbClr val="000000"/>
                    </a:solidFill>
                    <a:latin typeface="Arial"/>
                  </a:rPr>
                  <a:t>Le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rot="18718200">
              <a:off x="6289560" y="4232520"/>
              <a:ext cx="776160" cy="322200"/>
            </a:xfrm>
            <a:custGeom>
              <a:avLst/>
              <a:gdLst>
                <a:gd name="textAreaLeft" fmla="*/ 135720 w 776160"/>
                <a:gd name="textAreaRight" fmla="*/ 562680 w 776160"/>
                <a:gd name="textAreaTop" fmla="*/ 43200 h 322200"/>
                <a:gd name="textAreaBottom" fmla="*/ 27900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Velocity Rati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5157720"/>
            <a:ext cx="5003640" cy="7855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Velocity Ratio =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Distance moved by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stance moved by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981000"/>
            <a:ext cx="1439640" cy="1081080"/>
          </a:xfrm>
          <a:prstGeom prst="downArrowCallout">
            <a:avLst>
              <a:gd name="adj1" fmla="val 33295"/>
              <a:gd name="adj2" fmla="val 33292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Distance mo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by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653000"/>
            <a:ext cx="1440000" cy="934920"/>
          </a:xfrm>
          <a:prstGeom prst="upArrowCallout">
            <a:avLst>
              <a:gd name="adj1" fmla="val 38509"/>
              <a:gd name="adj2" fmla="val 38506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Distance 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By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050920" y="2060640"/>
            <a:ext cx="4574520" cy="3024000"/>
            <a:chOff x="2050920" y="2060640"/>
            <a:chExt cx="4574520" cy="302400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2050920" y="2060640"/>
              <a:ext cx="441504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18718200">
              <a:off x="5857560" y="4519440"/>
              <a:ext cx="776160" cy="322560"/>
            </a:xfrm>
            <a:custGeom>
              <a:avLst/>
              <a:gdLst>
                <a:gd name="textAreaLeft" fmla="*/ 135720 w 776160"/>
                <a:gd name="textAreaRight" fmla="*/ 562680 w 776160"/>
                <a:gd name="textAreaTop" fmla="*/ 43200 h 322560"/>
                <a:gd name="textAreaBottom" fmla="*/ 279360 h 3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Velocity Rati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Velocity Ratio -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1916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500N weight is moved with an effort of 100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distance moved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797360"/>
            <a:ext cx="331308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at is the Velocity Ratio of the mechanis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1413000"/>
            <a:ext cx="1225440" cy="936360"/>
          </a:xfrm>
          <a:prstGeom prst="downArrowCallout">
            <a:avLst>
              <a:gd name="adj1" fmla="val 32721"/>
              <a:gd name="adj2" fmla="val 32718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istance 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y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8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788080"/>
            <a:ext cx="6227640" cy="7077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Velocity Ratio = </a:t>
            </a:r>
            <a:r>
              <a:rPr b="0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distance moved by effort 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85cm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istance moved by load   =   17cm   =   5:1 or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4941720"/>
            <a:ext cx="1295280" cy="1081080"/>
          </a:xfrm>
          <a:prstGeom prst="upArrowCallout">
            <a:avLst>
              <a:gd name="adj1" fmla="val 29956"/>
              <a:gd name="adj2" fmla="val 29953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istance 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y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1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Mo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530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 order to understand Mechanisms better, we need to understand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ivots, moments and equilib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3673440" cy="363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27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148428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51640" y="29242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ounter balance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7596000" y="2276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1844640"/>
            <a:ext cx="3168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700280"/>
            <a:ext cx="3313080" cy="64260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en something is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t is said to be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n equilib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2881080" cy="2593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43640" y="1844640"/>
            <a:ext cx="158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ivo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796000" y="249228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2433600" cy="180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43280" y="530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339640" y="5229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Mo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268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ment of a Forc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s the force multiplied by the distance from the pivo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157720"/>
            <a:ext cx="2305080" cy="368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ment = F x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3789360"/>
            <a:ext cx="6335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149720"/>
            <a:ext cx="647640" cy="5745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84720" y="2923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45164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8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istance 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8472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84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orce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7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Mo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1125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Torque may be represented a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5661000"/>
            <a:ext cx="4896000" cy="368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rque (turning force) = Force x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32000" y="2205000"/>
            <a:ext cx="316872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486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ivo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26920" y="4292280"/>
            <a:ext cx="792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429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The Principle of Mo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125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The Principle of Moments states, that for there to be equilibrium, the clockwise moments must equal the anti-clockwise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5373720"/>
            <a:ext cx="4392720" cy="13150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lockwise Moments =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ti-clockwise Moments =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f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there is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4653000"/>
            <a:ext cx="374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5067360" cy="311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472428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ff3300"/>
                </a:solidFill>
                <a:latin typeface="Arial"/>
              </a:rPr>
              <a:t>Balanced when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1xd1 = f2x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The Principle of Mo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830840"/>
            <a:ext cx="6697440" cy="17323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lockwise Moments =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0nx1m  =  20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ti-clockwise Moments =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   10Nx2m  =  20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f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there is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quilibriu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20Nm = 20Nm,   </a:t>
            </a: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Therefore, the loaded beam is in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00000" y="1341360"/>
            <a:ext cx="6769080" cy="3167280"/>
            <a:chOff x="900000" y="1341360"/>
            <a:chExt cx="6769080" cy="3167280"/>
          </a:xfrm>
        </p:grpSpPr>
        <p:pic>
          <p:nvPicPr>
            <p:cNvPr id="88" name="" descr="Image: moments on a see-saw"/>
            <p:cNvPicPr/>
            <p:nvPr/>
          </p:nvPicPr>
          <p:blipFill>
            <a:blip r:embed="rId2"/>
            <a:stretch/>
          </p:blipFill>
          <p:spPr>
            <a:xfrm>
              <a:off x="900000" y="1341360"/>
              <a:ext cx="6769080" cy="31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227640" y="148428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8000" y="14842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87640" y="1628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5600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819520" cy="23767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IE" sz="2000" spc="-1" strike="noStrike">
                <a:solidFill>
                  <a:srgbClr val="000000"/>
                </a:solidFill>
                <a:latin typeface="Tahoma"/>
              </a:rPr>
              <a:t>lever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 is a rigid ro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pivoted about a fix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point or axi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which is known as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Tahoma"/>
              </a:rPr>
              <a:t>fulcrum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3673440" cy="1741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2436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148428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716360" y="3213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6164280"/>
            <a:ext cx="64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5948280"/>
            <a:ext cx="431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71640" y="3645000"/>
            <a:ext cx="6121440" cy="2673360"/>
            <a:chOff x="971640" y="3645000"/>
            <a:chExt cx="6121440" cy="2673360"/>
          </a:xfrm>
        </p:grpSpPr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484360" y="3645000"/>
              <a:ext cx="403236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71640" y="5013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835280" y="4941720"/>
              <a:ext cx="865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48000" y="59500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Fulc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995640" y="5300640"/>
              <a:ext cx="144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56360" y="50133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724000" y="4797360"/>
              <a:ext cx="505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42160" y="3500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08360" y="3213000"/>
            <a:ext cx="71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5399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There are three types or class of le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43280" cy="1444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890800" cy="1347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979640" y="5300640"/>
            <a:ext cx="296208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53737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Class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64500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Class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34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Class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1557360"/>
            <a:ext cx="2448000" cy="12027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Sees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ow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3213000"/>
            <a:ext cx="2951280" cy="12027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Wheelb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icro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rake pe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4869000"/>
            <a:ext cx="3168720" cy="120276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Sho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shing 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earm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7:43Z</dcterms:modified>
  <cp:revision>198</cp:revision>
  <dc:subject/>
  <dc:title>Slide 1</dc:title>
</cp:coreProperties>
</file>