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0.jpeg" ContentType="image/jpeg"/>
  <Override PartName="/ppt/media/image12.png" ContentType="image/png"/>
  <Override PartName="/ppt/media/image7.png" ContentType="image/png"/>
  <Override PartName="/ppt/media/image1.jpeg" ContentType="image/jpeg"/>
  <Override PartName="/ppt/media/image18.gif" ContentType="image/gif"/>
  <Override PartName="/ppt/media/image4.png" ContentType="image/png"/>
  <Override PartName="/ppt/media/image16.jpeg" ContentType="image/jpeg"/>
  <Override PartName="/ppt/media/image15.png" ContentType="image/png"/>
  <Override PartName="/ppt/media/image17.png" ContentType="image/png"/>
  <Override PartName="/ppt/media/image14.gif" ContentType="image/gif"/>
  <Override PartName="/ppt/media/image2.jpeg" ContentType="image/jpeg"/>
  <Override PartName="/ppt/media/image3.png" ContentType="image/png"/>
  <Override PartName="/ppt/media/image9.png" ContentType="image/png"/>
  <Override PartName="/ppt/media/image6.jpeg" ContentType="image/jpeg"/>
  <Override PartName="/ppt/media/image5.gif" ContentType="image/gif"/>
  <Override PartName="/ppt/media/image8.png" ContentType="image/png"/>
  <Override PartName="/ppt/media/image1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AE234-F032-447A-80A4-1A4390C1D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5280" y="115920"/>
            <a:ext cx="67071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0395F-9745-47CC-9C22-B80FF02C0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5280" y="115920"/>
            <a:ext cx="67071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3381D-1C29-4A1B-9C41-10BD9941E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5280" y="115920"/>
            <a:ext cx="67071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B6E9F-FA50-40CE-9A59-44E87652B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5280" y="115920"/>
            <a:ext cx="67071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EA73C-6261-4622-BB39-9C437300B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280" y="115920"/>
            <a:ext cx="67071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79BEB-1384-4427-9EA3-67045AC23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280" y="115920"/>
            <a:ext cx="67071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B6468-5EA1-4247-8B2E-48A400067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5280" y="115920"/>
            <a:ext cx="67071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65255-61AB-4091-A2AC-9ECA5BE2E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5280" y="115920"/>
            <a:ext cx="670716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FE709-57FD-4F3C-8723-ED6B15959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280" y="115920"/>
            <a:ext cx="67071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4671A-5193-46B6-9E09-7F6CDB12A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5280" y="115920"/>
            <a:ext cx="67071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0AC96-75FD-4DE4-8644-20B18E733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5280" y="115920"/>
            <a:ext cx="67071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B8BE6-9FA8-448A-919B-BD11F64AB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280" y="115920"/>
            <a:ext cx="67071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BBBBA-F9A7-42D7-BC47-F8D827BACE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92360" y="692280"/>
            <a:ext cx="5689440" cy="470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Structur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Mechanisms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55280" y="115920"/>
            <a:ext cx="670716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000000"/>
                </a:solidFill>
                <a:latin typeface="Tahoma"/>
              </a:rPr>
              <a:t>Pulley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3851280" y="1485360"/>
            <a:ext cx="435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his system has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Mechanical  Advantage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f 4:1 or 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6"/>
          <p:cNvSpPr/>
          <p:nvPr/>
        </p:nvSpPr>
        <p:spPr>
          <a:xfrm>
            <a:off x="937440" y="1214280"/>
            <a:ext cx="26208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Pulley Advantag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5796000" y="2205000"/>
            <a:ext cx="2052720" cy="27352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684360" y="1557360"/>
            <a:ext cx="2889000" cy="388764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900000" y="5373720"/>
            <a:ext cx="6553440" cy="1037520"/>
          </a:xfrm>
          <a:prstGeom prst="rect">
            <a:avLst/>
          </a:prstGeom>
          <a:solidFill>
            <a:srgbClr val="99cc00"/>
          </a:solidFill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The Mechanical Advantage is calculated like s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chanical Advantage = Load / Effo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000 N /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500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chanical Advantage = 4:1 or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76720" y="4869000"/>
            <a:ext cx="18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600" spc="-1" strike="noStrike">
                <a:solidFill>
                  <a:srgbClr val="000000"/>
                </a:solidFill>
                <a:latin typeface="Arial"/>
              </a:rPr>
              <a:t>200 Kg = 2000 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55280" y="115920"/>
            <a:ext cx="67071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000000"/>
                </a:solidFill>
                <a:latin typeface="Tahoma"/>
              </a:rPr>
              <a:t>Pulley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685800" y="1174680"/>
            <a:ext cx="4749840" cy="56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Using pulleys to transmit motion and forc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042920" y="2492280"/>
            <a:ext cx="2592360" cy="20178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5003640" y="2637000"/>
            <a:ext cx="2374920" cy="18475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58920" y="501336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Pulleys and Be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716360" y="501336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Toothed Belt and Pulle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 flipV="1">
            <a:off x="2987640" y="3573360"/>
            <a:ext cx="72072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780000" y="3933720"/>
            <a:ext cx="86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708360" y="386064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900000" y="907920"/>
            <a:ext cx="27352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ulley driv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280" y="115920"/>
            <a:ext cx="67071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000000"/>
                </a:solidFill>
                <a:latin typeface="Tahoma"/>
              </a:rPr>
              <a:t>Pulley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"/>
          <p:cNvSpPr/>
          <p:nvPr/>
        </p:nvSpPr>
        <p:spPr>
          <a:xfrm>
            <a:off x="826920" y="907920"/>
            <a:ext cx="417384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ulley drive calcul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780000" y="3429000"/>
            <a:ext cx="86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3059280" y="1557360"/>
            <a:ext cx="2738160" cy="14349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6084720" y="1413000"/>
            <a:ext cx="2232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Driver 40 mm D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280 rev/m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5724360" y="1844640"/>
            <a:ext cx="50328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68360" y="1557360"/>
            <a:ext cx="23032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Driven 70 mm D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? rev/m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050920" y="1916280"/>
            <a:ext cx="100836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124000" y="2990880"/>
            <a:ext cx="46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f3300"/>
                </a:solidFill>
                <a:latin typeface="Arial"/>
              </a:rPr>
              <a:t>Driven will rotate slower than the driv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4360" y="3429000"/>
            <a:ext cx="20872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Calculation: 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peed ratio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916360" y="4005360"/>
            <a:ext cx="2808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2843280" y="3645000"/>
            <a:ext cx="3313080" cy="728280"/>
            <a:chOff x="2843280" y="3645000"/>
            <a:chExt cx="3313080" cy="728280"/>
          </a:xfrm>
        </p:grpSpPr>
        <p:sp>
          <p:nvSpPr>
            <p:cNvPr id="116" name=""/>
            <p:cNvSpPr/>
            <p:nvPr/>
          </p:nvSpPr>
          <p:spPr>
            <a:xfrm>
              <a:off x="2843280" y="3645000"/>
              <a:ext cx="295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Diameter of Driver pulle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843280" y="4005000"/>
              <a:ext cx="3313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Diameter of Driven pulle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"/>
          <p:cNvSpPr/>
          <p:nvPr/>
        </p:nvSpPr>
        <p:spPr>
          <a:xfrm>
            <a:off x="5796000" y="3789360"/>
            <a:ext cx="50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=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00720" y="364500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4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300720" y="4005360"/>
            <a:ext cx="432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300720" y="40766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11280" y="472428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peed of Driven pulley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92360" y="472428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80 x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4211640" y="4581360"/>
            <a:ext cx="718920" cy="801720"/>
            <a:chOff x="4211640" y="4581360"/>
            <a:chExt cx="718920" cy="801720"/>
          </a:xfrm>
        </p:grpSpPr>
        <p:sp>
          <p:nvSpPr>
            <p:cNvPr id="125" name=""/>
            <p:cNvSpPr/>
            <p:nvPr/>
          </p:nvSpPr>
          <p:spPr>
            <a:xfrm>
              <a:off x="4282920" y="4581360"/>
              <a:ext cx="50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40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11640" y="4941720"/>
              <a:ext cx="718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282920" y="501480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7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5076720" y="472428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=  </a:t>
            </a: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160 rev/m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84360" y="6165720"/>
            <a:ext cx="727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39640" y="5516640"/>
            <a:ext cx="777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How could you change the direction of rotation of the driven pulley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55280" y="115920"/>
            <a:ext cx="67071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000000"/>
                </a:solidFill>
                <a:latin typeface="Tahoma"/>
              </a:rPr>
              <a:t>Pulley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"/>
          <p:cNvSpPr/>
          <p:nvPr/>
        </p:nvSpPr>
        <p:spPr>
          <a:xfrm>
            <a:off x="762120" y="1066680"/>
            <a:ext cx="3124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1143000"/>
            <a:ext cx="734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 pulley wheel is a mechanism which helps move or lift objects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1763640" y="1700280"/>
            <a:ext cx="3646440" cy="45352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4140360" y="1700280"/>
            <a:ext cx="1441440" cy="431640"/>
          </a:xfrm>
          <a:prstGeom prst="leftArrowCallout">
            <a:avLst>
              <a:gd name="adj1" fmla="val 25002"/>
              <a:gd name="adj2" fmla="val 25000"/>
              <a:gd name="adj3" fmla="val 55657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pull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5640" y="5373720"/>
            <a:ext cx="21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>
                <a:solidFill>
                  <a:srgbClr val="000000"/>
                </a:solidFill>
                <a:latin typeface="Arial"/>
              </a:rPr>
              <a:t>Exercise mach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284720" y="1413000"/>
            <a:ext cx="3887640" cy="30114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395280" y="3141720"/>
            <a:ext cx="4248000" cy="30290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55280" y="115920"/>
            <a:ext cx="67071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000000"/>
                </a:solidFill>
                <a:latin typeface="Tahoma"/>
              </a:rPr>
              <a:t>Pulley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"/>
          <p:cNvSpPr/>
          <p:nvPr/>
        </p:nvSpPr>
        <p:spPr>
          <a:xfrm>
            <a:off x="395280" y="1484280"/>
            <a:ext cx="39625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arts of a Pulley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211640" y="5229360"/>
            <a:ext cx="4033800" cy="11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rection of Fo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otice that the pulleys change the direction of the applied forc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468360" y="2708280"/>
            <a:ext cx="3456000" cy="26766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55280" y="115920"/>
            <a:ext cx="67071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000000"/>
                </a:solidFill>
                <a:latin typeface="Tahoma"/>
              </a:rPr>
              <a:t>Pulley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"/>
          <p:cNvSpPr/>
          <p:nvPr/>
        </p:nvSpPr>
        <p:spPr>
          <a:xfrm>
            <a:off x="762120" y="914400"/>
            <a:ext cx="258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Types of Pulley</a:t>
            </a: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4356000" y="1484280"/>
            <a:ext cx="3886200" cy="29163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3419640" y="4869000"/>
            <a:ext cx="487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>
                <a:solidFill>
                  <a:srgbClr val="000000"/>
                </a:solidFill>
                <a:latin typeface="Arial"/>
              </a:rPr>
              <a:t>A ski lift operates on a fixed pulley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55640" y="1628640"/>
            <a:ext cx="200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 fixed pull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826920" y="2924280"/>
            <a:ext cx="3168720" cy="25002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55280" y="115920"/>
            <a:ext cx="67071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000000"/>
                </a:solidFill>
                <a:latin typeface="Tahoma"/>
              </a:rPr>
              <a:t>Pulley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36576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oveable pulley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rises and falls with the load being moved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"/>
          <p:cNvSpPr/>
          <p:nvPr/>
        </p:nvSpPr>
        <p:spPr>
          <a:xfrm>
            <a:off x="900000" y="580536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>
                <a:solidFill>
                  <a:srgbClr val="000000"/>
                </a:solidFill>
                <a:latin typeface="Arial"/>
              </a:rPr>
              <a:t>Moveable pull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4643280" y="1628640"/>
            <a:ext cx="302580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55280" y="115920"/>
            <a:ext cx="67071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000000"/>
                </a:solidFill>
                <a:latin typeface="Tahoma"/>
              </a:rPr>
              <a:t>Pulley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"/>
          <p:cNvSpPr/>
          <p:nvPr/>
        </p:nvSpPr>
        <p:spPr>
          <a:xfrm>
            <a:off x="971640" y="5950080"/>
            <a:ext cx="21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>
                <a:solidFill>
                  <a:srgbClr val="000000"/>
                </a:solidFill>
                <a:latin typeface="Arial"/>
              </a:rPr>
              <a:t>Block and tack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1547640" y="2060640"/>
            <a:ext cx="1508400" cy="388944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1116000" y="1052640"/>
            <a:ext cx="3429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 block and tack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onsists of two or more pulleys (fixed and moveable)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4788000" y="1700280"/>
            <a:ext cx="285732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55280" y="115920"/>
            <a:ext cx="670716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000000"/>
                </a:solidFill>
                <a:latin typeface="Tahoma"/>
              </a:rPr>
              <a:t>Pulley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2"/>
          <a:stretch/>
        </p:blipFill>
        <p:spPr>
          <a:xfrm>
            <a:off x="684360" y="1413000"/>
            <a:ext cx="2970000" cy="410364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4"/>
          <p:cNvSpPr/>
          <p:nvPr/>
        </p:nvSpPr>
        <p:spPr>
          <a:xfrm>
            <a:off x="3708360" y="242064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 this simple pulley system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he force is equal to the load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o the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Mechanical Advantag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is 1:1 or 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7"/>
          <p:cNvSpPr/>
          <p:nvPr/>
        </p:nvSpPr>
        <p:spPr>
          <a:xfrm>
            <a:off x="1008720" y="1143000"/>
            <a:ext cx="26208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Pulley Advantag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987640" y="4437000"/>
            <a:ext cx="165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600" spc="-1" strike="noStrike">
                <a:solidFill>
                  <a:srgbClr val="000000"/>
                </a:solidFill>
                <a:latin typeface="Arial"/>
              </a:rPr>
              <a:t>10 Kg = 100 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826920" y="5373720"/>
            <a:ext cx="6553440" cy="1037520"/>
          </a:xfrm>
          <a:prstGeom prst="rect">
            <a:avLst/>
          </a:prstGeom>
          <a:solidFill>
            <a:srgbClr val="99cc00"/>
          </a:solidFill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The Mechanical Advantage is calculated like s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chanical Advantage = Load / Effo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0 N / 100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chanical Advantage = 1:1 or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55280" y="115920"/>
            <a:ext cx="670716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000000"/>
                </a:solidFill>
                <a:latin typeface="Tahoma"/>
              </a:rPr>
              <a:t>Pulley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6" name="Picture 2" descr=""/>
          <p:cNvPicPr/>
          <p:nvPr/>
        </p:nvPicPr>
        <p:blipFill>
          <a:blip r:embed="rId2"/>
          <a:stretch/>
        </p:blipFill>
        <p:spPr>
          <a:xfrm>
            <a:off x="468360" y="1341360"/>
            <a:ext cx="2714400" cy="403236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5"/>
          <p:cNvSpPr/>
          <p:nvPr/>
        </p:nvSpPr>
        <p:spPr>
          <a:xfrm>
            <a:off x="3388320" y="2509200"/>
            <a:ext cx="50346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Each side of the rope carries half the loa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Therefore, the force required by the person 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keep the load in equilibrium is also half the loa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his system has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Mechanical  Advantage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f 2:1 or 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7"/>
          <p:cNvSpPr/>
          <p:nvPr/>
        </p:nvSpPr>
        <p:spPr>
          <a:xfrm>
            <a:off x="1008720" y="1143000"/>
            <a:ext cx="26208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Pulley Advantag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826920" y="5373720"/>
            <a:ext cx="6553440" cy="1037520"/>
          </a:xfrm>
          <a:prstGeom prst="rect">
            <a:avLst/>
          </a:prstGeom>
          <a:solidFill>
            <a:srgbClr val="99cc00"/>
          </a:solidFill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The Mechanical Advantage is calculated like s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chanical Advantage = Load / Effo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0 N / 50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chanical Advantage = 2:1 or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56000" y="4797360"/>
            <a:ext cx="165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600" spc="-1" strike="noStrike">
                <a:solidFill>
                  <a:srgbClr val="000000"/>
                </a:solidFill>
                <a:latin typeface="Arial"/>
              </a:rPr>
              <a:t>10 Kg = 100 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55280" y="115920"/>
            <a:ext cx="670716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000000"/>
                </a:solidFill>
                <a:latin typeface="Tahoma"/>
              </a:rPr>
              <a:t>Pulley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2"/>
          <a:stretch/>
        </p:blipFill>
        <p:spPr>
          <a:xfrm>
            <a:off x="684360" y="1484280"/>
            <a:ext cx="2995560" cy="403236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3"/>
          <p:cNvSpPr/>
          <p:nvPr/>
        </p:nvSpPr>
        <p:spPr>
          <a:xfrm>
            <a:off x="3571920" y="2430720"/>
            <a:ext cx="435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his system has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Mechanical  Advantage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f 4:1 or 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6"/>
          <p:cNvSpPr/>
          <p:nvPr/>
        </p:nvSpPr>
        <p:spPr>
          <a:xfrm>
            <a:off x="937440" y="1214280"/>
            <a:ext cx="26208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Pulley Advantag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843280" y="4653000"/>
            <a:ext cx="165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600" spc="-1" strike="noStrike">
                <a:solidFill>
                  <a:srgbClr val="000000"/>
                </a:solidFill>
                <a:latin typeface="Arial"/>
              </a:rPr>
              <a:t>10 Kg = 100 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16000" y="5516640"/>
            <a:ext cx="6553080" cy="1037520"/>
          </a:xfrm>
          <a:prstGeom prst="rect">
            <a:avLst/>
          </a:prstGeom>
          <a:solidFill>
            <a:srgbClr val="99cc00"/>
          </a:solidFill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The Mechanical Advantage is calculated like s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chanical Advantage = Load / Effo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0 N / 25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chanical Advantage = 4:1 or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30T22:13:45Z</dcterms:created>
  <dc:creator>Tadhg O'Sullivan</dc:creator>
  <dc:description/>
  <dc:language>en-US</dc:language>
  <cp:lastModifiedBy>Pat Lynch</cp:lastModifiedBy>
  <dcterms:modified xsi:type="dcterms:W3CDTF">2009-02-11T08:58:27Z</dcterms:modified>
  <cp:revision>167</cp:revision>
  <dc:subject/>
  <dc:title>Slide 1</dc:title>
</cp:coreProperties>
</file>