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8.png" ContentType="image/png"/>
  <Override PartName="/ppt/media/image13.png" ContentType="image/png"/>
  <Override PartName="/ppt/media/image3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F9FC-4E6E-441F-BFCB-A32E967E2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12C2-B3A6-4A9B-A6FC-405F3B535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DCDA-CF09-467C-9638-CCBC2A569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489E-E25D-4EFD-86DC-AD3D565B8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2FDD-9E31-480E-9F51-56E280B7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1AF7-C56A-4960-8329-A668FFD2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DAC9-69EC-4E0A-80E8-E2AFA06E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F7B9-E2DC-4960-ADB8-0BF989CB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BD74-8580-4988-B3A4-0EBE1949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CF3C-3341-4BDE-B614-209E6412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38CB-2E9A-406B-BCC8-102F6140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B855-9DD6-4193-9B8E-A961BB8C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3008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E94-CAC1-4874-9579-4E0C962B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44BC-1E49-4C03-8697-451A4BF4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A021-72DF-49CC-A6E2-65A0B304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941C-C572-4999-98AD-F1826E8F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250920" y="6402240"/>
            <a:ext cx="14414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1979280" y="6400800"/>
            <a:ext cx="5040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380360" y="6402240"/>
            <a:ext cx="1341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20D7-7261-4E10-BE03-9B8526BAA7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7280" y="765000"/>
            <a:ext cx="8856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active Control 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ngineering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41480" y="3429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ctronics and Contro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5200" y="247680"/>
            <a:ext cx="668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6600"/>
                </a:solidFill>
                <a:latin typeface="Arial"/>
              </a:rPr>
              <a:t>To days Challenge !!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268280"/>
            <a:ext cx="8712000" cy="48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gn a model Electric Hand Dryer suitable for use in an Engineering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ryer should activate automatically when a person places their hand near the air flow and automatically switch off after a set period of ti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sual indicators are required to show that the unit is operational or in standby mo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esign should also include a means of visually inspecting any electronics or mechanism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odel must operate on a voltage supply of 9V or lower and must not exceed 300 mm x 300 mm in siz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36080"/>
            <a:ext cx="56689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Arial"/>
              </a:rPr>
              <a:t>Control for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9720" y="1096920"/>
            <a:ext cx="68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udent Project Board (5 inputs, 8 outpu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844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npu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92960" y="182880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8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39920" y="1920960"/>
            <a:ext cx="3863880" cy="351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564000" y="58053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814480" y="2565360"/>
            <a:ext cx="1686240" cy="1366920"/>
            <a:chOff x="2814480" y="2565360"/>
            <a:chExt cx="1686240" cy="1366920"/>
          </a:xfrm>
        </p:grpSpPr>
        <p:sp>
          <p:nvSpPr>
            <p:cNvPr id="59" name=""/>
            <p:cNvSpPr/>
            <p:nvPr/>
          </p:nvSpPr>
          <p:spPr>
            <a:xfrm>
              <a:off x="2814480" y="3068640"/>
              <a:ext cx="1295640" cy="863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08360" y="2565360"/>
              <a:ext cx="79236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.I.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067280" y="2924280"/>
              <a:ext cx="28872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08000" y="3213000"/>
            <a:ext cx="2689200" cy="2168640"/>
            <a:chOff x="108000" y="3213000"/>
            <a:chExt cx="2689200" cy="2168640"/>
          </a:xfrm>
        </p:grpSpPr>
        <p:sp>
          <p:nvSpPr>
            <p:cNvPr id="63" name=""/>
            <p:cNvSpPr/>
            <p:nvPr/>
          </p:nvSpPr>
          <p:spPr>
            <a:xfrm>
              <a:off x="108000" y="501336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 Analog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89200" y="3213000"/>
              <a:ext cx="1008000" cy="1800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258920" y="4723920"/>
              <a:ext cx="647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95480" y="32860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95480" y="39020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87560" y="43974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920" y="1989000"/>
            <a:ext cx="2736720" cy="1231920"/>
            <a:chOff x="34920" y="1989000"/>
            <a:chExt cx="2736720" cy="1231920"/>
          </a:xfrm>
        </p:grpSpPr>
        <p:sp>
          <p:nvSpPr>
            <p:cNvPr id="70" name=""/>
            <p:cNvSpPr/>
            <p:nvPr/>
          </p:nvSpPr>
          <p:spPr>
            <a:xfrm>
              <a:off x="34920" y="28526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 Digit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63640" y="1989000"/>
              <a:ext cx="1008000" cy="1152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114560" y="2852640"/>
              <a:ext cx="7207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87560" y="21337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7560" y="26607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624560" y="1484280"/>
            <a:ext cx="3260520" cy="1800360"/>
            <a:chOff x="4624560" y="1484280"/>
            <a:chExt cx="3260520" cy="1800360"/>
          </a:xfrm>
        </p:grpSpPr>
        <p:sp>
          <p:nvSpPr>
            <p:cNvPr id="76" name=""/>
            <p:cNvSpPr/>
            <p:nvPr/>
          </p:nvSpPr>
          <p:spPr>
            <a:xfrm>
              <a:off x="6732720" y="291636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6 LED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24560" y="1484280"/>
              <a:ext cx="1512720" cy="172872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6045120" y="2781360"/>
              <a:ext cx="7192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95880" y="163656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19600" y="2492280"/>
              <a:ext cx="28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19640" y="249228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87920" y="163656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43440" y="249228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88000" y="162864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067360" y="3181320"/>
            <a:ext cx="3608280" cy="1616040"/>
            <a:chOff x="5067360" y="3181320"/>
            <a:chExt cx="3608280" cy="1616040"/>
          </a:xfrm>
        </p:grpSpPr>
        <p:sp>
          <p:nvSpPr>
            <p:cNvPr id="86" name=""/>
            <p:cNvSpPr/>
            <p:nvPr/>
          </p:nvSpPr>
          <p:spPr>
            <a:xfrm>
              <a:off x="7188120" y="4429080"/>
              <a:ext cx="14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 transisto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67360" y="3181320"/>
              <a:ext cx="1727280" cy="122400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6516720" y="4255920"/>
              <a:ext cx="72720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78600" y="3333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6520" y="3860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4068720" y="914400"/>
            <a:ext cx="2438280" cy="1600200"/>
            <a:chOff x="4068720" y="914400"/>
            <a:chExt cx="2438280" cy="160020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4068720" y="914400"/>
              <a:ext cx="2438280" cy="150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068720" y="2057400"/>
              <a:ext cx="9144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822240" y="960480"/>
            <a:ext cx="749772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w are PICs us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rchased bl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ed into a circuit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control program is developed and tested on the computer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wnloaded to the P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6960" y="166680"/>
            <a:ext cx="452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Arial"/>
              </a:rPr>
              <a:t>Control for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132000" y="2781360"/>
          <a:ext cx="153360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2781360"/>
                    <a:ext cx="15336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" descr=""/>
          <p:cNvPicPr/>
          <p:nvPr/>
        </p:nvPicPr>
        <p:blipFill>
          <a:blip r:embed="rId5"/>
          <a:srcRect l="23816" t="12026" r="21867" b="7797"/>
          <a:stretch/>
        </p:blipFill>
        <p:spPr>
          <a:xfrm>
            <a:off x="3059280" y="3933720"/>
            <a:ext cx="2147760" cy="1982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492360" y="5734080"/>
            <a:ext cx="1509840" cy="868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35160" y="2147760"/>
            <a:ext cx="16905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6360" y="3645000"/>
            <a:ext cx="1606680" cy="2039760"/>
            <a:chOff x="1476360" y="3645000"/>
            <a:chExt cx="1606680" cy="2039760"/>
          </a:xfrm>
        </p:grpSpPr>
        <p:graphicFrame>
          <p:nvGraphicFramePr>
            <p:cNvPr id="102" name=""/>
            <p:cNvGraphicFramePr/>
            <p:nvPr/>
          </p:nvGraphicFramePr>
          <p:xfrm>
            <a:off x="1476360" y="5084640"/>
            <a:ext cx="495360" cy="600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476360" y="5084640"/>
                      <a:ext cx="495360" cy="6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4" name="" descr=""/>
            <p:cNvPicPr/>
            <p:nvPr/>
          </p:nvPicPr>
          <p:blipFill>
            <a:blip r:embed="rId8"/>
            <a:srcRect l="57244" t="35413" r="28135" b="34524"/>
            <a:stretch/>
          </p:blipFill>
          <p:spPr>
            <a:xfrm>
              <a:off x="1476360" y="3645000"/>
              <a:ext cx="800280" cy="10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306520" y="5330880"/>
              <a:ext cx="776520" cy="136440"/>
            </a:xfrm>
            <a:prstGeom prst="rightArrow">
              <a:avLst>
                <a:gd name="adj1" fmla="val 50000"/>
                <a:gd name="adj2" fmla="val 142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06520" y="4098960"/>
              <a:ext cx="776520" cy="136440"/>
            </a:xfrm>
            <a:prstGeom prst="rightArrow">
              <a:avLst>
                <a:gd name="adj1" fmla="val 50000"/>
                <a:gd name="adj2" fmla="val 142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164200" y="2914560"/>
            <a:ext cx="2039400" cy="2055960"/>
            <a:chOff x="5164200" y="2914560"/>
            <a:chExt cx="2039400" cy="2055960"/>
          </a:xfrm>
        </p:grpSpPr>
        <p:grpSp>
          <p:nvGrpSpPr>
            <p:cNvPr id="108" name=""/>
            <p:cNvGrpSpPr/>
            <p:nvPr/>
          </p:nvGrpSpPr>
          <p:grpSpPr>
            <a:xfrm>
              <a:off x="5403600" y="2914560"/>
              <a:ext cx="1800000" cy="1963800"/>
              <a:chOff x="5403600" y="2914560"/>
              <a:chExt cx="1800000" cy="1963800"/>
            </a:xfrm>
          </p:grpSpPr>
          <p:pic>
            <p:nvPicPr>
              <p:cNvPr id="10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711400" y="3083040"/>
                <a:ext cx="1235160" cy="179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403600" y="2914560"/>
                <a:ext cx="1800000" cy="4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flipV="1">
                <a:off x="6332040" y="3165480"/>
                <a:ext cx="0" cy="287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5164200" y="481788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64200" y="4962600"/>
              <a:ext cx="149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6667200" y="475452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 flipH="1">
            <a:off x="3779640" y="3500280"/>
            <a:ext cx="361800" cy="129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684440" y="5989680"/>
            <a:ext cx="5235480" cy="328680"/>
            <a:chOff x="1684440" y="5989680"/>
            <a:chExt cx="5235480" cy="328680"/>
          </a:xfrm>
        </p:grpSpPr>
        <p:grpSp>
          <p:nvGrpSpPr>
            <p:cNvPr id="117" name=""/>
            <p:cNvGrpSpPr/>
            <p:nvPr/>
          </p:nvGrpSpPr>
          <p:grpSpPr>
            <a:xfrm>
              <a:off x="1684440" y="5989680"/>
              <a:ext cx="5235480" cy="328680"/>
              <a:chOff x="1684440" y="5989680"/>
              <a:chExt cx="5235480" cy="32868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3722760" y="5989680"/>
                <a:ext cx="1143000" cy="320760"/>
                <a:chOff x="3722760" y="5989680"/>
                <a:chExt cx="1143000" cy="3207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3722760" y="6023160"/>
                  <a:ext cx="1050840" cy="287280"/>
                </a:xfrm>
                <a:prstGeom prst="rect">
                  <a:avLst/>
                </a:prstGeom>
                <a:solidFill>
                  <a:srgbClr val="0000ff"/>
                </a:solidFill>
                <a:ln w="2844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722760" y="5989680"/>
                  <a:ext cx="114300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PROCES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1684440" y="6022800"/>
                <a:ext cx="1052280" cy="28764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844640" y="5997600"/>
                <a:ext cx="73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INPU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5730840" y="5997600"/>
                <a:ext cx="1189080" cy="320760"/>
                <a:chOff x="5730840" y="5997600"/>
                <a:chExt cx="1189080" cy="3207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730840" y="6031080"/>
                  <a:ext cx="1189080" cy="287280"/>
                </a:xfrm>
                <a:prstGeom prst="rect">
                  <a:avLst/>
                </a:prstGeom>
                <a:solidFill>
                  <a:srgbClr val="00ff00"/>
                </a:solidFill>
                <a:ln w="2844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870880" y="5997600"/>
                  <a:ext cx="910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OUTPU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"/>
              <p:cNvSpPr/>
              <p:nvPr/>
            </p:nvSpPr>
            <p:spPr>
              <a:xfrm>
                <a:off x="2759040" y="6180120"/>
                <a:ext cx="960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770360" y="6180120"/>
                <a:ext cx="960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3708360" y="6021360"/>
              <a:ext cx="1081080" cy="287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56280" y="131760"/>
            <a:ext cx="541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8080"/>
                </a:solidFill>
                <a:latin typeface="Tahoma"/>
              </a:rPr>
              <a:t>Controlling your Projec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417680" y="1508040"/>
            <a:ext cx="5440320" cy="4380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371600" y="1325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witch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16720" y="1341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tor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170028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66840" y="1125360"/>
            <a:ext cx="1487520" cy="1440000"/>
            <a:chOff x="366840" y="1125360"/>
            <a:chExt cx="1487520" cy="1440000"/>
          </a:xfrm>
        </p:grpSpPr>
        <p:pic>
          <p:nvPicPr>
            <p:cNvPr id="135" name="" descr=""/>
            <p:cNvPicPr/>
            <p:nvPr/>
          </p:nvPicPr>
          <p:blipFill>
            <a:blip r:embed="rId3"/>
            <a:stretch/>
          </p:blipFill>
          <p:spPr>
            <a:xfrm>
              <a:off x="366840" y="1125360"/>
              <a:ext cx="869760" cy="11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 flipH="1">
              <a:off x="900000" y="2276640"/>
              <a:ext cx="9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3440" y="2565360"/>
              <a:ext cx="115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12800" y="220464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357960" y="1996920"/>
            <a:ext cx="2018880" cy="2181240"/>
            <a:chOff x="6357960" y="1996920"/>
            <a:chExt cx="2018880" cy="2181240"/>
          </a:xfrm>
        </p:grpSpPr>
        <p:grpSp>
          <p:nvGrpSpPr>
            <p:cNvPr id="140" name=""/>
            <p:cNvGrpSpPr/>
            <p:nvPr/>
          </p:nvGrpSpPr>
          <p:grpSpPr>
            <a:xfrm>
              <a:off x="6576840" y="1996920"/>
              <a:ext cx="1800000" cy="1963800"/>
              <a:chOff x="6576840" y="1996920"/>
              <a:chExt cx="1800000" cy="1963800"/>
            </a:xfrm>
          </p:grpSpPr>
          <p:pic>
            <p:nvPicPr>
              <p:cNvPr id="14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884640" y="2165400"/>
                <a:ext cx="1235160" cy="179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576840" y="1996920"/>
                <a:ext cx="1800000" cy="4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 flipV="1">
                <a:off x="7505280" y="2247840"/>
                <a:ext cx="0" cy="287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6372360" y="386064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57960" y="4173480"/>
              <a:ext cx="149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850160" y="388944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059280" y="3967200"/>
            <a:ext cx="72072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564000" y="5157720"/>
            <a:ext cx="2663640" cy="1538280"/>
            <a:chOff x="3564000" y="5157720"/>
            <a:chExt cx="2663640" cy="1538280"/>
          </a:xfrm>
        </p:grpSpPr>
        <p:sp>
          <p:nvSpPr>
            <p:cNvPr id="149" name=""/>
            <p:cNvSpPr/>
            <p:nvPr/>
          </p:nvSpPr>
          <p:spPr>
            <a:xfrm>
              <a:off x="3564000" y="5157720"/>
              <a:ext cx="2663640" cy="1538280"/>
            </a:xfrm>
            <a:prstGeom prst="cloudCallout">
              <a:avLst>
                <a:gd name="adj1" fmla="val -45888"/>
                <a:gd name="adj2" fmla="val -10882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41920" y="5392800"/>
              <a:ext cx="228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2000" spc="-1" strike="noStrike">
                  <a:solidFill>
                    <a:srgbClr val="0000ff"/>
                  </a:solidFill>
                  <a:latin typeface="Arial"/>
                </a:rPr>
                <a:t>Design yo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rial"/>
                </a:rPr>
                <a:t>Control Program</a:t>
              </a: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 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47560" y="5373720"/>
            <a:ext cx="1295280" cy="495360"/>
            <a:chOff x="547560" y="5373720"/>
            <a:chExt cx="1295280" cy="495360"/>
          </a:xfrm>
        </p:grpSpPr>
        <p:graphicFrame>
          <p:nvGraphicFramePr>
            <p:cNvPr id="152" name=""/>
            <p:cNvGraphicFramePr/>
            <p:nvPr/>
          </p:nvGraphicFramePr>
          <p:xfrm>
            <a:off x="547560" y="5373720"/>
            <a:ext cx="495360" cy="495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47560" y="5373720"/>
                      <a:ext cx="495360" cy="4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4" name=""/>
            <p:cNvSpPr/>
            <p:nvPr/>
          </p:nvSpPr>
          <p:spPr>
            <a:xfrm flipH="1">
              <a:off x="971280" y="5468760"/>
              <a:ext cx="86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979200" y="5757840"/>
              <a:ext cx="86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7162920" cy="4937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08480" y="131760"/>
            <a:ext cx="568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8080"/>
                </a:solidFill>
                <a:latin typeface="Tahoma"/>
              </a:rPr>
              <a:t>Switch Control of the F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7653240" cy="4610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00560" y="131760"/>
            <a:ext cx="53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8080"/>
                </a:solidFill>
                <a:latin typeface="Tahoma"/>
              </a:rPr>
              <a:t>Light Control of the F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6651720" cy="4457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95440" y="131760"/>
            <a:ext cx="70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08080"/>
                </a:solidFill>
                <a:latin typeface="Tahoma"/>
              </a:rPr>
              <a:t>Automatic control of Hand Dr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9:42:04Z</dcterms:created>
  <dc:creator>Pat</dc:creator>
  <dc:description/>
  <dc:language>en-US</dc:language>
  <cp:lastModifiedBy>Martin Cassidy</cp:lastModifiedBy>
  <dcterms:modified xsi:type="dcterms:W3CDTF">2009-11-09T19:08:55Z</dcterms:modified>
  <cp:revision>137</cp:revision>
  <dc:subject/>
  <dc:title>Overview of the Presentation </dc:title>
</cp:coreProperties>
</file>