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12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1.jpeg" ContentType="image/jpe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4.jpeg" ContentType="image/jpe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4E96-8551-420E-9251-9C6C2E60A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ABCC-DF89-44B0-9419-B45CF4E2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FECB-BBA7-48A4-8AF5-5B80489E5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709F-5541-431D-A534-56D23348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045A-EF25-4EFF-806E-F8DA3657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1B2C-7415-429C-BA75-6220F201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A1C3-A426-4EAA-B4DB-38AB9DCB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E40D-C502-4474-80F9-000950BF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E995-C79E-4DBE-A37E-FFE3F4CF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46AD-90CA-4332-BBD8-39FB1620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8D2A-FE2D-4A54-A8D4-EF1B8D2D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3989-A64B-47E7-A68D-9F9DCC3C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A830-2563-448C-A7C5-A1410EC05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55560"/>
            <a:ext cx="1843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1473120" cy="744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09480" y="714240"/>
            <a:ext cx="0" cy="1800360"/>
          </a:xfrm>
          <a:prstGeom prst="line">
            <a:avLst/>
          </a:prstGeom>
          <a:ln w="3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457200" y="942840"/>
            <a:ext cx="358128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609480" y="714240"/>
            <a:ext cx="0" cy="1800360"/>
          </a:xfrm>
          <a:prstGeom prst="line">
            <a:avLst/>
          </a:prstGeom>
          <a:ln w="3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942840"/>
            <a:ext cx="358128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3"/>
          <a:stretch/>
        </p:blipFill>
        <p:spPr>
          <a:xfrm>
            <a:off x="685800" y="6151680"/>
            <a:ext cx="1249200" cy="55404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1828800" y="640080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 Narrow"/>
              </a:rPr>
              <a:t>The ICT in Schools’ Initiative of the Department of Education and Sci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6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IE" sz="4000" spc="-1" strike="noStrike">
                <a:solidFill>
                  <a:srgbClr val="000000"/>
                </a:solidFill>
                <a:latin typeface="Arial"/>
              </a:rPr>
              <a:t>Integration of ICT into Teaching and Learning of Electron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110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Ohm’s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52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ge , Current &amp; Resistance are calculated using Ohm’s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724360" y="1989000"/>
                <a:ext cx="213228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xR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3" name=""/>
          <p:cNvGrpSpPr/>
          <p:nvPr/>
        </p:nvGrpSpPr>
        <p:grpSpPr>
          <a:xfrm>
            <a:off x="971640" y="2349360"/>
            <a:ext cx="3600360" cy="2752920"/>
            <a:chOff x="971640" y="2349360"/>
            <a:chExt cx="3600360" cy="2752920"/>
          </a:xfrm>
        </p:grpSpPr>
        <p:sp>
          <p:nvSpPr>
            <p:cNvPr id="84" name=""/>
            <p:cNvSpPr/>
            <p:nvPr/>
          </p:nvSpPr>
          <p:spPr>
            <a:xfrm>
              <a:off x="971640" y="2349360"/>
              <a:ext cx="3600360" cy="27370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763640" y="3886200"/>
              <a:ext cx="20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00360" y="387828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84360" y="3070080"/>
              <a:ext cx="43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00080" y="418284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90600" y="42069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835600" y="2781360"/>
                <a:ext cx="1584360" cy="15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807160" y="4508640"/>
                <a:ext cx="1511280" cy="13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4480" y="1023480"/>
            <a:ext cx="807552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 are connected one after the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only one path for current to flow a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4038480" cy="28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5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4480" y="1095120"/>
            <a:ext cx="8075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urrent at all points in a series circuit is eq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40384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0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1052640"/>
            <a:ext cx="784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voltage is shared between the components in a series circu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nents of equal resistance – voltage is shared eq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56000" y="2133720"/>
            <a:ext cx="409572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1052640"/>
            <a:ext cx="8209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voltage is shared between the components in a series circu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nents of unequal resistance – voltage is shared proportion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08000" y="2332080"/>
            <a:ext cx="5305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9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807552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 are connected side by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more than one path for current to flow a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590868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8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000" y="1096920"/>
            <a:ext cx="84596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oltage across each path is always the same as the applied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component resistance in each path is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62960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000" y="1096920"/>
            <a:ext cx="84596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oltage across each path is always the same as the applied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component resistance in each path is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66214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000" y="1096920"/>
            <a:ext cx="84596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oltage across each path is always the same as the applied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re is more than one component in a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649764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4480" y="1096560"/>
            <a:ext cx="80755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urrent is divided between the paths proportionally (Ohm’s La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0388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3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lectric Circ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7715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 are connected together with electrical wire to form a closed lo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64000" y="184464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onents are represented by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292720" y="2637000"/>
            <a:ext cx="2666880" cy="3686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84360" y="2276640"/>
            <a:ext cx="36576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Motor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44480" y="1023840"/>
            <a:ext cx="80755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ST Switc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arity connection determines direction of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692360" y="2276640"/>
            <a:ext cx="54766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8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Motor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44480" y="1023840"/>
            <a:ext cx="8075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PDT Switc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 and reverse control of motor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750276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3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Motor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44480" y="1023480"/>
            <a:ext cx="80755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PDT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692360" y="2349360"/>
            <a:ext cx="1689120" cy="2508480"/>
            <a:chOff x="1692360" y="2349360"/>
            <a:chExt cx="1689120" cy="2508480"/>
          </a:xfrm>
        </p:grpSpPr>
        <p:grpSp>
          <p:nvGrpSpPr>
            <p:cNvPr id="128" name=""/>
            <p:cNvGrpSpPr/>
            <p:nvPr/>
          </p:nvGrpSpPr>
          <p:grpSpPr>
            <a:xfrm>
              <a:off x="1692360" y="2349360"/>
              <a:ext cx="1689120" cy="2508480"/>
              <a:chOff x="1692360" y="2349360"/>
              <a:chExt cx="1689120" cy="250848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1692360" y="2497680"/>
                <a:ext cx="1663560" cy="2360160"/>
                <a:chOff x="1692360" y="2497680"/>
                <a:chExt cx="1663560" cy="2360160"/>
              </a:xfrm>
            </p:grpSpPr>
            <p:pic>
              <p:nvPicPr>
                <p:cNvPr id="13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692360" y="2497680"/>
                  <a:ext cx="1663560" cy="236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" name=""/>
                <p:cNvSpPr/>
                <p:nvPr/>
              </p:nvSpPr>
              <p:spPr>
                <a:xfrm>
                  <a:off x="1845720" y="2646000"/>
                  <a:ext cx="61416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+V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2767320" y="3387240"/>
                <a:ext cx="61416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Verdana"/>
                  </a:rPr>
                  <a:t>C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767320" y="3832200"/>
                <a:ext cx="61416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Verdana"/>
                  </a:rPr>
                  <a:t>C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767320" y="2349360"/>
                <a:ext cx="61416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Verdana"/>
                  </a:rPr>
                  <a:t>C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845720" y="3980160"/>
                <a:ext cx="61416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0V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2767320" y="2917800"/>
              <a:ext cx="61416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</a:rPr>
                <a:t>C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932360" y="2565360"/>
            <a:ext cx="234936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Motor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44480" y="1023840"/>
            <a:ext cx="8075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PDT Switch: Wiring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700360" y="3789360"/>
            <a:ext cx="3019320" cy="504360"/>
            <a:chOff x="2700360" y="3789360"/>
            <a:chExt cx="3019320" cy="504360"/>
          </a:xfrm>
        </p:grpSpPr>
        <p:grpSp>
          <p:nvGrpSpPr>
            <p:cNvPr id="141" name=""/>
            <p:cNvGrpSpPr/>
            <p:nvPr/>
          </p:nvGrpSpPr>
          <p:grpSpPr>
            <a:xfrm>
              <a:off x="2700360" y="3836880"/>
              <a:ext cx="1142640" cy="456840"/>
              <a:chOff x="2700360" y="3836880"/>
              <a:chExt cx="1142640" cy="456840"/>
            </a:xfrm>
          </p:grpSpPr>
          <p:sp>
            <p:nvSpPr>
              <p:cNvPr id="142" name=""/>
              <p:cNvSpPr/>
              <p:nvPr/>
            </p:nvSpPr>
            <p:spPr>
              <a:xfrm>
                <a:off x="2700360" y="383688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157200" y="383688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614400" y="383688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700360" y="417960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157200" y="417960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614400" y="417960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100480" y="3789360"/>
              <a:ext cx="619200" cy="39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403280" y="1700280"/>
            <a:ext cx="3162240" cy="10764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793960" y="3879720"/>
            <a:ext cx="949320" cy="343080"/>
          </a:xfrm>
          <a:custGeom>
            <a:avLst/>
            <a:gdLst/>
            <a:ahLst/>
            <a:rect l="l" t="t" r="r" b="b"/>
            <a:pathLst>
              <a:path w="598" h="216">
                <a:moveTo>
                  <a:pt x="0" y="216"/>
                </a:moveTo>
                <a:cubicBezTo>
                  <a:pt x="7" y="211"/>
                  <a:pt x="17" y="210"/>
                  <a:pt x="24" y="204"/>
                </a:cubicBezTo>
                <a:cubicBezTo>
                  <a:pt x="47" y="185"/>
                  <a:pt x="8" y="192"/>
                  <a:pt x="56" y="176"/>
                </a:cubicBezTo>
                <a:cubicBezTo>
                  <a:pt x="76" y="169"/>
                  <a:pt x="96" y="163"/>
                  <a:pt x="116" y="156"/>
                </a:cubicBezTo>
                <a:cubicBezTo>
                  <a:pt x="125" y="153"/>
                  <a:pt x="131" y="143"/>
                  <a:pt x="140" y="140"/>
                </a:cubicBezTo>
                <a:cubicBezTo>
                  <a:pt x="180" y="127"/>
                  <a:pt x="213" y="109"/>
                  <a:pt x="256" y="104"/>
                </a:cubicBezTo>
                <a:cubicBezTo>
                  <a:pt x="281" y="96"/>
                  <a:pt x="302" y="92"/>
                  <a:pt x="328" y="88"/>
                </a:cubicBezTo>
                <a:cubicBezTo>
                  <a:pt x="345" y="82"/>
                  <a:pt x="359" y="78"/>
                  <a:pt x="376" y="84"/>
                </a:cubicBezTo>
                <a:cubicBezTo>
                  <a:pt x="406" y="38"/>
                  <a:pt x="475" y="33"/>
                  <a:pt x="524" y="20"/>
                </a:cubicBezTo>
                <a:cubicBezTo>
                  <a:pt x="598" y="0"/>
                  <a:pt x="520" y="21"/>
                  <a:pt x="580" y="8"/>
                </a:cubicBezTo>
                <a:cubicBezTo>
                  <a:pt x="584" y="7"/>
                  <a:pt x="592" y="4"/>
                  <a:pt x="592" y="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59120" y="4070520"/>
            <a:ext cx="1967040" cy="448920"/>
          </a:xfrm>
          <a:custGeom>
            <a:avLst/>
            <a:gdLst/>
            <a:ahLst/>
            <a:rect l="l" t="t" r="r" b="b"/>
            <a:pathLst>
              <a:path w="1239" h="283">
                <a:moveTo>
                  <a:pt x="0" y="108"/>
                </a:moveTo>
                <a:cubicBezTo>
                  <a:pt x="19" y="166"/>
                  <a:pt x="14" y="252"/>
                  <a:pt x="92" y="256"/>
                </a:cubicBezTo>
                <a:cubicBezTo>
                  <a:pt x="137" y="258"/>
                  <a:pt x="183" y="259"/>
                  <a:pt x="228" y="260"/>
                </a:cubicBezTo>
                <a:cubicBezTo>
                  <a:pt x="268" y="268"/>
                  <a:pt x="285" y="273"/>
                  <a:pt x="332" y="276"/>
                </a:cubicBezTo>
                <a:cubicBezTo>
                  <a:pt x="380" y="283"/>
                  <a:pt x="411" y="264"/>
                  <a:pt x="456" y="260"/>
                </a:cubicBezTo>
                <a:cubicBezTo>
                  <a:pt x="517" y="254"/>
                  <a:pt x="574" y="247"/>
                  <a:pt x="636" y="244"/>
                </a:cubicBezTo>
                <a:cubicBezTo>
                  <a:pt x="644" y="241"/>
                  <a:pt x="652" y="239"/>
                  <a:pt x="660" y="236"/>
                </a:cubicBezTo>
                <a:cubicBezTo>
                  <a:pt x="664" y="235"/>
                  <a:pt x="672" y="232"/>
                  <a:pt x="672" y="232"/>
                </a:cubicBezTo>
                <a:cubicBezTo>
                  <a:pt x="751" y="235"/>
                  <a:pt x="825" y="244"/>
                  <a:pt x="904" y="248"/>
                </a:cubicBezTo>
                <a:cubicBezTo>
                  <a:pt x="976" y="243"/>
                  <a:pt x="1048" y="238"/>
                  <a:pt x="1120" y="232"/>
                </a:cubicBezTo>
                <a:cubicBezTo>
                  <a:pt x="1145" y="224"/>
                  <a:pt x="1169" y="227"/>
                  <a:pt x="1192" y="212"/>
                </a:cubicBezTo>
                <a:cubicBezTo>
                  <a:pt x="1201" y="199"/>
                  <a:pt x="1212" y="191"/>
                  <a:pt x="1216" y="176"/>
                </a:cubicBezTo>
                <a:cubicBezTo>
                  <a:pt x="1219" y="165"/>
                  <a:pt x="1224" y="144"/>
                  <a:pt x="1224" y="144"/>
                </a:cubicBezTo>
                <a:cubicBezTo>
                  <a:pt x="1225" y="120"/>
                  <a:pt x="1239" y="39"/>
                  <a:pt x="12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20960" y="3892680"/>
            <a:ext cx="1416240" cy="177840"/>
          </a:xfrm>
          <a:custGeom>
            <a:avLst/>
            <a:gdLst/>
            <a:ahLst/>
            <a:rect l="l" t="t" r="r" b="b"/>
            <a:pathLst>
              <a:path w="892" h="112">
                <a:moveTo>
                  <a:pt x="0" y="0"/>
                </a:moveTo>
                <a:cubicBezTo>
                  <a:pt x="44" y="4"/>
                  <a:pt x="88" y="10"/>
                  <a:pt x="132" y="16"/>
                </a:cubicBezTo>
                <a:cubicBezTo>
                  <a:pt x="150" y="28"/>
                  <a:pt x="154" y="28"/>
                  <a:pt x="176" y="24"/>
                </a:cubicBezTo>
                <a:cubicBezTo>
                  <a:pt x="230" y="32"/>
                  <a:pt x="287" y="38"/>
                  <a:pt x="340" y="20"/>
                </a:cubicBezTo>
                <a:cubicBezTo>
                  <a:pt x="389" y="23"/>
                  <a:pt x="423" y="25"/>
                  <a:pt x="468" y="36"/>
                </a:cubicBezTo>
                <a:cubicBezTo>
                  <a:pt x="481" y="39"/>
                  <a:pt x="495" y="44"/>
                  <a:pt x="508" y="48"/>
                </a:cubicBezTo>
                <a:cubicBezTo>
                  <a:pt x="519" y="51"/>
                  <a:pt x="540" y="56"/>
                  <a:pt x="540" y="56"/>
                </a:cubicBezTo>
                <a:cubicBezTo>
                  <a:pt x="585" y="86"/>
                  <a:pt x="646" y="66"/>
                  <a:pt x="696" y="64"/>
                </a:cubicBezTo>
                <a:cubicBezTo>
                  <a:pt x="719" y="65"/>
                  <a:pt x="741" y="66"/>
                  <a:pt x="764" y="68"/>
                </a:cubicBezTo>
                <a:cubicBezTo>
                  <a:pt x="779" y="70"/>
                  <a:pt x="808" y="80"/>
                  <a:pt x="808" y="80"/>
                </a:cubicBezTo>
                <a:cubicBezTo>
                  <a:pt x="834" y="97"/>
                  <a:pt x="865" y="98"/>
                  <a:pt x="892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98640" y="3470400"/>
            <a:ext cx="2907000" cy="581040"/>
          </a:xfrm>
          <a:custGeom>
            <a:avLst/>
            <a:gdLst/>
            <a:ahLst/>
            <a:rect l="l" t="t" r="r" b="b"/>
            <a:pathLst>
              <a:path w="1831" h="366">
                <a:moveTo>
                  <a:pt x="13" y="270"/>
                </a:moveTo>
                <a:cubicBezTo>
                  <a:pt x="0" y="206"/>
                  <a:pt x="9" y="158"/>
                  <a:pt x="37" y="102"/>
                </a:cubicBezTo>
                <a:cubicBezTo>
                  <a:pt x="41" y="94"/>
                  <a:pt x="39" y="84"/>
                  <a:pt x="45" y="78"/>
                </a:cubicBezTo>
                <a:cubicBezTo>
                  <a:pt x="66" y="57"/>
                  <a:pt x="148" y="32"/>
                  <a:pt x="181" y="30"/>
                </a:cubicBezTo>
                <a:cubicBezTo>
                  <a:pt x="301" y="23"/>
                  <a:pt x="421" y="21"/>
                  <a:pt x="541" y="14"/>
                </a:cubicBezTo>
                <a:cubicBezTo>
                  <a:pt x="584" y="17"/>
                  <a:pt x="626" y="18"/>
                  <a:pt x="669" y="22"/>
                </a:cubicBezTo>
                <a:cubicBezTo>
                  <a:pt x="697" y="25"/>
                  <a:pt x="713" y="49"/>
                  <a:pt x="741" y="54"/>
                </a:cubicBezTo>
                <a:cubicBezTo>
                  <a:pt x="762" y="58"/>
                  <a:pt x="784" y="59"/>
                  <a:pt x="805" y="62"/>
                </a:cubicBezTo>
                <a:cubicBezTo>
                  <a:pt x="818" y="64"/>
                  <a:pt x="832" y="67"/>
                  <a:pt x="845" y="70"/>
                </a:cubicBezTo>
                <a:cubicBezTo>
                  <a:pt x="902" y="62"/>
                  <a:pt x="964" y="41"/>
                  <a:pt x="1021" y="38"/>
                </a:cubicBezTo>
                <a:cubicBezTo>
                  <a:pt x="1178" y="30"/>
                  <a:pt x="1336" y="29"/>
                  <a:pt x="1493" y="22"/>
                </a:cubicBezTo>
                <a:cubicBezTo>
                  <a:pt x="1580" y="0"/>
                  <a:pt x="1680" y="10"/>
                  <a:pt x="1765" y="38"/>
                </a:cubicBezTo>
                <a:cubicBezTo>
                  <a:pt x="1770" y="54"/>
                  <a:pt x="1772" y="72"/>
                  <a:pt x="1781" y="86"/>
                </a:cubicBezTo>
                <a:cubicBezTo>
                  <a:pt x="1786" y="94"/>
                  <a:pt x="1793" y="101"/>
                  <a:pt x="1797" y="110"/>
                </a:cubicBezTo>
                <a:cubicBezTo>
                  <a:pt x="1804" y="125"/>
                  <a:pt x="1808" y="142"/>
                  <a:pt x="1813" y="158"/>
                </a:cubicBezTo>
                <a:cubicBezTo>
                  <a:pt x="1816" y="166"/>
                  <a:pt x="1821" y="182"/>
                  <a:pt x="1821" y="182"/>
                </a:cubicBezTo>
                <a:cubicBezTo>
                  <a:pt x="1831" y="313"/>
                  <a:pt x="1829" y="251"/>
                  <a:pt x="1829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580000" y="1700280"/>
            <a:ext cx="13431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Motor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44480" y="1023840"/>
            <a:ext cx="8075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PDT Switch: Wiring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700360" y="3789360"/>
            <a:ext cx="3019320" cy="504360"/>
            <a:chOff x="2700360" y="3789360"/>
            <a:chExt cx="3019320" cy="504360"/>
          </a:xfrm>
        </p:grpSpPr>
        <p:grpSp>
          <p:nvGrpSpPr>
            <p:cNvPr id="158" name=""/>
            <p:cNvGrpSpPr/>
            <p:nvPr/>
          </p:nvGrpSpPr>
          <p:grpSpPr>
            <a:xfrm>
              <a:off x="2700360" y="3836880"/>
              <a:ext cx="1142640" cy="456840"/>
              <a:chOff x="2700360" y="3836880"/>
              <a:chExt cx="1142640" cy="456840"/>
            </a:xfrm>
          </p:grpSpPr>
          <p:sp>
            <p:nvSpPr>
              <p:cNvPr id="159" name=""/>
              <p:cNvSpPr/>
              <p:nvPr/>
            </p:nvSpPr>
            <p:spPr>
              <a:xfrm>
                <a:off x="2700360" y="383688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157200" y="383688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614400" y="383688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700360" y="417960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157200" y="417960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614400" y="417960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100480" y="3789360"/>
              <a:ext cx="619200" cy="39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403280" y="1700280"/>
            <a:ext cx="3162240" cy="10764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793960" y="3879720"/>
            <a:ext cx="949320" cy="343080"/>
          </a:xfrm>
          <a:custGeom>
            <a:avLst/>
            <a:gdLst/>
            <a:ahLst/>
            <a:rect l="l" t="t" r="r" b="b"/>
            <a:pathLst>
              <a:path w="598" h="216">
                <a:moveTo>
                  <a:pt x="0" y="216"/>
                </a:moveTo>
                <a:cubicBezTo>
                  <a:pt x="7" y="211"/>
                  <a:pt x="17" y="210"/>
                  <a:pt x="24" y="204"/>
                </a:cubicBezTo>
                <a:cubicBezTo>
                  <a:pt x="47" y="185"/>
                  <a:pt x="8" y="192"/>
                  <a:pt x="56" y="176"/>
                </a:cubicBezTo>
                <a:cubicBezTo>
                  <a:pt x="76" y="169"/>
                  <a:pt x="96" y="163"/>
                  <a:pt x="116" y="156"/>
                </a:cubicBezTo>
                <a:cubicBezTo>
                  <a:pt x="125" y="153"/>
                  <a:pt x="131" y="143"/>
                  <a:pt x="140" y="140"/>
                </a:cubicBezTo>
                <a:cubicBezTo>
                  <a:pt x="180" y="127"/>
                  <a:pt x="213" y="109"/>
                  <a:pt x="256" y="104"/>
                </a:cubicBezTo>
                <a:cubicBezTo>
                  <a:pt x="281" y="96"/>
                  <a:pt x="302" y="92"/>
                  <a:pt x="328" y="88"/>
                </a:cubicBezTo>
                <a:cubicBezTo>
                  <a:pt x="345" y="82"/>
                  <a:pt x="359" y="78"/>
                  <a:pt x="376" y="84"/>
                </a:cubicBezTo>
                <a:cubicBezTo>
                  <a:pt x="406" y="38"/>
                  <a:pt x="475" y="33"/>
                  <a:pt x="524" y="20"/>
                </a:cubicBezTo>
                <a:cubicBezTo>
                  <a:pt x="598" y="0"/>
                  <a:pt x="520" y="21"/>
                  <a:pt x="580" y="8"/>
                </a:cubicBezTo>
                <a:cubicBezTo>
                  <a:pt x="584" y="7"/>
                  <a:pt x="592" y="4"/>
                  <a:pt x="592" y="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59120" y="4070520"/>
            <a:ext cx="1967040" cy="448920"/>
          </a:xfrm>
          <a:custGeom>
            <a:avLst/>
            <a:gdLst/>
            <a:ahLst/>
            <a:rect l="l" t="t" r="r" b="b"/>
            <a:pathLst>
              <a:path w="1239" h="283">
                <a:moveTo>
                  <a:pt x="0" y="108"/>
                </a:moveTo>
                <a:cubicBezTo>
                  <a:pt x="19" y="166"/>
                  <a:pt x="14" y="252"/>
                  <a:pt x="92" y="256"/>
                </a:cubicBezTo>
                <a:cubicBezTo>
                  <a:pt x="137" y="258"/>
                  <a:pt x="183" y="259"/>
                  <a:pt x="228" y="260"/>
                </a:cubicBezTo>
                <a:cubicBezTo>
                  <a:pt x="268" y="268"/>
                  <a:pt x="285" y="273"/>
                  <a:pt x="332" y="276"/>
                </a:cubicBezTo>
                <a:cubicBezTo>
                  <a:pt x="380" y="283"/>
                  <a:pt x="411" y="264"/>
                  <a:pt x="456" y="260"/>
                </a:cubicBezTo>
                <a:cubicBezTo>
                  <a:pt x="517" y="254"/>
                  <a:pt x="574" y="247"/>
                  <a:pt x="636" y="244"/>
                </a:cubicBezTo>
                <a:cubicBezTo>
                  <a:pt x="644" y="241"/>
                  <a:pt x="652" y="239"/>
                  <a:pt x="660" y="236"/>
                </a:cubicBezTo>
                <a:cubicBezTo>
                  <a:pt x="664" y="235"/>
                  <a:pt x="672" y="232"/>
                  <a:pt x="672" y="232"/>
                </a:cubicBezTo>
                <a:cubicBezTo>
                  <a:pt x="751" y="235"/>
                  <a:pt x="825" y="244"/>
                  <a:pt x="904" y="248"/>
                </a:cubicBezTo>
                <a:cubicBezTo>
                  <a:pt x="976" y="243"/>
                  <a:pt x="1048" y="238"/>
                  <a:pt x="1120" y="232"/>
                </a:cubicBezTo>
                <a:cubicBezTo>
                  <a:pt x="1145" y="224"/>
                  <a:pt x="1169" y="227"/>
                  <a:pt x="1192" y="212"/>
                </a:cubicBezTo>
                <a:cubicBezTo>
                  <a:pt x="1201" y="199"/>
                  <a:pt x="1212" y="191"/>
                  <a:pt x="1216" y="176"/>
                </a:cubicBezTo>
                <a:cubicBezTo>
                  <a:pt x="1219" y="165"/>
                  <a:pt x="1224" y="144"/>
                  <a:pt x="1224" y="144"/>
                </a:cubicBezTo>
                <a:cubicBezTo>
                  <a:pt x="1225" y="120"/>
                  <a:pt x="1239" y="39"/>
                  <a:pt x="1220" y="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20960" y="3892680"/>
            <a:ext cx="1416240" cy="177840"/>
          </a:xfrm>
          <a:custGeom>
            <a:avLst/>
            <a:gdLst/>
            <a:ahLst/>
            <a:rect l="l" t="t" r="r" b="b"/>
            <a:pathLst>
              <a:path w="892" h="112">
                <a:moveTo>
                  <a:pt x="0" y="0"/>
                </a:moveTo>
                <a:cubicBezTo>
                  <a:pt x="44" y="4"/>
                  <a:pt x="88" y="10"/>
                  <a:pt x="132" y="16"/>
                </a:cubicBezTo>
                <a:cubicBezTo>
                  <a:pt x="150" y="28"/>
                  <a:pt x="154" y="28"/>
                  <a:pt x="176" y="24"/>
                </a:cubicBezTo>
                <a:cubicBezTo>
                  <a:pt x="230" y="32"/>
                  <a:pt x="287" y="38"/>
                  <a:pt x="340" y="20"/>
                </a:cubicBezTo>
                <a:cubicBezTo>
                  <a:pt x="389" y="23"/>
                  <a:pt x="423" y="25"/>
                  <a:pt x="468" y="36"/>
                </a:cubicBezTo>
                <a:cubicBezTo>
                  <a:pt x="481" y="39"/>
                  <a:pt x="495" y="44"/>
                  <a:pt x="508" y="48"/>
                </a:cubicBezTo>
                <a:cubicBezTo>
                  <a:pt x="519" y="51"/>
                  <a:pt x="540" y="56"/>
                  <a:pt x="540" y="56"/>
                </a:cubicBezTo>
                <a:cubicBezTo>
                  <a:pt x="585" y="86"/>
                  <a:pt x="646" y="66"/>
                  <a:pt x="696" y="64"/>
                </a:cubicBezTo>
                <a:cubicBezTo>
                  <a:pt x="719" y="65"/>
                  <a:pt x="741" y="66"/>
                  <a:pt x="764" y="68"/>
                </a:cubicBezTo>
                <a:cubicBezTo>
                  <a:pt x="779" y="70"/>
                  <a:pt x="808" y="80"/>
                  <a:pt x="808" y="80"/>
                </a:cubicBezTo>
                <a:cubicBezTo>
                  <a:pt x="834" y="97"/>
                  <a:pt x="865" y="98"/>
                  <a:pt x="892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98640" y="3470400"/>
            <a:ext cx="2907000" cy="581040"/>
          </a:xfrm>
          <a:custGeom>
            <a:avLst/>
            <a:gdLst/>
            <a:ahLst/>
            <a:rect l="l" t="t" r="r" b="b"/>
            <a:pathLst>
              <a:path w="1831" h="366">
                <a:moveTo>
                  <a:pt x="13" y="270"/>
                </a:moveTo>
                <a:cubicBezTo>
                  <a:pt x="0" y="206"/>
                  <a:pt x="9" y="158"/>
                  <a:pt x="37" y="102"/>
                </a:cubicBezTo>
                <a:cubicBezTo>
                  <a:pt x="41" y="94"/>
                  <a:pt x="39" y="84"/>
                  <a:pt x="45" y="78"/>
                </a:cubicBezTo>
                <a:cubicBezTo>
                  <a:pt x="66" y="57"/>
                  <a:pt x="148" y="32"/>
                  <a:pt x="181" y="30"/>
                </a:cubicBezTo>
                <a:cubicBezTo>
                  <a:pt x="301" y="23"/>
                  <a:pt x="421" y="21"/>
                  <a:pt x="541" y="14"/>
                </a:cubicBezTo>
                <a:cubicBezTo>
                  <a:pt x="584" y="17"/>
                  <a:pt x="626" y="18"/>
                  <a:pt x="669" y="22"/>
                </a:cubicBezTo>
                <a:cubicBezTo>
                  <a:pt x="697" y="25"/>
                  <a:pt x="713" y="49"/>
                  <a:pt x="741" y="54"/>
                </a:cubicBezTo>
                <a:cubicBezTo>
                  <a:pt x="762" y="58"/>
                  <a:pt x="784" y="59"/>
                  <a:pt x="805" y="62"/>
                </a:cubicBezTo>
                <a:cubicBezTo>
                  <a:pt x="818" y="64"/>
                  <a:pt x="832" y="67"/>
                  <a:pt x="845" y="70"/>
                </a:cubicBezTo>
                <a:cubicBezTo>
                  <a:pt x="902" y="62"/>
                  <a:pt x="964" y="41"/>
                  <a:pt x="1021" y="38"/>
                </a:cubicBezTo>
                <a:cubicBezTo>
                  <a:pt x="1178" y="30"/>
                  <a:pt x="1336" y="29"/>
                  <a:pt x="1493" y="22"/>
                </a:cubicBezTo>
                <a:cubicBezTo>
                  <a:pt x="1580" y="0"/>
                  <a:pt x="1680" y="10"/>
                  <a:pt x="1765" y="38"/>
                </a:cubicBezTo>
                <a:cubicBezTo>
                  <a:pt x="1770" y="54"/>
                  <a:pt x="1772" y="72"/>
                  <a:pt x="1781" y="86"/>
                </a:cubicBezTo>
                <a:cubicBezTo>
                  <a:pt x="1786" y="94"/>
                  <a:pt x="1793" y="101"/>
                  <a:pt x="1797" y="110"/>
                </a:cubicBezTo>
                <a:cubicBezTo>
                  <a:pt x="1804" y="125"/>
                  <a:pt x="1808" y="142"/>
                  <a:pt x="1813" y="158"/>
                </a:cubicBezTo>
                <a:cubicBezTo>
                  <a:pt x="1816" y="166"/>
                  <a:pt x="1821" y="182"/>
                  <a:pt x="1821" y="182"/>
                </a:cubicBezTo>
                <a:cubicBezTo>
                  <a:pt x="1831" y="313"/>
                  <a:pt x="1829" y="251"/>
                  <a:pt x="1829" y="366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580000" y="1700280"/>
            <a:ext cx="13431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Motor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44480" y="1023840"/>
            <a:ext cx="8075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PDT Switch: Wiring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700360" y="3789360"/>
            <a:ext cx="3019320" cy="504360"/>
            <a:chOff x="2700360" y="3789360"/>
            <a:chExt cx="3019320" cy="504360"/>
          </a:xfrm>
        </p:grpSpPr>
        <p:grpSp>
          <p:nvGrpSpPr>
            <p:cNvPr id="175" name=""/>
            <p:cNvGrpSpPr/>
            <p:nvPr/>
          </p:nvGrpSpPr>
          <p:grpSpPr>
            <a:xfrm>
              <a:off x="2700360" y="3836880"/>
              <a:ext cx="1142640" cy="456840"/>
              <a:chOff x="2700360" y="3836880"/>
              <a:chExt cx="1142640" cy="456840"/>
            </a:xfrm>
          </p:grpSpPr>
          <p:sp>
            <p:nvSpPr>
              <p:cNvPr id="176" name=""/>
              <p:cNvSpPr/>
              <p:nvPr/>
            </p:nvSpPr>
            <p:spPr>
              <a:xfrm>
                <a:off x="2700360" y="383688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157200" y="383688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614400" y="383688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700360" y="417960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157200" y="417960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614400" y="417960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5100480" y="3789360"/>
              <a:ext cx="619200" cy="39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403280" y="1700280"/>
            <a:ext cx="3162240" cy="10764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793960" y="3879720"/>
            <a:ext cx="949320" cy="343080"/>
          </a:xfrm>
          <a:custGeom>
            <a:avLst/>
            <a:gdLst/>
            <a:ahLst/>
            <a:rect l="l" t="t" r="r" b="b"/>
            <a:pathLst>
              <a:path w="598" h="216">
                <a:moveTo>
                  <a:pt x="0" y="216"/>
                </a:moveTo>
                <a:cubicBezTo>
                  <a:pt x="7" y="211"/>
                  <a:pt x="17" y="210"/>
                  <a:pt x="24" y="204"/>
                </a:cubicBezTo>
                <a:cubicBezTo>
                  <a:pt x="47" y="185"/>
                  <a:pt x="8" y="192"/>
                  <a:pt x="56" y="176"/>
                </a:cubicBezTo>
                <a:cubicBezTo>
                  <a:pt x="76" y="169"/>
                  <a:pt x="96" y="163"/>
                  <a:pt x="116" y="156"/>
                </a:cubicBezTo>
                <a:cubicBezTo>
                  <a:pt x="125" y="153"/>
                  <a:pt x="131" y="143"/>
                  <a:pt x="140" y="140"/>
                </a:cubicBezTo>
                <a:cubicBezTo>
                  <a:pt x="180" y="127"/>
                  <a:pt x="213" y="109"/>
                  <a:pt x="256" y="104"/>
                </a:cubicBezTo>
                <a:cubicBezTo>
                  <a:pt x="281" y="96"/>
                  <a:pt x="302" y="92"/>
                  <a:pt x="328" y="88"/>
                </a:cubicBezTo>
                <a:cubicBezTo>
                  <a:pt x="345" y="82"/>
                  <a:pt x="359" y="78"/>
                  <a:pt x="376" y="84"/>
                </a:cubicBezTo>
                <a:cubicBezTo>
                  <a:pt x="406" y="38"/>
                  <a:pt x="475" y="33"/>
                  <a:pt x="524" y="20"/>
                </a:cubicBezTo>
                <a:cubicBezTo>
                  <a:pt x="598" y="0"/>
                  <a:pt x="520" y="21"/>
                  <a:pt x="580" y="8"/>
                </a:cubicBezTo>
                <a:cubicBezTo>
                  <a:pt x="584" y="7"/>
                  <a:pt x="592" y="4"/>
                  <a:pt x="592" y="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59120" y="4070520"/>
            <a:ext cx="1967040" cy="448920"/>
          </a:xfrm>
          <a:custGeom>
            <a:avLst/>
            <a:gdLst/>
            <a:ahLst/>
            <a:rect l="l" t="t" r="r" b="b"/>
            <a:pathLst>
              <a:path w="1239" h="283">
                <a:moveTo>
                  <a:pt x="0" y="108"/>
                </a:moveTo>
                <a:cubicBezTo>
                  <a:pt x="19" y="166"/>
                  <a:pt x="14" y="252"/>
                  <a:pt x="92" y="256"/>
                </a:cubicBezTo>
                <a:cubicBezTo>
                  <a:pt x="137" y="258"/>
                  <a:pt x="183" y="259"/>
                  <a:pt x="228" y="260"/>
                </a:cubicBezTo>
                <a:cubicBezTo>
                  <a:pt x="268" y="268"/>
                  <a:pt x="285" y="273"/>
                  <a:pt x="332" y="276"/>
                </a:cubicBezTo>
                <a:cubicBezTo>
                  <a:pt x="380" y="283"/>
                  <a:pt x="411" y="264"/>
                  <a:pt x="456" y="260"/>
                </a:cubicBezTo>
                <a:cubicBezTo>
                  <a:pt x="517" y="254"/>
                  <a:pt x="574" y="247"/>
                  <a:pt x="636" y="244"/>
                </a:cubicBezTo>
                <a:cubicBezTo>
                  <a:pt x="644" y="241"/>
                  <a:pt x="652" y="239"/>
                  <a:pt x="660" y="236"/>
                </a:cubicBezTo>
                <a:cubicBezTo>
                  <a:pt x="664" y="235"/>
                  <a:pt x="672" y="232"/>
                  <a:pt x="672" y="232"/>
                </a:cubicBezTo>
                <a:cubicBezTo>
                  <a:pt x="751" y="235"/>
                  <a:pt x="825" y="244"/>
                  <a:pt x="904" y="248"/>
                </a:cubicBezTo>
                <a:cubicBezTo>
                  <a:pt x="976" y="243"/>
                  <a:pt x="1048" y="238"/>
                  <a:pt x="1120" y="232"/>
                </a:cubicBezTo>
                <a:cubicBezTo>
                  <a:pt x="1145" y="224"/>
                  <a:pt x="1169" y="227"/>
                  <a:pt x="1192" y="212"/>
                </a:cubicBezTo>
                <a:cubicBezTo>
                  <a:pt x="1201" y="199"/>
                  <a:pt x="1212" y="191"/>
                  <a:pt x="1216" y="176"/>
                </a:cubicBezTo>
                <a:cubicBezTo>
                  <a:pt x="1219" y="165"/>
                  <a:pt x="1224" y="144"/>
                  <a:pt x="1224" y="144"/>
                </a:cubicBezTo>
                <a:cubicBezTo>
                  <a:pt x="1225" y="120"/>
                  <a:pt x="1239" y="39"/>
                  <a:pt x="1220" y="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20960" y="3892680"/>
            <a:ext cx="1416240" cy="177840"/>
          </a:xfrm>
          <a:custGeom>
            <a:avLst/>
            <a:gdLst/>
            <a:ahLst/>
            <a:rect l="l" t="t" r="r" b="b"/>
            <a:pathLst>
              <a:path w="892" h="112">
                <a:moveTo>
                  <a:pt x="0" y="0"/>
                </a:moveTo>
                <a:cubicBezTo>
                  <a:pt x="44" y="4"/>
                  <a:pt x="88" y="10"/>
                  <a:pt x="132" y="16"/>
                </a:cubicBezTo>
                <a:cubicBezTo>
                  <a:pt x="150" y="28"/>
                  <a:pt x="154" y="28"/>
                  <a:pt x="176" y="24"/>
                </a:cubicBezTo>
                <a:cubicBezTo>
                  <a:pt x="230" y="32"/>
                  <a:pt x="287" y="38"/>
                  <a:pt x="340" y="20"/>
                </a:cubicBezTo>
                <a:cubicBezTo>
                  <a:pt x="389" y="23"/>
                  <a:pt x="423" y="25"/>
                  <a:pt x="468" y="36"/>
                </a:cubicBezTo>
                <a:cubicBezTo>
                  <a:pt x="481" y="39"/>
                  <a:pt x="495" y="44"/>
                  <a:pt x="508" y="48"/>
                </a:cubicBezTo>
                <a:cubicBezTo>
                  <a:pt x="519" y="51"/>
                  <a:pt x="540" y="56"/>
                  <a:pt x="540" y="56"/>
                </a:cubicBezTo>
                <a:cubicBezTo>
                  <a:pt x="585" y="86"/>
                  <a:pt x="646" y="66"/>
                  <a:pt x="696" y="64"/>
                </a:cubicBezTo>
                <a:cubicBezTo>
                  <a:pt x="719" y="65"/>
                  <a:pt x="741" y="66"/>
                  <a:pt x="764" y="68"/>
                </a:cubicBezTo>
                <a:cubicBezTo>
                  <a:pt x="779" y="70"/>
                  <a:pt x="808" y="80"/>
                  <a:pt x="808" y="80"/>
                </a:cubicBezTo>
                <a:cubicBezTo>
                  <a:pt x="834" y="97"/>
                  <a:pt x="865" y="98"/>
                  <a:pt x="892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5580000" y="1700280"/>
            <a:ext cx="1343160" cy="8953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825640" y="3898800"/>
            <a:ext cx="933480" cy="343080"/>
          </a:xfrm>
          <a:custGeom>
            <a:avLst/>
            <a:gdLst/>
            <a:ahLst/>
            <a:rect l="l" t="t" r="r" b="b"/>
            <a:pathLst>
              <a:path w="588" h="216">
                <a:moveTo>
                  <a:pt x="588" y="216"/>
                </a:moveTo>
                <a:cubicBezTo>
                  <a:pt x="571" y="210"/>
                  <a:pt x="551" y="205"/>
                  <a:pt x="536" y="196"/>
                </a:cubicBezTo>
                <a:cubicBezTo>
                  <a:pt x="495" y="173"/>
                  <a:pt x="527" y="185"/>
                  <a:pt x="500" y="176"/>
                </a:cubicBezTo>
                <a:cubicBezTo>
                  <a:pt x="466" y="124"/>
                  <a:pt x="405" y="129"/>
                  <a:pt x="352" y="116"/>
                </a:cubicBezTo>
                <a:cubicBezTo>
                  <a:pt x="293" y="101"/>
                  <a:pt x="241" y="82"/>
                  <a:pt x="180" y="76"/>
                </a:cubicBezTo>
                <a:cubicBezTo>
                  <a:pt x="163" y="70"/>
                  <a:pt x="148" y="59"/>
                  <a:pt x="132" y="52"/>
                </a:cubicBezTo>
                <a:cubicBezTo>
                  <a:pt x="124" y="49"/>
                  <a:pt x="115" y="49"/>
                  <a:pt x="108" y="44"/>
                </a:cubicBezTo>
                <a:cubicBezTo>
                  <a:pt x="96" y="36"/>
                  <a:pt x="86" y="25"/>
                  <a:pt x="72" y="20"/>
                </a:cubicBezTo>
                <a:cubicBezTo>
                  <a:pt x="49" y="12"/>
                  <a:pt x="64" y="16"/>
                  <a:pt x="24" y="12"/>
                </a:cubicBezTo>
                <a:cubicBezTo>
                  <a:pt x="16" y="9"/>
                  <a:pt x="0" y="0"/>
                  <a:pt x="0" y="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Motor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4480" y="1023840"/>
            <a:ext cx="8075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PDT Switch: Wiring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700360" y="3789360"/>
            <a:ext cx="3019320" cy="504360"/>
            <a:chOff x="2700360" y="3789360"/>
            <a:chExt cx="3019320" cy="504360"/>
          </a:xfrm>
        </p:grpSpPr>
        <p:grpSp>
          <p:nvGrpSpPr>
            <p:cNvPr id="192" name=""/>
            <p:cNvGrpSpPr/>
            <p:nvPr/>
          </p:nvGrpSpPr>
          <p:grpSpPr>
            <a:xfrm>
              <a:off x="2700360" y="3836880"/>
              <a:ext cx="1142640" cy="456840"/>
              <a:chOff x="2700360" y="3836880"/>
              <a:chExt cx="1142640" cy="456840"/>
            </a:xfrm>
          </p:grpSpPr>
          <p:sp>
            <p:nvSpPr>
              <p:cNvPr id="193" name=""/>
              <p:cNvSpPr/>
              <p:nvPr/>
            </p:nvSpPr>
            <p:spPr>
              <a:xfrm>
                <a:off x="2700360" y="383688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157200" y="383688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614400" y="383688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700360" y="417960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157200" y="417960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614400" y="417960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9" name="" descr=""/>
            <p:cNvPicPr/>
            <p:nvPr/>
          </p:nvPicPr>
          <p:blipFill>
            <a:blip r:embed="rId1"/>
            <a:stretch/>
          </p:blipFill>
          <p:spPr>
            <a:xfrm>
              <a:off x="5100480" y="3789360"/>
              <a:ext cx="619200" cy="39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403280" y="1700280"/>
            <a:ext cx="3162240" cy="10764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793960" y="3879720"/>
            <a:ext cx="949320" cy="343080"/>
          </a:xfrm>
          <a:custGeom>
            <a:avLst/>
            <a:gdLst/>
            <a:ahLst/>
            <a:rect l="l" t="t" r="r" b="b"/>
            <a:pathLst>
              <a:path w="598" h="216">
                <a:moveTo>
                  <a:pt x="0" y="216"/>
                </a:moveTo>
                <a:cubicBezTo>
                  <a:pt x="7" y="211"/>
                  <a:pt x="17" y="210"/>
                  <a:pt x="24" y="204"/>
                </a:cubicBezTo>
                <a:cubicBezTo>
                  <a:pt x="47" y="185"/>
                  <a:pt x="8" y="192"/>
                  <a:pt x="56" y="176"/>
                </a:cubicBezTo>
                <a:cubicBezTo>
                  <a:pt x="76" y="169"/>
                  <a:pt x="96" y="163"/>
                  <a:pt x="116" y="156"/>
                </a:cubicBezTo>
                <a:cubicBezTo>
                  <a:pt x="125" y="153"/>
                  <a:pt x="131" y="143"/>
                  <a:pt x="140" y="140"/>
                </a:cubicBezTo>
                <a:cubicBezTo>
                  <a:pt x="180" y="127"/>
                  <a:pt x="213" y="109"/>
                  <a:pt x="256" y="104"/>
                </a:cubicBezTo>
                <a:cubicBezTo>
                  <a:pt x="281" y="96"/>
                  <a:pt x="302" y="92"/>
                  <a:pt x="328" y="88"/>
                </a:cubicBezTo>
                <a:cubicBezTo>
                  <a:pt x="345" y="82"/>
                  <a:pt x="359" y="78"/>
                  <a:pt x="376" y="84"/>
                </a:cubicBezTo>
                <a:cubicBezTo>
                  <a:pt x="406" y="38"/>
                  <a:pt x="475" y="33"/>
                  <a:pt x="524" y="20"/>
                </a:cubicBezTo>
                <a:cubicBezTo>
                  <a:pt x="598" y="0"/>
                  <a:pt x="520" y="21"/>
                  <a:pt x="580" y="8"/>
                </a:cubicBezTo>
                <a:cubicBezTo>
                  <a:pt x="584" y="7"/>
                  <a:pt x="592" y="4"/>
                  <a:pt x="592" y="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59120" y="4070520"/>
            <a:ext cx="1967040" cy="448920"/>
          </a:xfrm>
          <a:custGeom>
            <a:avLst/>
            <a:gdLst/>
            <a:ahLst/>
            <a:rect l="l" t="t" r="r" b="b"/>
            <a:pathLst>
              <a:path w="1239" h="283">
                <a:moveTo>
                  <a:pt x="0" y="108"/>
                </a:moveTo>
                <a:cubicBezTo>
                  <a:pt x="19" y="166"/>
                  <a:pt x="14" y="252"/>
                  <a:pt x="92" y="256"/>
                </a:cubicBezTo>
                <a:cubicBezTo>
                  <a:pt x="137" y="258"/>
                  <a:pt x="183" y="259"/>
                  <a:pt x="228" y="260"/>
                </a:cubicBezTo>
                <a:cubicBezTo>
                  <a:pt x="268" y="268"/>
                  <a:pt x="285" y="273"/>
                  <a:pt x="332" y="276"/>
                </a:cubicBezTo>
                <a:cubicBezTo>
                  <a:pt x="380" y="283"/>
                  <a:pt x="411" y="264"/>
                  <a:pt x="456" y="260"/>
                </a:cubicBezTo>
                <a:cubicBezTo>
                  <a:pt x="517" y="254"/>
                  <a:pt x="574" y="247"/>
                  <a:pt x="636" y="244"/>
                </a:cubicBezTo>
                <a:cubicBezTo>
                  <a:pt x="644" y="241"/>
                  <a:pt x="652" y="239"/>
                  <a:pt x="660" y="236"/>
                </a:cubicBezTo>
                <a:cubicBezTo>
                  <a:pt x="664" y="235"/>
                  <a:pt x="672" y="232"/>
                  <a:pt x="672" y="232"/>
                </a:cubicBezTo>
                <a:cubicBezTo>
                  <a:pt x="751" y="235"/>
                  <a:pt x="825" y="244"/>
                  <a:pt x="904" y="248"/>
                </a:cubicBezTo>
                <a:cubicBezTo>
                  <a:pt x="976" y="243"/>
                  <a:pt x="1048" y="238"/>
                  <a:pt x="1120" y="232"/>
                </a:cubicBezTo>
                <a:cubicBezTo>
                  <a:pt x="1145" y="224"/>
                  <a:pt x="1169" y="227"/>
                  <a:pt x="1192" y="212"/>
                </a:cubicBezTo>
                <a:cubicBezTo>
                  <a:pt x="1201" y="199"/>
                  <a:pt x="1212" y="191"/>
                  <a:pt x="1216" y="176"/>
                </a:cubicBezTo>
                <a:cubicBezTo>
                  <a:pt x="1219" y="165"/>
                  <a:pt x="1224" y="144"/>
                  <a:pt x="1224" y="144"/>
                </a:cubicBezTo>
                <a:cubicBezTo>
                  <a:pt x="1225" y="120"/>
                  <a:pt x="1239" y="39"/>
                  <a:pt x="12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20960" y="3892680"/>
            <a:ext cx="1416240" cy="177840"/>
          </a:xfrm>
          <a:custGeom>
            <a:avLst/>
            <a:gdLst/>
            <a:ahLst/>
            <a:rect l="l" t="t" r="r" b="b"/>
            <a:pathLst>
              <a:path w="892" h="112">
                <a:moveTo>
                  <a:pt x="0" y="0"/>
                </a:moveTo>
                <a:cubicBezTo>
                  <a:pt x="44" y="4"/>
                  <a:pt x="88" y="10"/>
                  <a:pt x="132" y="16"/>
                </a:cubicBezTo>
                <a:cubicBezTo>
                  <a:pt x="150" y="28"/>
                  <a:pt x="154" y="28"/>
                  <a:pt x="176" y="24"/>
                </a:cubicBezTo>
                <a:cubicBezTo>
                  <a:pt x="230" y="32"/>
                  <a:pt x="287" y="38"/>
                  <a:pt x="340" y="20"/>
                </a:cubicBezTo>
                <a:cubicBezTo>
                  <a:pt x="389" y="23"/>
                  <a:pt x="423" y="25"/>
                  <a:pt x="468" y="36"/>
                </a:cubicBezTo>
                <a:cubicBezTo>
                  <a:pt x="481" y="39"/>
                  <a:pt x="495" y="44"/>
                  <a:pt x="508" y="48"/>
                </a:cubicBezTo>
                <a:cubicBezTo>
                  <a:pt x="519" y="51"/>
                  <a:pt x="540" y="56"/>
                  <a:pt x="540" y="56"/>
                </a:cubicBezTo>
                <a:cubicBezTo>
                  <a:pt x="585" y="86"/>
                  <a:pt x="646" y="66"/>
                  <a:pt x="696" y="64"/>
                </a:cubicBezTo>
                <a:cubicBezTo>
                  <a:pt x="719" y="65"/>
                  <a:pt x="741" y="66"/>
                  <a:pt x="764" y="68"/>
                </a:cubicBezTo>
                <a:cubicBezTo>
                  <a:pt x="779" y="70"/>
                  <a:pt x="808" y="80"/>
                  <a:pt x="808" y="80"/>
                </a:cubicBezTo>
                <a:cubicBezTo>
                  <a:pt x="834" y="97"/>
                  <a:pt x="865" y="98"/>
                  <a:pt x="892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5580000" y="1700280"/>
            <a:ext cx="1343160" cy="8953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825640" y="3898800"/>
            <a:ext cx="933480" cy="343080"/>
          </a:xfrm>
          <a:custGeom>
            <a:avLst/>
            <a:gdLst/>
            <a:ahLst/>
            <a:rect l="l" t="t" r="r" b="b"/>
            <a:pathLst>
              <a:path w="588" h="216">
                <a:moveTo>
                  <a:pt x="588" y="216"/>
                </a:moveTo>
                <a:cubicBezTo>
                  <a:pt x="571" y="210"/>
                  <a:pt x="551" y="205"/>
                  <a:pt x="536" y="196"/>
                </a:cubicBezTo>
                <a:cubicBezTo>
                  <a:pt x="495" y="173"/>
                  <a:pt x="527" y="185"/>
                  <a:pt x="500" y="176"/>
                </a:cubicBezTo>
                <a:cubicBezTo>
                  <a:pt x="466" y="124"/>
                  <a:pt x="405" y="129"/>
                  <a:pt x="352" y="116"/>
                </a:cubicBezTo>
                <a:cubicBezTo>
                  <a:pt x="293" y="101"/>
                  <a:pt x="241" y="82"/>
                  <a:pt x="180" y="76"/>
                </a:cubicBezTo>
                <a:cubicBezTo>
                  <a:pt x="163" y="70"/>
                  <a:pt x="148" y="59"/>
                  <a:pt x="132" y="52"/>
                </a:cubicBezTo>
                <a:cubicBezTo>
                  <a:pt x="124" y="49"/>
                  <a:pt x="115" y="49"/>
                  <a:pt x="108" y="44"/>
                </a:cubicBezTo>
                <a:cubicBezTo>
                  <a:pt x="96" y="36"/>
                  <a:pt x="86" y="25"/>
                  <a:pt x="72" y="20"/>
                </a:cubicBezTo>
                <a:cubicBezTo>
                  <a:pt x="49" y="12"/>
                  <a:pt x="64" y="16"/>
                  <a:pt x="24" y="12"/>
                </a:cubicBezTo>
                <a:cubicBezTo>
                  <a:pt x="16" y="9"/>
                  <a:pt x="0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276720" y="3382920"/>
            <a:ext cx="0" cy="5032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4221000"/>
            <a:ext cx="0" cy="5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03640" y="33577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+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03640" y="45813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Motor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28120" y="1095120"/>
            <a:ext cx="80758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 and reverse control of motor with limit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258920" y="2205000"/>
            <a:ext cx="66326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1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392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5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Motor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28120" y="1095120"/>
            <a:ext cx="80758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17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 and reverse control of motor with limit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ing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3228840" cy="1133640"/>
          </a:xfrm>
          <a:prstGeom prst="rect">
            <a:avLst/>
          </a:prstGeom>
          <a:ln w="0">
            <a:noFill/>
          </a:ln>
        </p:spPr>
      </p:pic>
      <p:grpSp>
        <p:nvGrpSpPr>
          <p:cNvPr id="216" name=""/>
          <p:cNvGrpSpPr/>
          <p:nvPr/>
        </p:nvGrpSpPr>
        <p:grpSpPr>
          <a:xfrm>
            <a:off x="2340000" y="3789360"/>
            <a:ext cx="3704760" cy="2018880"/>
            <a:chOff x="2340000" y="3789360"/>
            <a:chExt cx="3704760" cy="2018880"/>
          </a:xfrm>
        </p:grpSpPr>
        <p:grpSp>
          <p:nvGrpSpPr>
            <p:cNvPr id="217" name=""/>
            <p:cNvGrpSpPr/>
            <p:nvPr/>
          </p:nvGrpSpPr>
          <p:grpSpPr>
            <a:xfrm>
              <a:off x="2340000" y="4475160"/>
              <a:ext cx="1142640" cy="456840"/>
              <a:chOff x="2340000" y="4475160"/>
              <a:chExt cx="1142640" cy="456840"/>
            </a:xfrm>
          </p:grpSpPr>
          <p:sp>
            <p:nvSpPr>
              <p:cNvPr id="218" name=""/>
              <p:cNvSpPr/>
              <p:nvPr/>
            </p:nvSpPr>
            <p:spPr>
              <a:xfrm>
                <a:off x="2340000" y="447516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796840" y="447516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254040" y="447516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340000" y="481788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796840" y="481788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254040" y="481788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4" name="" descr=""/>
            <p:cNvPicPr/>
            <p:nvPr/>
          </p:nvPicPr>
          <p:blipFill>
            <a:blip r:embed="rId2"/>
            <a:stretch/>
          </p:blipFill>
          <p:spPr>
            <a:xfrm>
              <a:off x="5425920" y="4475160"/>
              <a:ext cx="61884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3"/>
            <a:stretch/>
          </p:blipFill>
          <p:spPr>
            <a:xfrm>
              <a:off x="4168800" y="3789360"/>
              <a:ext cx="628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4"/>
            <a:stretch/>
          </p:blipFill>
          <p:spPr>
            <a:xfrm>
              <a:off x="4168800" y="5503680"/>
              <a:ext cx="628560" cy="30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5580000" y="1989000"/>
            <a:ext cx="1343160" cy="8953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756320" y="3848040"/>
            <a:ext cx="1274760" cy="895320"/>
          </a:xfrm>
          <a:custGeom>
            <a:avLst/>
            <a:gdLst/>
            <a:ahLst/>
            <a:rect l="l" t="t" r="r" b="b"/>
            <a:pathLst>
              <a:path w="803" h="564">
                <a:moveTo>
                  <a:pt x="0" y="4"/>
                </a:moveTo>
                <a:cubicBezTo>
                  <a:pt x="80" y="10"/>
                  <a:pt x="160" y="10"/>
                  <a:pt x="240" y="0"/>
                </a:cubicBezTo>
                <a:cubicBezTo>
                  <a:pt x="306" y="3"/>
                  <a:pt x="329" y="6"/>
                  <a:pt x="384" y="12"/>
                </a:cubicBezTo>
                <a:cubicBezTo>
                  <a:pt x="420" y="24"/>
                  <a:pt x="366" y="7"/>
                  <a:pt x="456" y="20"/>
                </a:cubicBezTo>
                <a:cubicBezTo>
                  <a:pt x="501" y="26"/>
                  <a:pt x="548" y="48"/>
                  <a:pt x="588" y="68"/>
                </a:cubicBezTo>
                <a:cubicBezTo>
                  <a:pt x="618" y="83"/>
                  <a:pt x="634" y="101"/>
                  <a:pt x="652" y="128"/>
                </a:cubicBezTo>
                <a:cubicBezTo>
                  <a:pt x="657" y="136"/>
                  <a:pt x="663" y="144"/>
                  <a:pt x="668" y="152"/>
                </a:cubicBezTo>
                <a:cubicBezTo>
                  <a:pt x="671" y="156"/>
                  <a:pt x="676" y="164"/>
                  <a:pt x="676" y="164"/>
                </a:cubicBezTo>
                <a:cubicBezTo>
                  <a:pt x="676" y="165"/>
                  <a:pt x="682" y="189"/>
                  <a:pt x="684" y="192"/>
                </a:cubicBezTo>
                <a:cubicBezTo>
                  <a:pt x="693" y="204"/>
                  <a:pt x="709" y="213"/>
                  <a:pt x="716" y="228"/>
                </a:cubicBezTo>
                <a:cubicBezTo>
                  <a:pt x="735" y="270"/>
                  <a:pt x="738" y="321"/>
                  <a:pt x="764" y="360"/>
                </a:cubicBezTo>
                <a:cubicBezTo>
                  <a:pt x="773" y="397"/>
                  <a:pt x="776" y="436"/>
                  <a:pt x="788" y="472"/>
                </a:cubicBezTo>
                <a:cubicBezTo>
                  <a:pt x="792" y="503"/>
                  <a:pt x="803" y="534"/>
                  <a:pt x="788" y="5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403440" y="4876920"/>
            <a:ext cx="819360" cy="685800"/>
          </a:xfrm>
          <a:custGeom>
            <a:avLst/>
            <a:gdLst/>
            <a:ahLst/>
            <a:rect l="l" t="t" r="r" b="b"/>
            <a:pathLst>
              <a:path w="516" h="432">
                <a:moveTo>
                  <a:pt x="516" y="432"/>
                </a:moveTo>
                <a:cubicBezTo>
                  <a:pt x="451" y="429"/>
                  <a:pt x="404" y="424"/>
                  <a:pt x="340" y="428"/>
                </a:cubicBezTo>
                <a:cubicBezTo>
                  <a:pt x="288" y="415"/>
                  <a:pt x="239" y="385"/>
                  <a:pt x="188" y="368"/>
                </a:cubicBezTo>
                <a:cubicBezTo>
                  <a:pt x="185" y="367"/>
                  <a:pt x="145" y="345"/>
                  <a:pt x="140" y="340"/>
                </a:cubicBezTo>
                <a:cubicBezTo>
                  <a:pt x="132" y="332"/>
                  <a:pt x="116" y="316"/>
                  <a:pt x="116" y="316"/>
                </a:cubicBezTo>
                <a:cubicBezTo>
                  <a:pt x="104" y="279"/>
                  <a:pt x="124" y="334"/>
                  <a:pt x="100" y="292"/>
                </a:cubicBezTo>
                <a:cubicBezTo>
                  <a:pt x="89" y="272"/>
                  <a:pt x="85" y="248"/>
                  <a:pt x="72" y="228"/>
                </a:cubicBezTo>
                <a:cubicBezTo>
                  <a:pt x="62" y="187"/>
                  <a:pt x="51" y="138"/>
                  <a:pt x="32" y="100"/>
                </a:cubicBezTo>
                <a:cubicBezTo>
                  <a:pt x="29" y="76"/>
                  <a:pt x="18" y="1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62440" y="4762440"/>
            <a:ext cx="1238400" cy="806400"/>
          </a:xfrm>
          <a:custGeom>
            <a:avLst/>
            <a:gdLst/>
            <a:ahLst/>
            <a:rect l="l" t="t" r="r" b="b"/>
            <a:pathLst>
              <a:path w="780" h="508">
                <a:moveTo>
                  <a:pt x="0" y="508"/>
                </a:moveTo>
                <a:cubicBezTo>
                  <a:pt x="69" y="491"/>
                  <a:pt x="141" y="491"/>
                  <a:pt x="212" y="484"/>
                </a:cubicBezTo>
                <a:cubicBezTo>
                  <a:pt x="242" y="474"/>
                  <a:pt x="272" y="474"/>
                  <a:pt x="304" y="472"/>
                </a:cubicBezTo>
                <a:cubicBezTo>
                  <a:pt x="377" y="460"/>
                  <a:pt x="454" y="445"/>
                  <a:pt x="520" y="412"/>
                </a:cubicBezTo>
                <a:cubicBezTo>
                  <a:pt x="530" y="398"/>
                  <a:pt x="538" y="397"/>
                  <a:pt x="552" y="388"/>
                </a:cubicBezTo>
                <a:cubicBezTo>
                  <a:pt x="562" y="359"/>
                  <a:pt x="601" y="360"/>
                  <a:pt x="624" y="344"/>
                </a:cubicBezTo>
                <a:cubicBezTo>
                  <a:pt x="648" y="327"/>
                  <a:pt x="663" y="303"/>
                  <a:pt x="680" y="280"/>
                </a:cubicBezTo>
                <a:cubicBezTo>
                  <a:pt x="690" y="250"/>
                  <a:pt x="706" y="224"/>
                  <a:pt x="720" y="196"/>
                </a:cubicBezTo>
                <a:cubicBezTo>
                  <a:pt x="725" y="170"/>
                  <a:pt x="737" y="106"/>
                  <a:pt x="752" y="84"/>
                </a:cubicBezTo>
                <a:cubicBezTo>
                  <a:pt x="769" y="58"/>
                  <a:pt x="780" y="32"/>
                  <a:pt x="78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916360" y="4005360"/>
            <a:ext cx="0" cy="5032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43280" y="400536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+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916360" y="4869000"/>
            <a:ext cx="0" cy="57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43280" y="52354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413080" y="3794040"/>
            <a:ext cx="1790640" cy="752400"/>
          </a:xfrm>
          <a:custGeom>
            <a:avLst/>
            <a:gdLst/>
            <a:ahLst/>
            <a:rect l="l" t="t" r="r" b="b"/>
            <a:pathLst>
              <a:path w="1128" h="474">
                <a:moveTo>
                  <a:pt x="24" y="474"/>
                </a:moveTo>
                <a:cubicBezTo>
                  <a:pt x="13" y="396"/>
                  <a:pt x="5" y="353"/>
                  <a:pt x="0" y="266"/>
                </a:cubicBezTo>
                <a:cubicBezTo>
                  <a:pt x="9" y="173"/>
                  <a:pt x="17" y="126"/>
                  <a:pt x="96" y="74"/>
                </a:cubicBezTo>
                <a:cubicBezTo>
                  <a:pt x="168" y="92"/>
                  <a:pt x="228" y="63"/>
                  <a:pt x="296" y="58"/>
                </a:cubicBezTo>
                <a:cubicBezTo>
                  <a:pt x="363" y="53"/>
                  <a:pt x="429" y="53"/>
                  <a:pt x="496" y="50"/>
                </a:cubicBezTo>
                <a:cubicBezTo>
                  <a:pt x="647" y="0"/>
                  <a:pt x="461" y="59"/>
                  <a:pt x="912" y="50"/>
                </a:cubicBezTo>
                <a:cubicBezTo>
                  <a:pt x="922" y="50"/>
                  <a:pt x="926" y="35"/>
                  <a:pt x="936" y="34"/>
                </a:cubicBezTo>
                <a:cubicBezTo>
                  <a:pt x="1000" y="29"/>
                  <a:pt x="1064" y="34"/>
                  <a:pt x="1128" y="3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19200" y="4533840"/>
            <a:ext cx="924120" cy="333360"/>
          </a:xfrm>
          <a:custGeom>
            <a:avLst/>
            <a:gdLst/>
            <a:ahLst/>
            <a:rect l="l" t="t" r="r" b="b"/>
            <a:pathLst>
              <a:path w="582" h="210">
                <a:moveTo>
                  <a:pt x="0" y="210"/>
                </a:moveTo>
                <a:cubicBezTo>
                  <a:pt x="47" y="163"/>
                  <a:pt x="82" y="166"/>
                  <a:pt x="144" y="150"/>
                </a:cubicBezTo>
                <a:cubicBezTo>
                  <a:pt x="202" y="136"/>
                  <a:pt x="252" y="115"/>
                  <a:pt x="312" y="108"/>
                </a:cubicBezTo>
                <a:cubicBezTo>
                  <a:pt x="337" y="100"/>
                  <a:pt x="366" y="94"/>
                  <a:pt x="390" y="84"/>
                </a:cubicBezTo>
                <a:cubicBezTo>
                  <a:pt x="407" y="77"/>
                  <a:pt x="414" y="70"/>
                  <a:pt x="432" y="66"/>
                </a:cubicBezTo>
                <a:cubicBezTo>
                  <a:pt x="481" y="56"/>
                  <a:pt x="556" y="51"/>
                  <a:pt x="5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352680" y="4514760"/>
            <a:ext cx="2114640" cy="238320"/>
          </a:xfrm>
          <a:custGeom>
            <a:avLst/>
            <a:gdLst/>
            <a:ahLst/>
            <a:rect l="l" t="t" r="r" b="b"/>
            <a:pathLst>
              <a:path w="1332" h="150">
                <a:moveTo>
                  <a:pt x="0" y="6"/>
                </a:moveTo>
                <a:cubicBezTo>
                  <a:pt x="86" y="8"/>
                  <a:pt x="172" y="14"/>
                  <a:pt x="258" y="12"/>
                </a:cubicBezTo>
                <a:cubicBezTo>
                  <a:pt x="271" y="12"/>
                  <a:pt x="294" y="0"/>
                  <a:pt x="294" y="0"/>
                </a:cubicBezTo>
                <a:cubicBezTo>
                  <a:pt x="413" y="20"/>
                  <a:pt x="288" y="1"/>
                  <a:pt x="570" y="12"/>
                </a:cubicBezTo>
                <a:cubicBezTo>
                  <a:pt x="642" y="15"/>
                  <a:pt x="714" y="31"/>
                  <a:pt x="786" y="36"/>
                </a:cubicBezTo>
                <a:cubicBezTo>
                  <a:pt x="846" y="56"/>
                  <a:pt x="828" y="52"/>
                  <a:pt x="948" y="48"/>
                </a:cubicBezTo>
                <a:cubicBezTo>
                  <a:pt x="961" y="48"/>
                  <a:pt x="984" y="36"/>
                  <a:pt x="984" y="36"/>
                </a:cubicBezTo>
                <a:cubicBezTo>
                  <a:pt x="1068" y="38"/>
                  <a:pt x="1152" y="37"/>
                  <a:pt x="1236" y="42"/>
                </a:cubicBezTo>
                <a:cubicBezTo>
                  <a:pt x="1249" y="43"/>
                  <a:pt x="1272" y="54"/>
                  <a:pt x="1272" y="54"/>
                </a:cubicBezTo>
                <a:cubicBezTo>
                  <a:pt x="1287" y="99"/>
                  <a:pt x="1265" y="45"/>
                  <a:pt x="1296" y="84"/>
                </a:cubicBezTo>
                <a:cubicBezTo>
                  <a:pt x="1300" y="89"/>
                  <a:pt x="1299" y="96"/>
                  <a:pt x="1302" y="102"/>
                </a:cubicBezTo>
                <a:cubicBezTo>
                  <a:pt x="1309" y="115"/>
                  <a:pt x="1320" y="125"/>
                  <a:pt x="1326" y="138"/>
                </a:cubicBezTo>
                <a:cubicBezTo>
                  <a:pt x="1328" y="142"/>
                  <a:pt x="1330" y="146"/>
                  <a:pt x="1332" y="1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Motor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28120" y="1095120"/>
            <a:ext cx="80758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 and reverse control of motor with limit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720396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4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455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8" dur="1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lectric Circ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1268280"/>
            <a:ext cx="741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al wire used to connect components is a condu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nductor allows electric current to flow through it eas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conductors include: copper, gold, silver, t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per wire is generally used as it is most cost effe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4260960"/>
            <a:ext cx="7129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electrical wires have a plastic cov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stic is an insul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sulator does not allow current to flow through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s electric sho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ulators include: plastic, glass, wo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C:\Users\Pat\AppData\Local\Microsoft\Windows\Temporary Internet Files\Content.IE5\PP4SAF3C\MCj04348610000[1].png"/>
          <p:cNvPicPr/>
          <p:nvPr/>
        </p:nvPicPr>
        <p:blipFill>
          <a:blip r:embed="rId1"/>
          <a:srcRect l="0" t="23855" r="0" b="14191"/>
          <a:stretch/>
        </p:blipFill>
        <p:spPr>
          <a:xfrm>
            <a:off x="3564000" y="2708280"/>
            <a:ext cx="208764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Motor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28120" y="1095120"/>
            <a:ext cx="80758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17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 and reverse control of motor with limit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ing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3848040" cy="13431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6084720" y="2060640"/>
            <a:ext cx="1343160" cy="895320"/>
          </a:xfrm>
          <a:prstGeom prst="rect">
            <a:avLst/>
          </a:prstGeom>
          <a:ln w="0">
            <a:noFill/>
          </a:ln>
        </p:spPr>
      </p:pic>
      <p:grpSp>
        <p:nvGrpSpPr>
          <p:cNvPr id="245" name=""/>
          <p:cNvGrpSpPr/>
          <p:nvPr/>
        </p:nvGrpSpPr>
        <p:grpSpPr>
          <a:xfrm>
            <a:off x="2195640" y="3860640"/>
            <a:ext cx="3704760" cy="2019600"/>
            <a:chOff x="2195640" y="3860640"/>
            <a:chExt cx="3704760" cy="2019600"/>
          </a:xfrm>
        </p:grpSpPr>
        <p:grpSp>
          <p:nvGrpSpPr>
            <p:cNvPr id="246" name=""/>
            <p:cNvGrpSpPr/>
            <p:nvPr/>
          </p:nvGrpSpPr>
          <p:grpSpPr>
            <a:xfrm>
              <a:off x="2195640" y="4546440"/>
              <a:ext cx="1142640" cy="456840"/>
              <a:chOff x="2195640" y="4546440"/>
              <a:chExt cx="1142640" cy="456840"/>
            </a:xfrm>
          </p:grpSpPr>
          <p:sp>
            <p:nvSpPr>
              <p:cNvPr id="247" name=""/>
              <p:cNvSpPr/>
              <p:nvPr/>
            </p:nvSpPr>
            <p:spPr>
              <a:xfrm>
                <a:off x="2195640" y="454644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652480" y="454644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109680" y="454644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195640" y="488916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652480" y="488916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109680" y="4889160"/>
                <a:ext cx="228600" cy="114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3" name="" descr=""/>
            <p:cNvPicPr/>
            <p:nvPr/>
          </p:nvPicPr>
          <p:blipFill>
            <a:blip r:embed="rId3"/>
            <a:stretch/>
          </p:blipFill>
          <p:spPr>
            <a:xfrm>
              <a:off x="5281560" y="4546440"/>
              <a:ext cx="61884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4"/>
            <a:stretch/>
          </p:blipFill>
          <p:spPr>
            <a:xfrm>
              <a:off x="4024440" y="3860640"/>
              <a:ext cx="628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5"/>
            <a:stretch/>
          </p:blipFill>
          <p:spPr>
            <a:xfrm>
              <a:off x="4024440" y="5575320"/>
              <a:ext cx="62856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6" name=""/>
          <p:cNvSpPr/>
          <p:nvPr/>
        </p:nvSpPr>
        <p:spPr>
          <a:xfrm>
            <a:off x="2276640" y="3913200"/>
            <a:ext cx="1800000" cy="696960"/>
          </a:xfrm>
          <a:custGeom>
            <a:avLst/>
            <a:gdLst/>
            <a:ahLst/>
            <a:rect l="l" t="t" r="r" b="b"/>
            <a:pathLst>
              <a:path w="1134" h="439">
                <a:moveTo>
                  <a:pt x="0" y="439"/>
                </a:moveTo>
                <a:cubicBezTo>
                  <a:pt x="16" y="391"/>
                  <a:pt x="15" y="351"/>
                  <a:pt x="24" y="301"/>
                </a:cubicBezTo>
                <a:cubicBezTo>
                  <a:pt x="26" y="289"/>
                  <a:pt x="34" y="277"/>
                  <a:pt x="36" y="265"/>
                </a:cubicBezTo>
                <a:cubicBezTo>
                  <a:pt x="38" y="255"/>
                  <a:pt x="40" y="245"/>
                  <a:pt x="42" y="235"/>
                </a:cubicBezTo>
                <a:cubicBezTo>
                  <a:pt x="44" y="223"/>
                  <a:pt x="62" y="131"/>
                  <a:pt x="78" y="121"/>
                </a:cubicBezTo>
                <a:cubicBezTo>
                  <a:pt x="92" y="112"/>
                  <a:pt x="111" y="115"/>
                  <a:pt x="126" y="109"/>
                </a:cubicBezTo>
                <a:cubicBezTo>
                  <a:pt x="170" y="90"/>
                  <a:pt x="215" y="59"/>
                  <a:pt x="264" y="55"/>
                </a:cubicBezTo>
                <a:cubicBezTo>
                  <a:pt x="332" y="50"/>
                  <a:pt x="400" y="48"/>
                  <a:pt x="468" y="43"/>
                </a:cubicBezTo>
                <a:cubicBezTo>
                  <a:pt x="590" y="2"/>
                  <a:pt x="971" y="21"/>
                  <a:pt x="1056" y="19"/>
                </a:cubicBezTo>
                <a:cubicBezTo>
                  <a:pt x="1064" y="17"/>
                  <a:pt x="1072" y="16"/>
                  <a:pt x="1080" y="13"/>
                </a:cubicBezTo>
                <a:cubicBezTo>
                  <a:pt x="1087" y="10"/>
                  <a:pt x="1091" y="2"/>
                  <a:pt x="1098" y="1"/>
                </a:cubicBezTo>
                <a:cubicBezTo>
                  <a:pt x="1110" y="0"/>
                  <a:pt x="1134" y="7"/>
                  <a:pt x="1134" y="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29240" y="3830760"/>
            <a:ext cx="1349280" cy="1009440"/>
          </a:xfrm>
          <a:custGeom>
            <a:avLst/>
            <a:gdLst/>
            <a:ahLst/>
            <a:rect l="l" t="t" r="r" b="b"/>
            <a:pathLst>
              <a:path w="850" h="636">
                <a:moveTo>
                  <a:pt x="0" y="53"/>
                </a:moveTo>
                <a:cubicBezTo>
                  <a:pt x="160" y="0"/>
                  <a:pt x="366" y="47"/>
                  <a:pt x="534" y="53"/>
                </a:cubicBezTo>
                <a:cubicBezTo>
                  <a:pt x="578" y="57"/>
                  <a:pt x="617" y="65"/>
                  <a:pt x="660" y="71"/>
                </a:cubicBezTo>
                <a:cubicBezTo>
                  <a:pt x="706" y="86"/>
                  <a:pt x="684" y="81"/>
                  <a:pt x="726" y="89"/>
                </a:cubicBezTo>
                <a:cubicBezTo>
                  <a:pt x="752" y="106"/>
                  <a:pt x="780" y="107"/>
                  <a:pt x="810" y="113"/>
                </a:cubicBezTo>
                <a:cubicBezTo>
                  <a:pt x="812" y="119"/>
                  <a:pt x="813" y="125"/>
                  <a:pt x="816" y="131"/>
                </a:cubicBezTo>
                <a:cubicBezTo>
                  <a:pt x="819" y="137"/>
                  <a:pt x="825" y="142"/>
                  <a:pt x="828" y="149"/>
                </a:cubicBezTo>
                <a:cubicBezTo>
                  <a:pt x="835" y="167"/>
                  <a:pt x="839" y="231"/>
                  <a:pt x="840" y="239"/>
                </a:cubicBezTo>
                <a:cubicBezTo>
                  <a:pt x="838" y="277"/>
                  <a:pt x="830" y="315"/>
                  <a:pt x="828" y="353"/>
                </a:cubicBezTo>
                <a:cubicBezTo>
                  <a:pt x="820" y="489"/>
                  <a:pt x="850" y="504"/>
                  <a:pt x="798" y="581"/>
                </a:cubicBezTo>
                <a:cubicBezTo>
                  <a:pt x="791" y="627"/>
                  <a:pt x="798" y="636"/>
                  <a:pt x="786" y="6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47920" y="4597560"/>
            <a:ext cx="865440" cy="1041120"/>
          </a:xfrm>
          <a:custGeom>
            <a:avLst/>
            <a:gdLst/>
            <a:ahLst/>
            <a:rect l="l" t="t" r="r" b="b"/>
            <a:pathLst>
              <a:path w="545" h="656">
                <a:moveTo>
                  <a:pt x="0" y="8"/>
                </a:moveTo>
                <a:cubicBezTo>
                  <a:pt x="78" y="11"/>
                  <a:pt x="158" y="0"/>
                  <a:pt x="234" y="20"/>
                </a:cubicBezTo>
                <a:cubicBezTo>
                  <a:pt x="255" y="26"/>
                  <a:pt x="288" y="56"/>
                  <a:pt x="288" y="56"/>
                </a:cubicBezTo>
                <a:cubicBezTo>
                  <a:pt x="318" y="101"/>
                  <a:pt x="355" y="142"/>
                  <a:pt x="384" y="188"/>
                </a:cubicBezTo>
                <a:cubicBezTo>
                  <a:pt x="389" y="196"/>
                  <a:pt x="391" y="204"/>
                  <a:pt x="396" y="212"/>
                </a:cubicBezTo>
                <a:cubicBezTo>
                  <a:pt x="403" y="224"/>
                  <a:pt x="412" y="236"/>
                  <a:pt x="420" y="248"/>
                </a:cubicBezTo>
                <a:cubicBezTo>
                  <a:pt x="424" y="254"/>
                  <a:pt x="432" y="266"/>
                  <a:pt x="432" y="266"/>
                </a:cubicBezTo>
                <a:cubicBezTo>
                  <a:pt x="424" y="299"/>
                  <a:pt x="439" y="304"/>
                  <a:pt x="444" y="338"/>
                </a:cubicBezTo>
                <a:cubicBezTo>
                  <a:pt x="452" y="395"/>
                  <a:pt x="463" y="456"/>
                  <a:pt x="480" y="512"/>
                </a:cubicBezTo>
                <a:cubicBezTo>
                  <a:pt x="492" y="553"/>
                  <a:pt x="545" y="609"/>
                  <a:pt x="522" y="6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29240" y="4829040"/>
            <a:ext cx="696960" cy="800280"/>
          </a:xfrm>
          <a:custGeom>
            <a:avLst/>
            <a:gdLst/>
            <a:ahLst/>
            <a:rect l="l" t="t" r="r" b="b"/>
            <a:pathLst>
              <a:path w="439" h="504">
                <a:moveTo>
                  <a:pt x="0" y="504"/>
                </a:moveTo>
                <a:cubicBezTo>
                  <a:pt x="14" y="483"/>
                  <a:pt x="18" y="468"/>
                  <a:pt x="36" y="450"/>
                </a:cubicBezTo>
                <a:cubicBezTo>
                  <a:pt x="47" y="418"/>
                  <a:pt x="97" y="378"/>
                  <a:pt x="132" y="366"/>
                </a:cubicBezTo>
                <a:cubicBezTo>
                  <a:pt x="148" y="342"/>
                  <a:pt x="174" y="316"/>
                  <a:pt x="198" y="300"/>
                </a:cubicBezTo>
                <a:cubicBezTo>
                  <a:pt x="218" y="270"/>
                  <a:pt x="230" y="256"/>
                  <a:pt x="258" y="234"/>
                </a:cubicBezTo>
                <a:cubicBezTo>
                  <a:pt x="269" y="225"/>
                  <a:pt x="294" y="210"/>
                  <a:pt x="294" y="210"/>
                </a:cubicBezTo>
                <a:cubicBezTo>
                  <a:pt x="311" y="184"/>
                  <a:pt x="339" y="177"/>
                  <a:pt x="360" y="156"/>
                </a:cubicBezTo>
                <a:cubicBezTo>
                  <a:pt x="387" y="129"/>
                  <a:pt x="400" y="93"/>
                  <a:pt x="432" y="72"/>
                </a:cubicBezTo>
                <a:cubicBezTo>
                  <a:pt x="439" y="20"/>
                  <a:pt x="438" y="44"/>
                  <a:pt x="43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89240" y="4782960"/>
            <a:ext cx="3025800" cy="179640"/>
          </a:xfrm>
          <a:custGeom>
            <a:avLst/>
            <a:gdLst/>
            <a:ahLst/>
            <a:rect l="l" t="t" r="r" b="b"/>
            <a:pathLst>
              <a:path w="1906" h="113">
                <a:moveTo>
                  <a:pt x="16" y="101"/>
                </a:moveTo>
                <a:cubicBezTo>
                  <a:pt x="14" y="77"/>
                  <a:pt x="0" y="51"/>
                  <a:pt x="10" y="29"/>
                </a:cubicBezTo>
                <a:cubicBezTo>
                  <a:pt x="16" y="16"/>
                  <a:pt x="38" y="25"/>
                  <a:pt x="52" y="23"/>
                </a:cubicBezTo>
                <a:cubicBezTo>
                  <a:pt x="81" y="18"/>
                  <a:pt x="77" y="19"/>
                  <a:pt x="100" y="11"/>
                </a:cubicBezTo>
                <a:cubicBezTo>
                  <a:pt x="181" y="38"/>
                  <a:pt x="294" y="23"/>
                  <a:pt x="382" y="29"/>
                </a:cubicBezTo>
                <a:cubicBezTo>
                  <a:pt x="439" y="0"/>
                  <a:pt x="574" y="29"/>
                  <a:pt x="574" y="29"/>
                </a:cubicBezTo>
                <a:cubicBezTo>
                  <a:pt x="635" y="19"/>
                  <a:pt x="635" y="18"/>
                  <a:pt x="712" y="23"/>
                </a:cubicBezTo>
                <a:cubicBezTo>
                  <a:pt x="752" y="30"/>
                  <a:pt x="794" y="40"/>
                  <a:pt x="832" y="53"/>
                </a:cubicBezTo>
                <a:cubicBezTo>
                  <a:pt x="856" y="51"/>
                  <a:pt x="880" y="50"/>
                  <a:pt x="904" y="47"/>
                </a:cubicBezTo>
                <a:cubicBezTo>
                  <a:pt x="910" y="46"/>
                  <a:pt x="916" y="38"/>
                  <a:pt x="922" y="41"/>
                </a:cubicBezTo>
                <a:cubicBezTo>
                  <a:pt x="923" y="41"/>
                  <a:pt x="943" y="91"/>
                  <a:pt x="946" y="95"/>
                </a:cubicBezTo>
                <a:cubicBezTo>
                  <a:pt x="954" y="106"/>
                  <a:pt x="970" y="109"/>
                  <a:pt x="982" y="113"/>
                </a:cubicBezTo>
                <a:cubicBezTo>
                  <a:pt x="1027" y="102"/>
                  <a:pt x="1020" y="86"/>
                  <a:pt x="1042" y="53"/>
                </a:cubicBezTo>
                <a:cubicBezTo>
                  <a:pt x="1044" y="45"/>
                  <a:pt x="1040" y="31"/>
                  <a:pt x="1048" y="29"/>
                </a:cubicBezTo>
                <a:cubicBezTo>
                  <a:pt x="1076" y="23"/>
                  <a:pt x="1104" y="35"/>
                  <a:pt x="1132" y="35"/>
                </a:cubicBezTo>
                <a:cubicBezTo>
                  <a:pt x="1182" y="35"/>
                  <a:pt x="1232" y="31"/>
                  <a:pt x="1282" y="29"/>
                </a:cubicBezTo>
                <a:cubicBezTo>
                  <a:pt x="1339" y="10"/>
                  <a:pt x="1462" y="35"/>
                  <a:pt x="1462" y="35"/>
                </a:cubicBezTo>
                <a:cubicBezTo>
                  <a:pt x="1580" y="33"/>
                  <a:pt x="1698" y="33"/>
                  <a:pt x="1816" y="29"/>
                </a:cubicBezTo>
                <a:cubicBezTo>
                  <a:pt x="1846" y="28"/>
                  <a:pt x="1906" y="29"/>
                  <a:pt x="1906" y="2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30640" y="4819680"/>
            <a:ext cx="2782800" cy="1263600"/>
          </a:xfrm>
          <a:custGeom>
            <a:avLst/>
            <a:gdLst/>
            <a:ahLst/>
            <a:rect l="l" t="t" r="r" b="b"/>
            <a:pathLst>
              <a:path w="1753" h="796">
                <a:moveTo>
                  <a:pt x="5" y="84"/>
                </a:moveTo>
                <a:cubicBezTo>
                  <a:pt x="8" y="180"/>
                  <a:pt x="0" y="269"/>
                  <a:pt x="23" y="360"/>
                </a:cubicBezTo>
                <a:cubicBezTo>
                  <a:pt x="21" y="394"/>
                  <a:pt x="11" y="428"/>
                  <a:pt x="11" y="462"/>
                </a:cubicBezTo>
                <a:cubicBezTo>
                  <a:pt x="11" y="522"/>
                  <a:pt x="38" y="600"/>
                  <a:pt x="65" y="654"/>
                </a:cubicBezTo>
                <a:cubicBezTo>
                  <a:pt x="72" y="693"/>
                  <a:pt x="72" y="696"/>
                  <a:pt x="107" y="708"/>
                </a:cubicBezTo>
                <a:cubicBezTo>
                  <a:pt x="224" y="796"/>
                  <a:pt x="396" y="760"/>
                  <a:pt x="533" y="714"/>
                </a:cubicBezTo>
                <a:cubicBezTo>
                  <a:pt x="612" y="721"/>
                  <a:pt x="697" y="733"/>
                  <a:pt x="773" y="708"/>
                </a:cubicBezTo>
                <a:cubicBezTo>
                  <a:pt x="830" y="714"/>
                  <a:pt x="853" y="702"/>
                  <a:pt x="911" y="708"/>
                </a:cubicBezTo>
                <a:cubicBezTo>
                  <a:pt x="987" y="693"/>
                  <a:pt x="1061" y="689"/>
                  <a:pt x="1139" y="684"/>
                </a:cubicBezTo>
                <a:cubicBezTo>
                  <a:pt x="1232" y="653"/>
                  <a:pt x="1344" y="658"/>
                  <a:pt x="1439" y="654"/>
                </a:cubicBezTo>
                <a:cubicBezTo>
                  <a:pt x="1487" y="638"/>
                  <a:pt x="1437" y="653"/>
                  <a:pt x="1541" y="642"/>
                </a:cubicBezTo>
                <a:cubicBezTo>
                  <a:pt x="1571" y="639"/>
                  <a:pt x="1603" y="627"/>
                  <a:pt x="1631" y="618"/>
                </a:cubicBezTo>
                <a:cubicBezTo>
                  <a:pt x="1665" y="566"/>
                  <a:pt x="1620" y="627"/>
                  <a:pt x="1661" y="594"/>
                </a:cubicBezTo>
                <a:cubicBezTo>
                  <a:pt x="1670" y="586"/>
                  <a:pt x="1679" y="560"/>
                  <a:pt x="1685" y="552"/>
                </a:cubicBezTo>
                <a:cubicBezTo>
                  <a:pt x="1690" y="545"/>
                  <a:pt x="1698" y="541"/>
                  <a:pt x="1703" y="534"/>
                </a:cubicBezTo>
                <a:cubicBezTo>
                  <a:pt x="1708" y="528"/>
                  <a:pt x="1711" y="522"/>
                  <a:pt x="1715" y="516"/>
                </a:cubicBezTo>
                <a:cubicBezTo>
                  <a:pt x="1733" y="446"/>
                  <a:pt x="1728" y="442"/>
                  <a:pt x="1733" y="336"/>
                </a:cubicBezTo>
                <a:cubicBezTo>
                  <a:pt x="1730" y="230"/>
                  <a:pt x="1753" y="86"/>
                  <a:pt x="166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700360" y="4076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+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73440" y="4941720"/>
            <a:ext cx="0" cy="5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00360" y="5302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71640" y="4097160"/>
            <a:ext cx="0" cy="5032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Motor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44480" y="1166400"/>
            <a:ext cx="839952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SW1 and SW2 act as limit switches in this circu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71640" y="2421000"/>
            <a:ext cx="74959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519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2" dur="1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ns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44480" y="1023840"/>
            <a:ext cx="8075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ght Dependent Resistor (LD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 increases as darkness incr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820960" y="1916280"/>
            <a:ext cx="3119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3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534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37" dur="1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ns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44480" y="1023840"/>
            <a:ext cx="80755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mi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 decreases as the temperature incr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2843280" y="1844640"/>
            <a:ext cx="285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8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549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2" dur="1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55640" y="1125000"/>
            <a:ext cx="8075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s as a swit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ge &gt; 0.6V-0.7V between the base and emitter transistor is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292720" y="2781360"/>
            <a:ext cx="2867040" cy="276840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539640" y="2708280"/>
            <a:ext cx="2519280" cy="2768760"/>
            <a:chOff x="539640" y="2708280"/>
            <a:chExt cx="2519280" cy="2768760"/>
          </a:xfrm>
        </p:grpSpPr>
        <p:grpSp>
          <p:nvGrpSpPr>
            <p:cNvPr id="279" name=""/>
            <p:cNvGrpSpPr/>
            <p:nvPr/>
          </p:nvGrpSpPr>
          <p:grpSpPr>
            <a:xfrm>
              <a:off x="539640" y="2924280"/>
              <a:ext cx="2019240" cy="2552760"/>
              <a:chOff x="539640" y="2924280"/>
              <a:chExt cx="2019240" cy="2552760"/>
            </a:xfrm>
          </p:grpSpPr>
          <p:pic>
            <p:nvPicPr>
              <p:cNvPr id="28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39640" y="2924280"/>
                <a:ext cx="2019240" cy="255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"/>
              <p:cNvSpPr/>
              <p:nvPr/>
            </p:nvSpPr>
            <p:spPr>
              <a:xfrm>
                <a:off x="539640" y="5156280"/>
                <a:ext cx="79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Collecto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539640" y="2924280"/>
              <a:ext cx="2519280" cy="2552760"/>
              <a:chOff x="539640" y="2924280"/>
              <a:chExt cx="2519280" cy="2552760"/>
            </a:xfrm>
          </p:grpSpPr>
          <p:pic>
            <p:nvPicPr>
              <p:cNvPr id="28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39640" y="2924280"/>
                <a:ext cx="2019240" cy="255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"/>
              <p:cNvSpPr/>
              <p:nvPr/>
            </p:nvSpPr>
            <p:spPr>
              <a:xfrm>
                <a:off x="1762200" y="5156280"/>
                <a:ext cx="1296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Emitt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5" name="" descr=""/>
            <p:cNvPicPr/>
            <p:nvPr/>
          </p:nvPicPr>
          <p:blipFill>
            <a:blip r:embed="rId4"/>
            <a:stretch/>
          </p:blipFill>
          <p:spPr>
            <a:xfrm>
              <a:off x="539640" y="2924280"/>
              <a:ext cx="2019240" cy="2552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6" name=""/>
            <p:cNvGrpSpPr/>
            <p:nvPr/>
          </p:nvGrpSpPr>
          <p:grpSpPr>
            <a:xfrm>
              <a:off x="539640" y="2708280"/>
              <a:ext cx="2374920" cy="2768760"/>
              <a:chOff x="539640" y="2708280"/>
              <a:chExt cx="2374920" cy="2768760"/>
            </a:xfrm>
          </p:grpSpPr>
          <p:pic>
            <p:nvPicPr>
              <p:cNvPr id="28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39640" y="2924280"/>
                <a:ext cx="2019240" cy="255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>
                <a:off x="1258920" y="5156280"/>
                <a:ext cx="1008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042920" y="2708280"/>
                <a:ext cx="187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BFY5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39640" y="5156280"/>
                <a:ext cx="79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</a:rPr>
                  <a:t>Collecto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1" name="" descr=""/>
            <p:cNvPicPr/>
            <p:nvPr/>
          </p:nvPicPr>
          <p:blipFill>
            <a:blip r:embed="rId6"/>
            <a:stretch/>
          </p:blipFill>
          <p:spPr>
            <a:xfrm>
              <a:off x="539640" y="2924280"/>
              <a:ext cx="2019240" cy="25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1042920" y="2708280"/>
              <a:ext cx="187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FY5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62200" y="5156280"/>
              <a:ext cx="129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mit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58920" y="5156280"/>
              <a:ext cx="100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9640" y="5156280"/>
              <a:ext cx="79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olle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042920" y="2708280"/>
              <a:ext cx="187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FY5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9640" y="5156280"/>
              <a:ext cx="79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olle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258920" y="5156280"/>
              <a:ext cx="100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42920" y="2708280"/>
              <a:ext cx="187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FY5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39640" y="5156280"/>
              <a:ext cx="79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olle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58920" y="5156280"/>
              <a:ext cx="100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62200" y="5156280"/>
              <a:ext cx="129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mit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258920" y="5156280"/>
              <a:ext cx="100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3492360" y="3500280"/>
            <a:ext cx="1218960" cy="1028520"/>
            <a:chOff x="3492360" y="3500280"/>
            <a:chExt cx="1218960" cy="1028520"/>
          </a:xfrm>
        </p:grpSpPr>
        <p:grpSp>
          <p:nvGrpSpPr>
            <p:cNvPr id="305" name=""/>
            <p:cNvGrpSpPr/>
            <p:nvPr/>
          </p:nvGrpSpPr>
          <p:grpSpPr>
            <a:xfrm>
              <a:off x="3720960" y="3500280"/>
              <a:ext cx="783360" cy="685800"/>
              <a:chOff x="3720960" y="3500280"/>
              <a:chExt cx="783360" cy="68580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3720960" y="3500280"/>
                <a:ext cx="783360" cy="685800"/>
                <a:chOff x="3720960" y="3500280"/>
                <a:chExt cx="783360" cy="685800"/>
              </a:xfrm>
            </p:grpSpPr>
            <p:sp>
              <p:nvSpPr>
                <p:cNvPr id="307" name=""/>
                <p:cNvSpPr/>
                <p:nvPr/>
              </p:nvSpPr>
              <p:spPr>
                <a:xfrm rot="19527600">
                  <a:off x="4263480" y="3614400"/>
                  <a:ext cx="228240" cy="114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720960" y="3500280"/>
                  <a:ext cx="685800" cy="6858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4025520" y="4033440"/>
                <a:ext cx="114120" cy="11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787560" y="3871800"/>
                <a:ext cx="114120" cy="11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44760" y="3843360"/>
                <a:ext cx="114120" cy="114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4368600" y="378612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949560" y="418608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492360" y="3852720"/>
              <a:ext cx="457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44480" y="1095480"/>
            <a:ext cx="80755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ge Divider circuit is used to create the turn on voltage between the base and emi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635280" y="1628640"/>
            <a:ext cx="3765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1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582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85" dur="1" fill="hold"/>
                                        <p:tgtEl>
                                          <p:spTgt spid="3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LDR Transistor Circ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44480" y="1023840"/>
            <a:ext cx="80755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4211640" y="1474920"/>
            <a:ext cx="3409920" cy="49784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755640" y="1052640"/>
            <a:ext cx="684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LDR changes the voltage according to light leve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rk = LED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6" dur="1" fill="hold"/>
                                        <p:tgtEl>
                                          <p:spTgt spid="3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44480" y="1023840"/>
            <a:ext cx="80755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3661" t="5169" r="5107" b="6843"/>
          <a:stretch/>
        </p:blipFill>
        <p:spPr>
          <a:xfrm>
            <a:off x="4211640" y="1700280"/>
            <a:ext cx="3600360" cy="36734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755640" y="112536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relay is a switch used to turn other circuits on and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6000" y="4365720"/>
            <a:ext cx="2089080" cy="1224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56360" y="5661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PDT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211640" y="4365720"/>
            <a:ext cx="792000" cy="1224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3492360" y="4941720"/>
            <a:ext cx="7192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71640" y="46594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il terminals are part of controlling 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44480" y="1023840"/>
            <a:ext cx="80755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rcRect l="0" t="9204" r="7814" b="8029"/>
          <a:stretch/>
        </p:blipFill>
        <p:spPr>
          <a:xfrm>
            <a:off x="971640" y="1989000"/>
            <a:ext cx="3240000" cy="32403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03280" y="126828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o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5003640" y="2421000"/>
            <a:ext cx="287676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44480" y="1023840"/>
            <a:ext cx="80755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0" t="9204" r="7814" b="8029"/>
          <a:stretch/>
        </p:blipFill>
        <p:spPr>
          <a:xfrm>
            <a:off x="971640" y="1989000"/>
            <a:ext cx="3240000" cy="32403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1403280" y="126828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o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5003640" y="2421000"/>
            <a:ext cx="2876760" cy="17334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4788000" y="2133720"/>
            <a:ext cx="3529080" cy="1150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132000" y="5013360"/>
            <a:ext cx="287640" cy="50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898720" y="54878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2411280" y="4797360"/>
            <a:ext cx="505080" cy="50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052720" y="526248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3924000" y="5084280"/>
            <a:ext cx="64764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284720" y="5373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lectric Circ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000" y="1125360"/>
            <a:ext cx="7715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 Current is the flow of electrons around a circu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342900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ctrons have a negative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3667320" cy="1247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859280" y="2133720"/>
            <a:ext cx="377208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5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44480" y="1023840"/>
            <a:ext cx="80755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rcRect l="4327" t="0" r="0" b="0"/>
          <a:stretch/>
        </p:blipFill>
        <p:spPr>
          <a:xfrm>
            <a:off x="826920" y="1989000"/>
            <a:ext cx="3740400" cy="31813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042920" y="1341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on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5148360" y="2565360"/>
            <a:ext cx="28670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44480" y="1023840"/>
            <a:ext cx="80755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rcRect l="4327" t="0" r="0" b="0"/>
          <a:stretch/>
        </p:blipFill>
        <p:spPr>
          <a:xfrm>
            <a:off x="826920" y="1989000"/>
            <a:ext cx="3740400" cy="31813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042920" y="1341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on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5148360" y="2565360"/>
            <a:ext cx="2867040" cy="16668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4788000" y="3319560"/>
            <a:ext cx="3529080" cy="1150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708360" y="4653000"/>
            <a:ext cx="792360" cy="936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284720" y="55530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2719440" y="4869000"/>
            <a:ext cx="50328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340000" y="5408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4172040" y="4724280"/>
            <a:ext cx="79200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003640" y="5084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44480" y="1023840"/>
            <a:ext cx="80755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3036960" y="1052640"/>
            <a:ext cx="3889440" cy="53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639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42" dur="1" fill="hold"/>
                                        <p:tgtEl>
                                          <p:spTgt spid="3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lectric Circ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771516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 current is measured with an Am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meter is placed into the circuit (in se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of measurement is the Ampere or ‘amp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ed by the letter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95640" y="2820960"/>
            <a:ext cx="52578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2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lectric Circ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-88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F (electromotive force) is the force that makes electrons flow              around a circu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F is often called Voltage and is provided by the batt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voltage = more 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9640" y="3068640"/>
            <a:ext cx="821376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5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lectric Circ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77151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ge is measured using a Voltme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oltmeter is placed across a component (in parall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of measurement is the Vo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ed by letter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332000" y="2736720"/>
            <a:ext cx="6343560" cy="33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2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lectric Circ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77151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 is the opposition to the flow of electric cur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omponents have re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al wire has re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of measurement is the Ohm 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presented by the letter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  <a:ea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26920" y="3255840"/>
            <a:ext cx="76266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3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lectric Circ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77151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 is the opposition to the flow of electric cur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omponents have re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al wire has re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of measurement is the Ohm 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presented by the letter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  <a:ea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9640" y="3189240"/>
            <a:ext cx="807084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4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5:39:42Z</dcterms:created>
  <dc:creator>mmurray</dc:creator>
  <dc:description/>
  <dc:language>en-US</dc:language>
  <cp:lastModifiedBy>Elizabeth</cp:lastModifiedBy>
  <dcterms:modified xsi:type="dcterms:W3CDTF">2009-09-09T20:03:13Z</dcterms:modified>
  <cp:revision>122</cp:revision>
  <dc:subject/>
  <dc:title>Meeting NCTE – 7th Feb 2008</dc:title>
</cp:coreProperties>
</file>