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1DC-7783-4C5D-A5D5-794D04A9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868-A32D-446F-8C21-2E465C50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4A5-277A-4EC1-BCDF-29113C39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322-8ABE-478C-B8DA-2CDFB1EC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7EF-059E-4174-BABD-0B2CA13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1F5-3996-498D-B738-83F75176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E71-9121-4457-BBB3-771249F7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DC3-4224-4CD3-B924-A66BADEB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942-B443-4C9B-8336-E9ADC6AE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C2D-6560-4A8D-8EB8-A472E81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4CC-4290-42BB-93BB-9D7426B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5DE-5932-49A4-A350-2C81FBB2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ACE3-7565-4748-8E58-D310D1B2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56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473120" cy="744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09480" y="714240"/>
            <a:ext cx="0" cy="1800360"/>
          </a:xfrm>
          <a:prstGeom prst="line">
            <a:avLst/>
          </a:prstGeom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942840"/>
            <a:ext cx="358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714240"/>
            <a:ext cx="0" cy="1800360"/>
          </a:xfrm>
          <a:prstGeom prst="line">
            <a:avLst/>
          </a:prstGeom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942840"/>
            <a:ext cx="358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685800" y="6151680"/>
            <a:ext cx="1249200" cy="5540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1828800" y="64008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 Narrow"/>
              </a:rPr>
              <a:t>The ICT in Schools’ Initiative of the Department of Education and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Integration of ICT into Teaching and Learning of Electr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1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5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, Current &amp; Resistance are calculated using Ohm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724360" y="1989000"/>
                <a:ext cx="21322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x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971640" y="2349360"/>
            <a:ext cx="3600360" cy="2752920"/>
            <a:chOff x="971640" y="2349360"/>
            <a:chExt cx="3600360" cy="2752920"/>
          </a:xfrm>
        </p:grpSpPr>
        <p:sp>
          <p:nvSpPr>
            <p:cNvPr id="84" name=""/>
            <p:cNvSpPr/>
            <p:nvPr/>
          </p:nvSpPr>
          <p:spPr>
            <a:xfrm>
              <a:off x="971640" y="2349360"/>
              <a:ext cx="3600360" cy="27370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63640" y="388620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00360" y="38782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84360" y="307008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0080" y="41828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90600" y="42069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835600" y="2781360"/>
                <a:ext cx="158436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807160" y="4508640"/>
                <a:ext cx="151128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4480" y="1023480"/>
            <a:ext cx="8075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are connected one after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only one path for current to flow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03848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5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4480" y="1095120"/>
            <a:ext cx="8075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at all points in a series circuit is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0384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oltage is shared between the components in a series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nents of equal resistance – voltage is shared 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4095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052640"/>
            <a:ext cx="820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oltage is shared between the components in a series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nents of unequal resistance – voltage is shared proportio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2332080"/>
            <a:ext cx="530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9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755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are connected side by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more than one path for current to flow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59086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96920"/>
            <a:ext cx="8459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age across each path is always the same as the applie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mponent resistance in each path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2960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096920"/>
            <a:ext cx="8459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age across each path is always the same as the applie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mponent resistance in each path 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621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096920"/>
            <a:ext cx="8459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age across each path is always the same as the applie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is more than one component in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97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4480" y="1096560"/>
            <a:ext cx="8075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is divided between the paths proportionally (Ohm’s L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038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3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715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are connected together with electrical wire to form a closed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1844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onents are represented by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92720" y="2637000"/>
            <a:ext cx="2666880" cy="3686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36576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ST Switc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ity connection determines direction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476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5027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3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4480" y="1023480"/>
            <a:ext cx="8075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92360" y="2349360"/>
            <a:ext cx="1689120" cy="2508480"/>
            <a:chOff x="1692360" y="2349360"/>
            <a:chExt cx="1689120" cy="2508480"/>
          </a:xfrm>
        </p:grpSpPr>
        <p:grpSp>
          <p:nvGrpSpPr>
            <p:cNvPr id="128" name=""/>
            <p:cNvGrpSpPr/>
            <p:nvPr/>
          </p:nvGrpSpPr>
          <p:grpSpPr>
            <a:xfrm>
              <a:off x="1692360" y="2349360"/>
              <a:ext cx="1689120" cy="2508480"/>
              <a:chOff x="1692360" y="2349360"/>
              <a:chExt cx="1689120" cy="25084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692360" y="2497680"/>
                <a:ext cx="1663560" cy="2360160"/>
                <a:chOff x="1692360" y="2497680"/>
                <a:chExt cx="1663560" cy="2360160"/>
              </a:xfrm>
            </p:grpSpPr>
            <p:pic>
              <p:nvPicPr>
                <p:cNvPr id="1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92360" y="2497680"/>
                  <a:ext cx="1663560" cy="236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>
                  <a:off x="1845720" y="2646000"/>
                  <a:ext cx="6141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+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2767320" y="3387240"/>
                <a:ext cx="6141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C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767320" y="3832200"/>
                <a:ext cx="6141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C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67320" y="2349360"/>
                <a:ext cx="6141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C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5720" y="3980160"/>
                <a:ext cx="6141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767320" y="2917800"/>
              <a:ext cx="61416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C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932360" y="2565360"/>
            <a:ext cx="234936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00360" y="3789360"/>
            <a:ext cx="3019320" cy="504360"/>
            <a:chOff x="2700360" y="3789360"/>
            <a:chExt cx="3019320" cy="504360"/>
          </a:xfrm>
        </p:grpSpPr>
        <p:grpSp>
          <p:nvGrpSpPr>
            <p:cNvPr id="141" name=""/>
            <p:cNvGrpSpPr/>
            <p:nvPr/>
          </p:nvGrpSpPr>
          <p:grpSpPr>
            <a:xfrm>
              <a:off x="2700360" y="3836880"/>
              <a:ext cx="1142640" cy="456840"/>
              <a:chOff x="2700360" y="3836880"/>
              <a:chExt cx="1142640" cy="456840"/>
            </a:xfrm>
          </p:grpSpPr>
          <p:sp>
            <p:nvSpPr>
              <p:cNvPr id="142" name=""/>
              <p:cNvSpPr/>
              <p:nvPr/>
            </p:nvSpPr>
            <p:spPr>
              <a:xfrm>
                <a:off x="270036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572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144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0036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572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144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100480" y="3789360"/>
              <a:ext cx="61920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3162240" cy="1076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93960" y="3879720"/>
            <a:ext cx="949320" cy="343080"/>
          </a:xfrm>
          <a:custGeom>
            <a:avLst/>
            <a:gdLst/>
            <a:ahLst/>
            <a:rect l="l" t="t" r="r" b="b"/>
            <a:pathLst>
              <a:path w="598" h="216">
                <a:moveTo>
                  <a:pt x="0" y="216"/>
                </a:moveTo>
                <a:cubicBezTo>
                  <a:pt x="7" y="211"/>
                  <a:pt x="17" y="210"/>
                  <a:pt x="24" y="204"/>
                </a:cubicBezTo>
                <a:cubicBezTo>
                  <a:pt x="47" y="185"/>
                  <a:pt x="8" y="192"/>
                  <a:pt x="56" y="176"/>
                </a:cubicBezTo>
                <a:cubicBezTo>
                  <a:pt x="76" y="169"/>
                  <a:pt x="96" y="163"/>
                  <a:pt x="116" y="156"/>
                </a:cubicBezTo>
                <a:cubicBezTo>
                  <a:pt x="125" y="153"/>
                  <a:pt x="131" y="143"/>
                  <a:pt x="140" y="140"/>
                </a:cubicBezTo>
                <a:cubicBezTo>
                  <a:pt x="180" y="127"/>
                  <a:pt x="213" y="109"/>
                  <a:pt x="256" y="104"/>
                </a:cubicBezTo>
                <a:cubicBezTo>
                  <a:pt x="281" y="96"/>
                  <a:pt x="302" y="92"/>
                  <a:pt x="328" y="88"/>
                </a:cubicBezTo>
                <a:cubicBezTo>
                  <a:pt x="345" y="82"/>
                  <a:pt x="359" y="78"/>
                  <a:pt x="376" y="84"/>
                </a:cubicBezTo>
                <a:cubicBezTo>
                  <a:pt x="406" y="38"/>
                  <a:pt x="475" y="33"/>
                  <a:pt x="524" y="20"/>
                </a:cubicBezTo>
                <a:cubicBezTo>
                  <a:pt x="598" y="0"/>
                  <a:pt x="520" y="21"/>
                  <a:pt x="580" y="8"/>
                </a:cubicBezTo>
                <a:cubicBezTo>
                  <a:pt x="584" y="7"/>
                  <a:pt x="592" y="4"/>
                  <a:pt x="59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59120" y="4070520"/>
            <a:ext cx="1967040" cy="448920"/>
          </a:xfrm>
          <a:custGeom>
            <a:avLst/>
            <a:gdLst/>
            <a:ahLst/>
            <a:rect l="l" t="t" r="r" b="b"/>
            <a:pathLst>
              <a:path w="1239" h="283">
                <a:moveTo>
                  <a:pt x="0" y="108"/>
                </a:moveTo>
                <a:cubicBezTo>
                  <a:pt x="19" y="166"/>
                  <a:pt x="14" y="252"/>
                  <a:pt x="92" y="256"/>
                </a:cubicBezTo>
                <a:cubicBezTo>
                  <a:pt x="137" y="258"/>
                  <a:pt x="183" y="259"/>
                  <a:pt x="228" y="260"/>
                </a:cubicBezTo>
                <a:cubicBezTo>
                  <a:pt x="268" y="268"/>
                  <a:pt x="285" y="273"/>
                  <a:pt x="332" y="276"/>
                </a:cubicBezTo>
                <a:cubicBezTo>
                  <a:pt x="380" y="283"/>
                  <a:pt x="411" y="264"/>
                  <a:pt x="456" y="260"/>
                </a:cubicBezTo>
                <a:cubicBezTo>
                  <a:pt x="517" y="254"/>
                  <a:pt x="574" y="247"/>
                  <a:pt x="636" y="244"/>
                </a:cubicBezTo>
                <a:cubicBezTo>
                  <a:pt x="644" y="241"/>
                  <a:pt x="652" y="239"/>
                  <a:pt x="660" y="236"/>
                </a:cubicBezTo>
                <a:cubicBezTo>
                  <a:pt x="664" y="235"/>
                  <a:pt x="672" y="232"/>
                  <a:pt x="672" y="232"/>
                </a:cubicBezTo>
                <a:cubicBezTo>
                  <a:pt x="751" y="235"/>
                  <a:pt x="825" y="244"/>
                  <a:pt x="904" y="248"/>
                </a:cubicBezTo>
                <a:cubicBezTo>
                  <a:pt x="976" y="243"/>
                  <a:pt x="1048" y="238"/>
                  <a:pt x="1120" y="232"/>
                </a:cubicBezTo>
                <a:cubicBezTo>
                  <a:pt x="1145" y="224"/>
                  <a:pt x="1169" y="227"/>
                  <a:pt x="1192" y="212"/>
                </a:cubicBezTo>
                <a:cubicBezTo>
                  <a:pt x="1201" y="199"/>
                  <a:pt x="1212" y="191"/>
                  <a:pt x="1216" y="176"/>
                </a:cubicBezTo>
                <a:cubicBezTo>
                  <a:pt x="1219" y="165"/>
                  <a:pt x="1224" y="144"/>
                  <a:pt x="1224" y="144"/>
                </a:cubicBezTo>
                <a:cubicBezTo>
                  <a:pt x="1225" y="120"/>
                  <a:pt x="1239" y="39"/>
                  <a:pt x="12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20960" y="3892680"/>
            <a:ext cx="1416240" cy="177840"/>
          </a:xfrm>
          <a:custGeom>
            <a:avLst/>
            <a:gdLst/>
            <a:ahLst/>
            <a:rect l="l" t="t" r="r" b="b"/>
            <a:pathLst>
              <a:path w="892" h="112">
                <a:moveTo>
                  <a:pt x="0" y="0"/>
                </a:moveTo>
                <a:cubicBezTo>
                  <a:pt x="44" y="4"/>
                  <a:pt x="88" y="10"/>
                  <a:pt x="132" y="16"/>
                </a:cubicBezTo>
                <a:cubicBezTo>
                  <a:pt x="150" y="28"/>
                  <a:pt x="154" y="28"/>
                  <a:pt x="176" y="24"/>
                </a:cubicBezTo>
                <a:cubicBezTo>
                  <a:pt x="230" y="32"/>
                  <a:pt x="287" y="38"/>
                  <a:pt x="340" y="20"/>
                </a:cubicBezTo>
                <a:cubicBezTo>
                  <a:pt x="389" y="23"/>
                  <a:pt x="423" y="25"/>
                  <a:pt x="468" y="36"/>
                </a:cubicBezTo>
                <a:cubicBezTo>
                  <a:pt x="481" y="39"/>
                  <a:pt x="495" y="44"/>
                  <a:pt x="508" y="48"/>
                </a:cubicBezTo>
                <a:cubicBezTo>
                  <a:pt x="519" y="51"/>
                  <a:pt x="540" y="56"/>
                  <a:pt x="540" y="56"/>
                </a:cubicBezTo>
                <a:cubicBezTo>
                  <a:pt x="585" y="86"/>
                  <a:pt x="646" y="66"/>
                  <a:pt x="696" y="64"/>
                </a:cubicBezTo>
                <a:cubicBezTo>
                  <a:pt x="719" y="65"/>
                  <a:pt x="741" y="66"/>
                  <a:pt x="764" y="68"/>
                </a:cubicBezTo>
                <a:cubicBezTo>
                  <a:pt x="779" y="70"/>
                  <a:pt x="808" y="80"/>
                  <a:pt x="808" y="80"/>
                </a:cubicBezTo>
                <a:cubicBezTo>
                  <a:pt x="834" y="97"/>
                  <a:pt x="865" y="98"/>
                  <a:pt x="89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98640" y="3470400"/>
            <a:ext cx="2907000" cy="581040"/>
          </a:xfrm>
          <a:custGeom>
            <a:avLst/>
            <a:gdLst/>
            <a:ahLst/>
            <a:rect l="l" t="t" r="r" b="b"/>
            <a:pathLst>
              <a:path w="1831" h="366">
                <a:moveTo>
                  <a:pt x="13" y="270"/>
                </a:moveTo>
                <a:cubicBezTo>
                  <a:pt x="0" y="206"/>
                  <a:pt x="9" y="158"/>
                  <a:pt x="37" y="102"/>
                </a:cubicBezTo>
                <a:cubicBezTo>
                  <a:pt x="41" y="94"/>
                  <a:pt x="39" y="84"/>
                  <a:pt x="45" y="78"/>
                </a:cubicBezTo>
                <a:cubicBezTo>
                  <a:pt x="66" y="57"/>
                  <a:pt x="148" y="32"/>
                  <a:pt x="181" y="30"/>
                </a:cubicBezTo>
                <a:cubicBezTo>
                  <a:pt x="301" y="23"/>
                  <a:pt x="421" y="21"/>
                  <a:pt x="541" y="14"/>
                </a:cubicBezTo>
                <a:cubicBezTo>
                  <a:pt x="584" y="17"/>
                  <a:pt x="626" y="18"/>
                  <a:pt x="669" y="22"/>
                </a:cubicBezTo>
                <a:cubicBezTo>
                  <a:pt x="697" y="25"/>
                  <a:pt x="713" y="49"/>
                  <a:pt x="741" y="54"/>
                </a:cubicBezTo>
                <a:cubicBezTo>
                  <a:pt x="762" y="58"/>
                  <a:pt x="784" y="59"/>
                  <a:pt x="805" y="62"/>
                </a:cubicBezTo>
                <a:cubicBezTo>
                  <a:pt x="818" y="64"/>
                  <a:pt x="832" y="67"/>
                  <a:pt x="845" y="70"/>
                </a:cubicBezTo>
                <a:cubicBezTo>
                  <a:pt x="902" y="62"/>
                  <a:pt x="964" y="41"/>
                  <a:pt x="1021" y="38"/>
                </a:cubicBezTo>
                <a:cubicBezTo>
                  <a:pt x="1178" y="30"/>
                  <a:pt x="1336" y="29"/>
                  <a:pt x="1493" y="22"/>
                </a:cubicBezTo>
                <a:cubicBezTo>
                  <a:pt x="1580" y="0"/>
                  <a:pt x="1680" y="10"/>
                  <a:pt x="1765" y="38"/>
                </a:cubicBezTo>
                <a:cubicBezTo>
                  <a:pt x="1770" y="54"/>
                  <a:pt x="1772" y="72"/>
                  <a:pt x="1781" y="86"/>
                </a:cubicBezTo>
                <a:cubicBezTo>
                  <a:pt x="1786" y="94"/>
                  <a:pt x="1793" y="101"/>
                  <a:pt x="1797" y="110"/>
                </a:cubicBezTo>
                <a:cubicBezTo>
                  <a:pt x="1804" y="125"/>
                  <a:pt x="1808" y="142"/>
                  <a:pt x="1813" y="158"/>
                </a:cubicBezTo>
                <a:cubicBezTo>
                  <a:pt x="1816" y="166"/>
                  <a:pt x="1821" y="182"/>
                  <a:pt x="1821" y="182"/>
                </a:cubicBezTo>
                <a:cubicBezTo>
                  <a:pt x="1831" y="313"/>
                  <a:pt x="1829" y="251"/>
                  <a:pt x="1829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1343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700360" y="3789360"/>
            <a:ext cx="3019320" cy="504360"/>
            <a:chOff x="2700360" y="3789360"/>
            <a:chExt cx="3019320" cy="504360"/>
          </a:xfrm>
        </p:grpSpPr>
        <p:grpSp>
          <p:nvGrpSpPr>
            <p:cNvPr id="158" name=""/>
            <p:cNvGrpSpPr/>
            <p:nvPr/>
          </p:nvGrpSpPr>
          <p:grpSpPr>
            <a:xfrm>
              <a:off x="2700360" y="3836880"/>
              <a:ext cx="1142640" cy="456840"/>
              <a:chOff x="2700360" y="3836880"/>
              <a:chExt cx="1142640" cy="456840"/>
            </a:xfrm>
          </p:grpSpPr>
          <p:sp>
            <p:nvSpPr>
              <p:cNvPr id="159" name=""/>
              <p:cNvSpPr/>
              <p:nvPr/>
            </p:nvSpPr>
            <p:spPr>
              <a:xfrm>
                <a:off x="270036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572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144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0036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572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144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100480" y="3789360"/>
              <a:ext cx="61920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3162240" cy="1076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93960" y="3879720"/>
            <a:ext cx="949320" cy="343080"/>
          </a:xfrm>
          <a:custGeom>
            <a:avLst/>
            <a:gdLst/>
            <a:ahLst/>
            <a:rect l="l" t="t" r="r" b="b"/>
            <a:pathLst>
              <a:path w="598" h="216">
                <a:moveTo>
                  <a:pt x="0" y="216"/>
                </a:moveTo>
                <a:cubicBezTo>
                  <a:pt x="7" y="211"/>
                  <a:pt x="17" y="210"/>
                  <a:pt x="24" y="204"/>
                </a:cubicBezTo>
                <a:cubicBezTo>
                  <a:pt x="47" y="185"/>
                  <a:pt x="8" y="192"/>
                  <a:pt x="56" y="176"/>
                </a:cubicBezTo>
                <a:cubicBezTo>
                  <a:pt x="76" y="169"/>
                  <a:pt x="96" y="163"/>
                  <a:pt x="116" y="156"/>
                </a:cubicBezTo>
                <a:cubicBezTo>
                  <a:pt x="125" y="153"/>
                  <a:pt x="131" y="143"/>
                  <a:pt x="140" y="140"/>
                </a:cubicBezTo>
                <a:cubicBezTo>
                  <a:pt x="180" y="127"/>
                  <a:pt x="213" y="109"/>
                  <a:pt x="256" y="104"/>
                </a:cubicBezTo>
                <a:cubicBezTo>
                  <a:pt x="281" y="96"/>
                  <a:pt x="302" y="92"/>
                  <a:pt x="328" y="88"/>
                </a:cubicBezTo>
                <a:cubicBezTo>
                  <a:pt x="345" y="82"/>
                  <a:pt x="359" y="78"/>
                  <a:pt x="376" y="84"/>
                </a:cubicBezTo>
                <a:cubicBezTo>
                  <a:pt x="406" y="38"/>
                  <a:pt x="475" y="33"/>
                  <a:pt x="524" y="20"/>
                </a:cubicBezTo>
                <a:cubicBezTo>
                  <a:pt x="598" y="0"/>
                  <a:pt x="520" y="21"/>
                  <a:pt x="580" y="8"/>
                </a:cubicBezTo>
                <a:cubicBezTo>
                  <a:pt x="584" y="7"/>
                  <a:pt x="592" y="4"/>
                  <a:pt x="59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9120" y="4070520"/>
            <a:ext cx="1967040" cy="448920"/>
          </a:xfrm>
          <a:custGeom>
            <a:avLst/>
            <a:gdLst/>
            <a:ahLst/>
            <a:rect l="l" t="t" r="r" b="b"/>
            <a:pathLst>
              <a:path w="1239" h="283">
                <a:moveTo>
                  <a:pt x="0" y="108"/>
                </a:moveTo>
                <a:cubicBezTo>
                  <a:pt x="19" y="166"/>
                  <a:pt x="14" y="252"/>
                  <a:pt x="92" y="256"/>
                </a:cubicBezTo>
                <a:cubicBezTo>
                  <a:pt x="137" y="258"/>
                  <a:pt x="183" y="259"/>
                  <a:pt x="228" y="260"/>
                </a:cubicBezTo>
                <a:cubicBezTo>
                  <a:pt x="268" y="268"/>
                  <a:pt x="285" y="273"/>
                  <a:pt x="332" y="276"/>
                </a:cubicBezTo>
                <a:cubicBezTo>
                  <a:pt x="380" y="283"/>
                  <a:pt x="411" y="264"/>
                  <a:pt x="456" y="260"/>
                </a:cubicBezTo>
                <a:cubicBezTo>
                  <a:pt x="517" y="254"/>
                  <a:pt x="574" y="247"/>
                  <a:pt x="636" y="244"/>
                </a:cubicBezTo>
                <a:cubicBezTo>
                  <a:pt x="644" y="241"/>
                  <a:pt x="652" y="239"/>
                  <a:pt x="660" y="236"/>
                </a:cubicBezTo>
                <a:cubicBezTo>
                  <a:pt x="664" y="235"/>
                  <a:pt x="672" y="232"/>
                  <a:pt x="672" y="232"/>
                </a:cubicBezTo>
                <a:cubicBezTo>
                  <a:pt x="751" y="235"/>
                  <a:pt x="825" y="244"/>
                  <a:pt x="904" y="248"/>
                </a:cubicBezTo>
                <a:cubicBezTo>
                  <a:pt x="976" y="243"/>
                  <a:pt x="1048" y="238"/>
                  <a:pt x="1120" y="232"/>
                </a:cubicBezTo>
                <a:cubicBezTo>
                  <a:pt x="1145" y="224"/>
                  <a:pt x="1169" y="227"/>
                  <a:pt x="1192" y="212"/>
                </a:cubicBezTo>
                <a:cubicBezTo>
                  <a:pt x="1201" y="199"/>
                  <a:pt x="1212" y="191"/>
                  <a:pt x="1216" y="176"/>
                </a:cubicBezTo>
                <a:cubicBezTo>
                  <a:pt x="1219" y="165"/>
                  <a:pt x="1224" y="144"/>
                  <a:pt x="1224" y="144"/>
                </a:cubicBezTo>
                <a:cubicBezTo>
                  <a:pt x="1225" y="120"/>
                  <a:pt x="1239" y="39"/>
                  <a:pt x="122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20960" y="3892680"/>
            <a:ext cx="1416240" cy="177840"/>
          </a:xfrm>
          <a:custGeom>
            <a:avLst/>
            <a:gdLst/>
            <a:ahLst/>
            <a:rect l="l" t="t" r="r" b="b"/>
            <a:pathLst>
              <a:path w="892" h="112">
                <a:moveTo>
                  <a:pt x="0" y="0"/>
                </a:moveTo>
                <a:cubicBezTo>
                  <a:pt x="44" y="4"/>
                  <a:pt x="88" y="10"/>
                  <a:pt x="132" y="16"/>
                </a:cubicBezTo>
                <a:cubicBezTo>
                  <a:pt x="150" y="28"/>
                  <a:pt x="154" y="28"/>
                  <a:pt x="176" y="24"/>
                </a:cubicBezTo>
                <a:cubicBezTo>
                  <a:pt x="230" y="32"/>
                  <a:pt x="287" y="38"/>
                  <a:pt x="340" y="20"/>
                </a:cubicBezTo>
                <a:cubicBezTo>
                  <a:pt x="389" y="23"/>
                  <a:pt x="423" y="25"/>
                  <a:pt x="468" y="36"/>
                </a:cubicBezTo>
                <a:cubicBezTo>
                  <a:pt x="481" y="39"/>
                  <a:pt x="495" y="44"/>
                  <a:pt x="508" y="48"/>
                </a:cubicBezTo>
                <a:cubicBezTo>
                  <a:pt x="519" y="51"/>
                  <a:pt x="540" y="56"/>
                  <a:pt x="540" y="56"/>
                </a:cubicBezTo>
                <a:cubicBezTo>
                  <a:pt x="585" y="86"/>
                  <a:pt x="646" y="66"/>
                  <a:pt x="696" y="64"/>
                </a:cubicBezTo>
                <a:cubicBezTo>
                  <a:pt x="719" y="65"/>
                  <a:pt x="741" y="66"/>
                  <a:pt x="764" y="68"/>
                </a:cubicBezTo>
                <a:cubicBezTo>
                  <a:pt x="779" y="70"/>
                  <a:pt x="808" y="80"/>
                  <a:pt x="808" y="80"/>
                </a:cubicBezTo>
                <a:cubicBezTo>
                  <a:pt x="834" y="97"/>
                  <a:pt x="865" y="98"/>
                  <a:pt x="89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98640" y="3470400"/>
            <a:ext cx="2907000" cy="581040"/>
          </a:xfrm>
          <a:custGeom>
            <a:avLst/>
            <a:gdLst/>
            <a:ahLst/>
            <a:rect l="l" t="t" r="r" b="b"/>
            <a:pathLst>
              <a:path w="1831" h="366">
                <a:moveTo>
                  <a:pt x="13" y="270"/>
                </a:moveTo>
                <a:cubicBezTo>
                  <a:pt x="0" y="206"/>
                  <a:pt x="9" y="158"/>
                  <a:pt x="37" y="102"/>
                </a:cubicBezTo>
                <a:cubicBezTo>
                  <a:pt x="41" y="94"/>
                  <a:pt x="39" y="84"/>
                  <a:pt x="45" y="78"/>
                </a:cubicBezTo>
                <a:cubicBezTo>
                  <a:pt x="66" y="57"/>
                  <a:pt x="148" y="32"/>
                  <a:pt x="181" y="30"/>
                </a:cubicBezTo>
                <a:cubicBezTo>
                  <a:pt x="301" y="23"/>
                  <a:pt x="421" y="21"/>
                  <a:pt x="541" y="14"/>
                </a:cubicBezTo>
                <a:cubicBezTo>
                  <a:pt x="584" y="17"/>
                  <a:pt x="626" y="18"/>
                  <a:pt x="669" y="22"/>
                </a:cubicBezTo>
                <a:cubicBezTo>
                  <a:pt x="697" y="25"/>
                  <a:pt x="713" y="49"/>
                  <a:pt x="741" y="54"/>
                </a:cubicBezTo>
                <a:cubicBezTo>
                  <a:pt x="762" y="58"/>
                  <a:pt x="784" y="59"/>
                  <a:pt x="805" y="62"/>
                </a:cubicBezTo>
                <a:cubicBezTo>
                  <a:pt x="818" y="64"/>
                  <a:pt x="832" y="67"/>
                  <a:pt x="845" y="70"/>
                </a:cubicBezTo>
                <a:cubicBezTo>
                  <a:pt x="902" y="62"/>
                  <a:pt x="964" y="41"/>
                  <a:pt x="1021" y="38"/>
                </a:cubicBezTo>
                <a:cubicBezTo>
                  <a:pt x="1178" y="30"/>
                  <a:pt x="1336" y="29"/>
                  <a:pt x="1493" y="22"/>
                </a:cubicBezTo>
                <a:cubicBezTo>
                  <a:pt x="1580" y="0"/>
                  <a:pt x="1680" y="10"/>
                  <a:pt x="1765" y="38"/>
                </a:cubicBezTo>
                <a:cubicBezTo>
                  <a:pt x="1770" y="54"/>
                  <a:pt x="1772" y="72"/>
                  <a:pt x="1781" y="86"/>
                </a:cubicBezTo>
                <a:cubicBezTo>
                  <a:pt x="1786" y="94"/>
                  <a:pt x="1793" y="101"/>
                  <a:pt x="1797" y="110"/>
                </a:cubicBezTo>
                <a:cubicBezTo>
                  <a:pt x="1804" y="125"/>
                  <a:pt x="1808" y="142"/>
                  <a:pt x="1813" y="158"/>
                </a:cubicBezTo>
                <a:cubicBezTo>
                  <a:pt x="1816" y="166"/>
                  <a:pt x="1821" y="182"/>
                  <a:pt x="1821" y="182"/>
                </a:cubicBezTo>
                <a:cubicBezTo>
                  <a:pt x="1831" y="313"/>
                  <a:pt x="1829" y="251"/>
                  <a:pt x="1829" y="36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1343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700360" y="3789360"/>
            <a:ext cx="3019320" cy="504360"/>
            <a:chOff x="2700360" y="3789360"/>
            <a:chExt cx="3019320" cy="504360"/>
          </a:xfrm>
        </p:grpSpPr>
        <p:grpSp>
          <p:nvGrpSpPr>
            <p:cNvPr id="175" name=""/>
            <p:cNvGrpSpPr/>
            <p:nvPr/>
          </p:nvGrpSpPr>
          <p:grpSpPr>
            <a:xfrm>
              <a:off x="2700360" y="3836880"/>
              <a:ext cx="1142640" cy="456840"/>
              <a:chOff x="2700360" y="3836880"/>
              <a:chExt cx="1142640" cy="456840"/>
            </a:xfrm>
          </p:grpSpPr>
          <p:sp>
            <p:nvSpPr>
              <p:cNvPr id="176" name=""/>
              <p:cNvSpPr/>
              <p:nvPr/>
            </p:nvSpPr>
            <p:spPr>
              <a:xfrm>
                <a:off x="270036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572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144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0036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572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144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100480" y="3789360"/>
              <a:ext cx="61920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3162240" cy="10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93960" y="3879720"/>
            <a:ext cx="949320" cy="343080"/>
          </a:xfrm>
          <a:custGeom>
            <a:avLst/>
            <a:gdLst/>
            <a:ahLst/>
            <a:rect l="l" t="t" r="r" b="b"/>
            <a:pathLst>
              <a:path w="598" h="216">
                <a:moveTo>
                  <a:pt x="0" y="216"/>
                </a:moveTo>
                <a:cubicBezTo>
                  <a:pt x="7" y="211"/>
                  <a:pt x="17" y="210"/>
                  <a:pt x="24" y="204"/>
                </a:cubicBezTo>
                <a:cubicBezTo>
                  <a:pt x="47" y="185"/>
                  <a:pt x="8" y="192"/>
                  <a:pt x="56" y="176"/>
                </a:cubicBezTo>
                <a:cubicBezTo>
                  <a:pt x="76" y="169"/>
                  <a:pt x="96" y="163"/>
                  <a:pt x="116" y="156"/>
                </a:cubicBezTo>
                <a:cubicBezTo>
                  <a:pt x="125" y="153"/>
                  <a:pt x="131" y="143"/>
                  <a:pt x="140" y="140"/>
                </a:cubicBezTo>
                <a:cubicBezTo>
                  <a:pt x="180" y="127"/>
                  <a:pt x="213" y="109"/>
                  <a:pt x="256" y="104"/>
                </a:cubicBezTo>
                <a:cubicBezTo>
                  <a:pt x="281" y="96"/>
                  <a:pt x="302" y="92"/>
                  <a:pt x="328" y="88"/>
                </a:cubicBezTo>
                <a:cubicBezTo>
                  <a:pt x="345" y="82"/>
                  <a:pt x="359" y="78"/>
                  <a:pt x="376" y="84"/>
                </a:cubicBezTo>
                <a:cubicBezTo>
                  <a:pt x="406" y="38"/>
                  <a:pt x="475" y="33"/>
                  <a:pt x="524" y="20"/>
                </a:cubicBezTo>
                <a:cubicBezTo>
                  <a:pt x="598" y="0"/>
                  <a:pt x="520" y="21"/>
                  <a:pt x="580" y="8"/>
                </a:cubicBezTo>
                <a:cubicBezTo>
                  <a:pt x="584" y="7"/>
                  <a:pt x="592" y="4"/>
                  <a:pt x="59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59120" y="4070520"/>
            <a:ext cx="1967040" cy="448920"/>
          </a:xfrm>
          <a:custGeom>
            <a:avLst/>
            <a:gdLst/>
            <a:ahLst/>
            <a:rect l="l" t="t" r="r" b="b"/>
            <a:pathLst>
              <a:path w="1239" h="283">
                <a:moveTo>
                  <a:pt x="0" y="108"/>
                </a:moveTo>
                <a:cubicBezTo>
                  <a:pt x="19" y="166"/>
                  <a:pt x="14" y="252"/>
                  <a:pt x="92" y="256"/>
                </a:cubicBezTo>
                <a:cubicBezTo>
                  <a:pt x="137" y="258"/>
                  <a:pt x="183" y="259"/>
                  <a:pt x="228" y="260"/>
                </a:cubicBezTo>
                <a:cubicBezTo>
                  <a:pt x="268" y="268"/>
                  <a:pt x="285" y="273"/>
                  <a:pt x="332" y="276"/>
                </a:cubicBezTo>
                <a:cubicBezTo>
                  <a:pt x="380" y="283"/>
                  <a:pt x="411" y="264"/>
                  <a:pt x="456" y="260"/>
                </a:cubicBezTo>
                <a:cubicBezTo>
                  <a:pt x="517" y="254"/>
                  <a:pt x="574" y="247"/>
                  <a:pt x="636" y="244"/>
                </a:cubicBezTo>
                <a:cubicBezTo>
                  <a:pt x="644" y="241"/>
                  <a:pt x="652" y="239"/>
                  <a:pt x="660" y="236"/>
                </a:cubicBezTo>
                <a:cubicBezTo>
                  <a:pt x="664" y="235"/>
                  <a:pt x="672" y="232"/>
                  <a:pt x="672" y="232"/>
                </a:cubicBezTo>
                <a:cubicBezTo>
                  <a:pt x="751" y="235"/>
                  <a:pt x="825" y="244"/>
                  <a:pt x="904" y="248"/>
                </a:cubicBezTo>
                <a:cubicBezTo>
                  <a:pt x="976" y="243"/>
                  <a:pt x="1048" y="238"/>
                  <a:pt x="1120" y="232"/>
                </a:cubicBezTo>
                <a:cubicBezTo>
                  <a:pt x="1145" y="224"/>
                  <a:pt x="1169" y="227"/>
                  <a:pt x="1192" y="212"/>
                </a:cubicBezTo>
                <a:cubicBezTo>
                  <a:pt x="1201" y="199"/>
                  <a:pt x="1212" y="191"/>
                  <a:pt x="1216" y="176"/>
                </a:cubicBezTo>
                <a:cubicBezTo>
                  <a:pt x="1219" y="165"/>
                  <a:pt x="1224" y="144"/>
                  <a:pt x="1224" y="144"/>
                </a:cubicBezTo>
                <a:cubicBezTo>
                  <a:pt x="1225" y="120"/>
                  <a:pt x="1239" y="39"/>
                  <a:pt x="122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20960" y="3892680"/>
            <a:ext cx="1416240" cy="177840"/>
          </a:xfrm>
          <a:custGeom>
            <a:avLst/>
            <a:gdLst/>
            <a:ahLst/>
            <a:rect l="l" t="t" r="r" b="b"/>
            <a:pathLst>
              <a:path w="892" h="112">
                <a:moveTo>
                  <a:pt x="0" y="0"/>
                </a:moveTo>
                <a:cubicBezTo>
                  <a:pt x="44" y="4"/>
                  <a:pt x="88" y="10"/>
                  <a:pt x="132" y="16"/>
                </a:cubicBezTo>
                <a:cubicBezTo>
                  <a:pt x="150" y="28"/>
                  <a:pt x="154" y="28"/>
                  <a:pt x="176" y="24"/>
                </a:cubicBezTo>
                <a:cubicBezTo>
                  <a:pt x="230" y="32"/>
                  <a:pt x="287" y="38"/>
                  <a:pt x="340" y="20"/>
                </a:cubicBezTo>
                <a:cubicBezTo>
                  <a:pt x="389" y="23"/>
                  <a:pt x="423" y="25"/>
                  <a:pt x="468" y="36"/>
                </a:cubicBezTo>
                <a:cubicBezTo>
                  <a:pt x="481" y="39"/>
                  <a:pt x="495" y="44"/>
                  <a:pt x="508" y="48"/>
                </a:cubicBezTo>
                <a:cubicBezTo>
                  <a:pt x="519" y="51"/>
                  <a:pt x="540" y="56"/>
                  <a:pt x="540" y="56"/>
                </a:cubicBezTo>
                <a:cubicBezTo>
                  <a:pt x="585" y="86"/>
                  <a:pt x="646" y="66"/>
                  <a:pt x="696" y="64"/>
                </a:cubicBezTo>
                <a:cubicBezTo>
                  <a:pt x="719" y="65"/>
                  <a:pt x="741" y="66"/>
                  <a:pt x="764" y="68"/>
                </a:cubicBezTo>
                <a:cubicBezTo>
                  <a:pt x="779" y="70"/>
                  <a:pt x="808" y="80"/>
                  <a:pt x="808" y="80"/>
                </a:cubicBezTo>
                <a:cubicBezTo>
                  <a:pt x="834" y="97"/>
                  <a:pt x="865" y="98"/>
                  <a:pt x="89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134316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825640" y="3898800"/>
            <a:ext cx="933480" cy="343080"/>
          </a:xfrm>
          <a:custGeom>
            <a:avLst/>
            <a:gdLst/>
            <a:ahLst/>
            <a:rect l="l" t="t" r="r" b="b"/>
            <a:pathLst>
              <a:path w="588" h="216">
                <a:moveTo>
                  <a:pt x="588" y="216"/>
                </a:moveTo>
                <a:cubicBezTo>
                  <a:pt x="571" y="210"/>
                  <a:pt x="551" y="205"/>
                  <a:pt x="536" y="196"/>
                </a:cubicBezTo>
                <a:cubicBezTo>
                  <a:pt x="495" y="173"/>
                  <a:pt x="527" y="185"/>
                  <a:pt x="500" y="176"/>
                </a:cubicBezTo>
                <a:cubicBezTo>
                  <a:pt x="466" y="124"/>
                  <a:pt x="405" y="129"/>
                  <a:pt x="352" y="116"/>
                </a:cubicBezTo>
                <a:cubicBezTo>
                  <a:pt x="293" y="101"/>
                  <a:pt x="241" y="82"/>
                  <a:pt x="180" y="76"/>
                </a:cubicBezTo>
                <a:cubicBezTo>
                  <a:pt x="163" y="70"/>
                  <a:pt x="148" y="59"/>
                  <a:pt x="132" y="52"/>
                </a:cubicBezTo>
                <a:cubicBezTo>
                  <a:pt x="124" y="49"/>
                  <a:pt x="115" y="49"/>
                  <a:pt x="108" y="44"/>
                </a:cubicBezTo>
                <a:cubicBezTo>
                  <a:pt x="96" y="36"/>
                  <a:pt x="86" y="25"/>
                  <a:pt x="72" y="20"/>
                </a:cubicBezTo>
                <a:cubicBezTo>
                  <a:pt x="49" y="12"/>
                  <a:pt x="64" y="16"/>
                  <a:pt x="24" y="12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700360" y="3789360"/>
            <a:ext cx="3019320" cy="504360"/>
            <a:chOff x="2700360" y="3789360"/>
            <a:chExt cx="3019320" cy="504360"/>
          </a:xfrm>
        </p:grpSpPr>
        <p:grpSp>
          <p:nvGrpSpPr>
            <p:cNvPr id="192" name=""/>
            <p:cNvGrpSpPr/>
            <p:nvPr/>
          </p:nvGrpSpPr>
          <p:grpSpPr>
            <a:xfrm>
              <a:off x="2700360" y="3836880"/>
              <a:ext cx="1142640" cy="456840"/>
              <a:chOff x="2700360" y="3836880"/>
              <a:chExt cx="1142640" cy="456840"/>
            </a:xfrm>
          </p:grpSpPr>
          <p:sp>
            <p:nvSpPr>
              <p:cNvPr id="193" name=""/>
              <p:cNvSpPr/>
              <p:nvPr/>
            </p:nvSpPr>
            <p:spPr>
              <a:xfrm>
                <a:off x="270036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572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144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0036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572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144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5100480" y="3789360"/>
              <a:ext cx="61920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3162240" cy="1076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93960" y="3879720"/>
            <a:ext cx="949320" cy="343080"/>
          </a:xfrm>
          <a:custGeom>
            <a:avLst/>
            <a:gdLst/>
            <a:ahLst/>
            <a:rect l="l" t="t" r="r" b="b"/>
            <a:pathLst>
              <a:path w="598" h="216">
                <a:moveTo>
                  <a:pt x="0" y="216"/>
                </a:moveTo>
                <a:cubicBezTo>
                  <a:pt x="7" y="211"/>
                  <a:pt x="17" y="210"/>
                  <a:pt x="24" y="204"/>
                </a:cubicBezTo>
                <a:cubicBezTo>
                  <a:pt x="47" y="185"/>
                  <a:pt x="8" y="192"/>
                  <a:pt x="56" y="176"/>
                </a:cubicBezTo>
                <a:cubicBezTo>
                  <a:pt x="76" y="169"/>
                  <a:pt x="96" y="163"/>
                  <a:pt x="116" y="156"/>
                </a:cubicBezTo>
                <a:cubicBezTo>
                  <a:pt x="125" y="153"/>
                  <a:pt x="131" y="143"/>
                  <a:pt x="140" y="140"/>
                </a:cubicBezTo>
                <a:cubicBezTo>
                  <a:pt x="180" y="127"/>
                  <a:pt x="213" y="109"/>
                  <a:pt x="256" y="104"/>
                </a:cubicBezTo>
                <a:cubicBezTo>
                  <a:pt x="281" y="96"/>
                  <a:pt x="302" y="92"/>
                  <a:pt x="328" y="88"/>
                </a:cubicBezTo>
                <a:cubicBezTo>
                  <a:pt x="345" y="82"/>
                  <a:pt x="359" y="78"/>
                  <a:pt x="376" y="84"/>
                </a:cubicBezTo>
                <a:cubicBezTo>
                  <a:pt x="406" y="38"/>
                  <a:pt x="475" y="33"/>
                  <a:pt x="524" y="20"/>
                </a:cubicBezTo>
                <a:cubicBezTo>
                  <a:pt x="598" y="0"/>
                  <a:pt x="520" y="21"/>
                  <a:pt x="580" y="8"/>
                </a:cubicBezTo>
                <a:cubicBezTo>
                  <a:pt x="584" y="7"/>
                  <a:pt x="592" y="4"/>
                  <a:pt x="59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59120" y="4070520"/>
            <a:ext cx="1967040" cy="448920"/>
          </a:xfrm>
          <a:custGeom>
            <a:avLst/>
            <a:gdLst/>
            <a:ahLst/>
            <a:rect l="l" t="t" r="r" b="b"/>
            <a:pathLst>
              <a:path w="1239" h="283">
                <a:moveTo>
                  <a:pt x="0" y="108"/>
                </a:moveTo>
                <a:cubicBezTo>
                  <a:pt x="19" y="166"/>
                  <a:pt x="14" y="252"/>
                  <a:pt x="92" y="256"/>
                </a:cubicBezTo>
                <a:cubicBezTo>
                  <a:pt x="137" y="258"/>
                  <a:pt x="183" y="259"/>
                  <a:pt x="228" y="260"/>
                </a:cubicBezTo>
                <a:cubicBezTo>
                  <a:pt x="268" y="268"/>
                  <a:pt x="285" y="273"/>
                  <a:pt x="332" y="276"/>
                </a:cubicBezTo>
                <a:cubicBezTo>
                  <a:pt x="380" y="283"/>
                  <a:pt x="411" y="264"/>
                  <a:pt x="456" y="260"/>
                </a:cubicBezTo>
                <a:cubicBezTo>
                  <a:pt x="517" y="254"/>
                  <a:pt x="574" y="247"/>
                  <a:pt x="636" y="244"/>
                </a:cubicBezTo>
                <a:cubicBezTo>
                  <a:pt x="644" y="241"/>
                  <a:pt x="652" y="239"/>
                  <a:pt x="660" y="236"/>
                </a:cubicBezTo>
                <a:cubicBezTo>
                  <a:pt x="664" y="235"/>
                  <a:pt x="672" y="232"/>
                  <a:pt x="672" y="232"/>
                </a:cubicBezTo>
                <a:cubicBezTo>
                  <a:pt x="751" y="235"/>
                  <a:pt x="825" y="244"/>
                  <a:pt x="904" y="248"/>
                </a:cubicBezTo>
                <a:cubicBezTo>
                  <a:pt x="976" y="243"/>
                  <a:pt x="1048" y="238"/>
                  <a:pt x="1120" y="232"/>
                </a:cubicBezTo>
                <a:cubicBezTo>
                  <a:pt x="1145" y="224"/>
                  <a:pt x="1169" y="227"/>
                  <a:pt x="1192" y="212"/>
                </a:cubicBezTo>
                <a:cubicBezTo>
                  <a:pt x="1201" y="199"/>
                  <a:pt x="1212" y="191"/>
                  <a:pt x="1216" y="176"/>
                </a:cubicBezTo>
                <a:cubicBezTo>
                  <a:pt x="1219" y="165"/>
                  <a:pt x="1224" y="144"/>
                  <a:pt x="1224" y="144"/>
                </a:cubicBezTo>
                <a:cubicBezTo>
                  <a:pt x="1225" y="120"/>
                  <a:pt x="1239" y="39"/>
                  <a:pt x="12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20960" y="3892680"/>
            <a:ext cx="1416240" cy="177840"/>
          </a:xfrm>
          <a:custGeom>
            <a:avLst/>
            <a:gdLst/>
            <a:ahLst/>
            <a:rect l="l" t="t" r="r" b="b"/>
            <a:pathLst>
              <a:path w="892" h="112">
                <a:moveTo>
                  <a:pt x="0" y="0"/>
                </a:moveTo>
                <a:cubicBezTo>
                  <a:pt x="44" y="4"/>
                  <a:pt x="88" y="10"/>
                  <a:pt x="132" y="16"/>
                </a:cubicBezTo>
                <a:cubicBezTo>
                  <a:pt x="150" y="28"/>
                  <a:pt x="154" y="28"/>
                  <a:pt x="176" y="24"/>
                </a:cubicBezTo>
                <a:cubicBezTo>
                  <a:pt x="230" y="32"/>
                  <a:pt x="287" y="38"/>
                  <a:pt x="340" y="20"/>
                </a:cubicBezTo>
                <a:cubicBezTo>
                  <a:pt x="389" y="23"/>
                  <a:pt x="423" y="25"/>
                  <a:pt x="468" y="36"/>
                </a:cubicBezTo>
                <a:cubicBezTo>
                  <a:pt x="481" y="39"/>
                  <a:pt x="495" y="44"/>
                  <a:pt x="508" y="48"/>
                </a:cubicBezTo>
                <a:cubicBezTo>
                  <a:pt x="519" y="51"/>
                  <a:pt x="540" y="56"/>
                  <a:pt x="540" y="56"/>
                </a:cubicBezTo>
                <a:cubicBezTo>
                  <a:pt x="585" y="86"/>
                  <a:pt x="646" y="66"/>
                  <a:pt x="696" y="64"/>
                </a:cubicBezTo>
                <a:cubicBezTo>
                  <a:pt x="719" y="65"/>
                  <a:pt x="741" y="66"/>
                  <a:pt x="764" y="68"/>
                </a:cubicBezTo>
                <a:cubicBezTo>
                  <a:pt x="779" y="70"/>
                  <a:pt x="808" y="80"/>
                  <a:pt x="808" y="80"/>
                </a:cubicBezTo>
                <a:cubicBezTo>
                  <a:pt x="834" y="97"/>
                  <a:pt x="865" y="98"/>
                  <a:pt x="89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1343160" cy="895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25640" y="3898800"/>
            <a:ext cx="933480" cy="343080"/>
          </a:xfrm>
          <a:custGeom>
            <a:avLst/>
            <a:gdLst/>
            <a:ahLst/>
            <a:rect l="l" t="t" r="r" b="b"/>
            <a:pathLst>
              <a:path w="588" h="216">
                <a:moveTo>
                  <a:pt x="588" y="216"/>
                </a:moveTo>
                <a:cubicBezTo>
                  <a:pt x="571" y="210"/>
                  <a:pt x="551" y="205"/>
                  <a:pt x="536" y="196"/>
                </a:cubicBezTo>
                <a:cubicBezTo>
                  <a:pt x="495" y="173"/>
                  <a:pt x="527" y="185"/>
                  <a:pt x="500" y="176"/>
                </a:cubicBezTo>
                <a:cubicBezTo>
                  <a:pt x="466" y="124"/>
                  <a:pt x="405" y="129"/>
                  <a:pt x="352" y="116"/>
                </a:cubicBezTo>
                <a:cubicBezTo>
                  <a:pt x="293" y="101"/>
                  <a:pt x="241" y="82"/>
                  <a:pt x="180" y="76"/>
                </a:cubicBezTo>
                <a:cubicBezTo>
                  <a:pt x="163" y="70"/>
                  <a:pt x="148" y="59"/>
                  <a:pt x="132" y="52"/>
                </a:cubicBezTo>
                <a:cubicBezTo>
                  <a:pt x="124" y="49"/>
                  <a:pt x="115" y="49"/>
                  <a:pt x="108" y="44"/>
                </a:cubicBezTo>
                <a:cubicBezTo>
                  <a:pt x="96" y="36"/>
                  <a:pt x="86" y="25"/>
                  <a:pt x="72" y="20"/>
                </a:cubicBezTo>
                <a:cubicBezTo>
                  <a:pt x="49" y="12"/>
                  <a:pt x="64" y="16"/>
                  <a:pt x="24" y="12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76720" y="3382920"/>
            <a:ext cx="0" cy="503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422100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3640" y="33577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4581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8120" y="1095120"/>
            <a:ext cx="807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 with limit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32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28120" y="1095120"/>
            <a:ext cx="807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7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 with limit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2288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2340000" y="3789360"/>
            <a:ext cx="3704760" cy="2018880"/>
            <a:chOff x="2340000" y="3789360"/>
            <a:chExt cx="3704760" cy="2018880"/>
          </a:xfrm>
        </p:grpSpPr>
        <p:grpSp>
          <p:nvGrpSpPr>
            <p:cNvPr id="217" name=""/>
            <p:cNvGrpSpPr/>
            <p:nvPr/>
          </p:nvGrpSpPr>
          <p:grpSpPr>
            <a:xfrm>
              <a:off x="2340000" y="4475160"/>
              <a:ext cx="1142640" cy="456840"/>
              <a:chOff x="2340000" y="4475160"/>
              <a:chExt cx="1142640" cy="456840"/>
            </a:xfrm>
          </p:grpSpPr>
          <p:sp>
            <p:nvSpPr>
              <p:cNvPr id="218" name=""/>
              <p:cNvSpPr/>
              <p:nvPr/>
            </p:nvSpPr>
            <p:spPr>
              <a:xfrm>
                <a:off x="2340000" y="4475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96840" y="4475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254040" y="4475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40000" y="4817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96840" y="4817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54040" y="4817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5425920" y="4475160"/>
              <a:ext cx="61884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4168800" y="3789360"/>
              <a:ext cx="628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4168800" y="5503680"/>
              <a:ext cx="628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580000" y="1989000"/>
            <a:ext cx="1343160" cy="895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756320" y="3848040"/>
            <a:ext cx="1274760" cy="895320"/>
          </a:xfrm>
          <a:custGeom>
            <a:avLst/>
            <a:gdLst/>
            <a:ahLst/>
            <a:rect l="l" t="t" r="r" b="b"/>
            <a:pathLst>
              <a:path w="803" h="564">
                <a:moveTo>
                  <a:pt x="0" y="4"/>
                </a:moveTo>
                <a:cubicBezTo>
                  <a:pt x="80" y="10"/>
                  <a:pt x="160" y="10"/>
                  <a:pt x="240" y="0"/>
                </a:cubicBezTo>
                <a:cubicBezTo>
                  <a:pt x="306" y="3"/>
                  <a:pt x="329" y="6"/>
                  <a:pt x="384" y="12"/>
                </a:cubicBezTo>
                <a:cubicBezTo>
                  <a:pt x="420" y="24"/>
                  <a:pt x="366" y="7"/>
                  <a:pt x="456" y="20"/>
                </a:cubicBezTo>
                <a:cubicBezTo>
                  <a:pt x="501" y="26"/>
                  <a:pt x="548" y="48"/>
                  <a:pt x="588" y="68"/>
                </a:cubicBezTo>
                <a:cubicBezTo>
                  <a:pt x="618" y="83"/>
                  <a:pt x="634" y="101"/>
                  <a:pt x="652" y="128"/>
                </a:cubicBezTo>
                <a:cubicBezTo>
                  <a:pt x="657" y="136"/>
                  <a:pt x="663" y="144"/>
                  <a:pt x="668" y="152"/>
                </a:cubicBezTo>
                <a:cubicBezTo>
                  <a:pt x="671" y="156"/>
                  <a:pt x="676" y="164"/>
                  <a:pt x="676" y="164"/>
                </a:cubicBezTo>
                <a:cubicBezTo>
                  <a:pt x="676" y="165"/>
                  <a:pt x="682" y="189"/>
                  <a:pt x="684" y="192"/>
                </a:cubicBezTo>
                <a:cubicBezTo>
                  <a:pt x="693" y="204"/>
                  <a:pt x="709" y="213"/>
                  <a:pt x="716" y="228"/>
                </a:cubicBezTo>
                <a:cubicBezTo>
                  <a:pt x="735" y="270"/>
                  <a:pt x="738" y="321"/>
                  <a:pt x="764" y="360"/>
                </a:cubicBezTo>
                <a:cubicBezTo>
                  <a:pt x="773" y="397"/>
                  <a:pt x="776" y="436"/>
                  <a:pt x="788" y="472"/>
                </a:cubicBezTo>
                <a:cubicBezTo>
                  <a:pt x="792" y="503"/>
                  <a:pt x="803" y="534"/>
                  <a:pt x="788" y="5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03440" y="4876920"/>
            <a:ext cx="819360" cy="685800"/>
          </a:xfrm>
          <a:custGeom>
            <a:avLst/>
            <a:gdLst/>
            <a:ahLst/>
            <a:rect l="l" t="t" r="r" b="b"/>
            <a:pathLst>
              <a:path w="516" h="432">
                <a:moveTo>
                  <a:pt x="516" y="432"/>
                </a:moveTo>
                <a:cubicBezTo>
                  <a:pt x="451" y="429"/>
                  <a:pt x="404" y="424"/>
                  <a:pt x="340" y="428"/>
                </a:cubicBezTo>
                <a:cubicBezTo>
                  <a:pt x="288" y="415"/>
                  <a:pt x="239" y="385"/>
                  <a:pt x="188" y="368"/>
                </a:cubicBezTo>
                <a:cubicBezTo>
                  <a:pt x="185" y="367"/>
                  <a:pt x="145" y="345"/>
                  <a:pt x="140" y="340"/>
                </a:cubicBezTo>
                <a:cubicBezTo>
                  <a:pt x="132" y="332"/>
                  <a:pt x="116" y="316"/>
                  <a:pt x="116" y="316"/>
                </a:cubicBezTo>
                <a:cubicBezTo>
                  <a:pt x="104" y="279"/>
                  <a:pt x="124" y="334"/>
                  <a:pt x="100" y="292"/>
                </a:cubicBezTo>
                <a:cubicBezTo>
                  <a:pt x="89" y="272"/>
                  <a:pt x="85" y="248"/>
                  <a:pt x="72" y="228"/>
                </a:cubicBezTo>
                <a:cubicBezTo>
                  <a:pt x="62" y="187"/>
                  <a:pt x="51" y="138"/>
                  <a:pt x="32" y="100"/>
                </a:cubicBezTo>
                <a:cubicBezTo>
                  <a:pt x="29" y="76"/>
                  <a:pt x="18" y="1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62440" y="4762440"/>
            <a:ext cx="1238400" cy="806400"/>
          </a:xfrm>
          <a:custGeom>
            <a:avLst/>
            <a:gdLst/>
            <a:ahLst/>
            <a:rect l="l" t="t" r="r" b="b"/>
            <a:pathLst>
              <a:path w="780" h="508">
                <a:moveTo>
                  <a:pt x="0" y="508"/>
                </a:moveTo>
                <a:cubicBezTo>
                  <a:pt x="69" y="491"/>
                  <a:pt x="141" y="491"/>
                  <a:pt x="212" y="484"/>
                </a:cubicBezTo>
                <a:cubicBezTo>
                  <a:pt x="242" y="474"/>
                  <a:pt x="272" y="474"/>
                  <a:pt x="304" y="472"/>
                </a:cubicBezTo>
                <a:cubicBezTo>
                  <a:pt x="377" y="460"/>
                  <a:pt x="454" y="445"/>
                  <a:pt x="520" y="412"/>
                </a:cubicBezTo>
                <a:cubicBezTo>
                  <a:pt x="530" y="398"/>
                  <a:pt x="538" y="397"/>
                  <a:pt x="552" y="388"/>
                </a:cubicBezTo>
                <a:cubicBezTo>
                  <a:pt x="562" y="359"/>
                  <a:pt x="601" y="360"/>
                  <a:pt x="624" y="344"/>
                </a:cubicBezTo>
                <a:cubicBezTo>
                  <a:pt x="648" y="327"/>
                  <a:pt x="663" y="303"/>
                  <a:pt x="680" y="280"/>
                </a:cubicBezTo>
                <a:cubicBezTo>
                  <a:pt x="690" y="250"/>
                  <a:pt x="706" y="224"/>
                  <a:pt x="720" y="196"/>
                </a:cubicBezTo>
                <a:cubicBezTo>
                  <a:pt x="725" y="170"/>
                  <a:pt x="737" y="106"/>
                  <a:pt x="752" y="84"/>
                </a:cubicBezTo>
                <a:cubicBezTo>
                  <a:pt x="769" y="58"/>
                  <a:pt x="780" y="32"/>
                  <a:pt x="7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16360" y="4005360"/>
            <a:ext cx="0" cy="503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43280" y="4005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48690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52354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13080" y="3794040"/>
            <a:ext cx="1790640" cy="752400"/>
          </a:xfrm>
          <a:custGeom>
            <a:avLst/>
            <a:gdLst/>
            <a:ahLst/>
            <a:rect l="l" t="t" r="r" b="b"/>
            <a:pathLst>
              <a:path w="1128" h="474">
                <a:moveTo>
                  <a:pt x="24" y="474"/>
                </a:moveTo>
                <a:cubicBezTo>
                  <a:pt x="13" y="396"/>
                  <a:pt x="5" y="353"/>
                  <a:pt x="0" y="266"/>
                </a:cubicBezTo>
                <a:cubicBezTo>
                  <a:pt x="9" y="173"/>
                  <a:pt x="17" y="126"/>
                  <a:pt x="96" y="74"/>
                </a:cubicBezTo>
                <a:cubicBezTo>
                  <a:pt x="168" y="92"/>
                  <a:pt x="228" y="63"/>
                  <a:pt x="296" y="58"/>
                </a:cubicBezTo>
                <a:cubicBezTo>
                  <a:pt x="363" y="53"/>
                  <a:pt x="429" y="53"/>
                  <a:pt x="496" y="50"/>
                </a:cubicBezTo>
                <a:cubicBezTo>
                  <a:pt x="647" y="0"/>
                  <a:pt x="461" y="59"/>
                  <a:pt x="912" y="50"/>
                </a:cubicBezTo>
                <a:cubicBezTo>
                  <a:pt x="922" y="50"/>
                  <a:pt x="926" y="35"/>
                  <a:pt x="936" y="34"/>
                </a:cubicBezTo>
                <a:cubicBezTo>
                  <a:pt x="1000" y="29"/>
                  <a:pt x="1064" y="34"/>
                  <a:pt x="1128" y="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9200" y="4533840"/>
            <a:ext cx="924120" cy="333360"/>
          </a:xfrm>
          <a:custGeom>
            <a:avLst/>
            <a:gdLst/>
            <a:ahLst/>
            <a:rect l="l" t="t" r="r" b="b"/>
            <a:pathLst>
              <a:path w="582" h="210">
                <a:moveTo>
                  <a:pt x="0" y="210"/>
                </a:moveTo>
                <a:cubicBezTo>
                  <a:pt x="47" y="163"/>
                  <a:pt x="82" y="166"/>
                  <a:pt x="144" y="150"/>
                </a:cubicBezTo>
                <a:cubicBezTo>
                  <a:pt x="202" y="136"/>
                  <a:pt x="252" y="115"/>
                  <a:pt x="312" y="108"/>
                </a:cubicBezTo>
                <a:cubicBezTo>
                  <a:pt x="337" y="100"/>
                  <a:pt x="366" y="94"/>
                  <a:pt x="390" y="84"/>
                </a:cubicBezTo>
                <a:cubicBezTo>
                  <a:pt x="407" y="77"/>
                  <a:pt x="414" y="70"/>
                  <a:pt x="432" y="66"/>
                </a:cubicBezTo>
                <a:cubicBezTo>
                  <a:pt x="481" y="56"/>
                  <a:pt x="556" y="51"/>
                  <a:pt x="5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4514760"/>
            <a:ext cx="2114640" cy="238320"/>
          </a:xfrm>
          <a:custGeom>
            <a:avLst/>
            <a:gdLst/>
            <a:ahLst/>
            <a:rect l="l" t="t" r="r" b="b"/>
            <a:pathLst>
              <a:path w="1332" h="150">
                <a:moveTo>
                  <a:pt x="0" y="6"/>
                </a:moveTo>
                <a:cubicBezTo>
                  <a:pt x="86" y="8"/>
                  <a:pt x="172" y="14"/>
                  <a:pt x="258" y="12"/>
                </a:cubicBezTo>
                <a:cubicBezTo>
                  <a:pt x="271" y="12"/>
                  <a:pt x="294" y="0"/>
                  <a:pt x="294" y="0"/>
                </a:cubicBezTo>
                <a:cubicBezTo>
                  <a:pt x="413" y="20"/>
                  <a:pt x="288" y="1"/>
                  <a:pt x="570" y="12"/>
                </a:cubicBezTo>
                <a:cubicBezTo>
                  <a:pt x="642" y="15"/>
                  <a:pt x="714" y="31"/>
                  <a:pt x="786" y="36"/>
                </a:cubicBezTo>
                <a:cubicBezTo>
                  <a:pt x="846" y="56"/>
                  <a:pt x="828" y="52"/>
                  <a:pt x="948" y="48"/>
                </a:cubicBezTo>
                <a:cubicBezTo>
                  <a:pt x="961" y="48"/>
                  <a:pt x="984" y="36"/>
                  <a:pt x="984" y="36"/>
                </a:cubicBezTo>
                <a:cubicBezTo>
                  <a:pt x="1068" y="38"/>
                  <a:pt x="1152" y="37"/>
                  <a:pt x="1236" y="42"/>
                </a:cubicBezTo>
                <a:cubicBezTo>
                  <a:pt x="1249" y="43"/>
                  <a:pt x="1272" y="54"/>
                  <a:pt x="1272" y="54"/>
                </a:cubicBezTo>
                <a:cubicBezTo>
                  <a:pt x="1287" y="99"/>
                  <a:pt x="1265" y="45"/>
                  <a:pt x="1296" y="84"/>
                </a:cubicBezTo>
                <a:cubicBezTo>
                  <a:pt x="1300" y="89"/>
                  <a:pt x="1299" y="96"/>
                  <a:pt x="1302" y="102"/>
                </a:cubicBezTo>
                <a:cubicBezTo>
                  <a:pt x="1309" y="115"/>
                  <a:pt x="1320" y="125"/>
                  <a:pt x="1326" y="138"/>
                </a:cubicBezTo>
                <a:cubicBezTo>
                  <a:pt x="1328" y="142"/>
                  <a:pt x="1330" y="146"/>
                  <a:pt x="1332" y="1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28120" y="1095120"/>
            <a:ext cx="807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 with limit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72039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268280"/>
            <a:ext cx="74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wire used to connect components is a condu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ductor allows electric current to flow through it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conductors include: copper, gold, silver, 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wire is generally used as it is most cost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260960"/>
            <a:ext cx="712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lectrical wires have a plastic co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tic is an ins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sulator does not allow current to flow throug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electric sh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lators include: plastic, glass, w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C:\Users\Pat\AppData\Local\Microsoft\Windows\Temporary Internet Files\Content.IE5\PP4SAF3C\MCj04348610000[1].png"/>
          <p:cNvPicPr/>
          <p:nvPr/>
        </p:nvPicPr>
        <p:blipFill>
          <a:blip r:embed="rId1"/>
          <a:srcRect l="0" t="23855" r="0" b="14191"/>
          <a:stretch/>
        </p:blipFill>
        <p:spPr>
          <a:xfrm>
            <a:off x="3564000" y="2708280"/>
            <a:ext cx="20876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8120" y="1095120"/>
            <a:ext cx="807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7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 with limit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848040" cy="1343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1343160" cy="89532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2195640" y="3860640"/>
            <a:ext cx="3704760" cy="2019600"/>
            <a:chOff x="2195640" y="3860640"/>
            <a:chExt cx="3704760" cy="2019600"/>
          </a:xfrm>
        </p:grpSpPr>
        <p:grpSp>
          <p:nvGrpSpPr>
            <p:cNvPr id="246" name=""/>
            <p:cNvGrpSpPr/>
            <p:nvPr/>
          </p:nvGrpSpPr>
          <p:grpSpPr>
            <a:xfrm>
              <a:off x="2195640" y="4546440"/>
              <a:ext cx="1142640" cy="456840"/>
              <a:chOff x="2195640" y="4546440"/>
              <a:chExt cx="1142640" cy="456840"/>
            </a:xfrm>
          </p:grpSpPr>
          <p:sp>
            <p:nvSpPr>
              <p:cNvPr id="247" name=""/>
              <p:cNvSpPr/>
              <p:nvPr/>
            </p:nvSpPr>
            <p:spPr>
              <a:xfrm>
                <a:off x="2195640" y="454644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52480" y="454644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09680" y="454644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95640" y="4889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52480" y="4889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09680" y="4889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5281560" y="4546440"/>
              <a:ext cx="61884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>
              <a:off x="4024440" y="3860640"/>
              <a:ext cx="628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4024440" y="5575320"/>
              <a:ext cx="62856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"/>
          <p:cNvSpPr/>
          <p:nvPr/>
        </p:nvSpPr>
        <p:spPr>
          <a:xfrm>
            <a:off x="2276640" y="3913200"/>
            <a:ext cx="1800000" cy="696960"/>
          </a:xfrm>
          <a:custGeom>
            <a:avLst/>
            <a:gdLst/>
            <a:ahLst/>
            <a:rect l="l" t="t" r="r" b="b"/>
            <a:pathLst>
              <a:path w="1134" h="439">
                <a:moveTo>
                  <a:pt x="0" y="439"/>
                </a:moveTo>
                <a:cubicBezTo>
                  <a:pt x="16" y="391"/>
                  <a:pt x="15" y="351"/>
                  <a:pt x="24" y="301"/>
                </a:cubicBezTo>
                <a:cubicBezTo>
                  <a:pt x="26" y="289"/>
                  <a:pt x="34" y="277"/>
                  <a:pt x="36" y="265"/>
                </a:cubicBezTo>
                <a:cubicBezTo>
                  <a:pt x="38" y="255"/>
                  <a:pt x="40" y="245"/>
                  <a:pt x="42" y="235"/>
                </a:cubicBezTo>
                <a:cubicBezTo>
                  <a:pt x="44" y="223"/>
                  <a:pt x="62" y="131"/>
                  <a:pt x="78" y="121"/>
                </a:cubicBezTo>
                <a:cubicBezTo>
                  <a:pt x="92" y="112"/>
                  <a:pt x="111" y="115"/>
                  <a:pt x="126" y="109"/>
                </a:cubicBezTo>
                <a:cubicBezTo>
                  <a:pt x="170" y="90"/>
                  <a:pt x="215" y="59"/>
                  <a:pt x="264" y="55"/>
                </a:cubicBezTo>
                <a:cubicBezTo>
                  <a:pt x="332" y="50"/>
                  <a:pt x="400" y="48"/>
                  <a:pt x="468" y="43"/>
                </a:cubicBezTo>
                <a:cubicBezTo>
                  <a:pt x="590" y="2"/>
                  <a:pt x="971" y="21"/>
                  <a:pt x="1056" y="19"/>
                </a:cubicBezTo>
                <a:cubicBezTo>
                  <a:pt x="1064" y="17"/>
                  <a:pt x="1072" y="16"/>
                  <a:pt x="1080" y="13"/>
                </a:cubicBezTo>
                <a:cubicBezTo>
                  <a:pt x="1087" y="10"/>
                  <a:pt x="1091" y="2"/>
                  <a:pt x="1098" y="1"/>
                </a:cubicBezTo>
                <a:cubicBezTo>
                  <a:pt x="1110" y="0"/>
                  <a:pt x="1134" y="7"/>
                  <a:pt x="1134" y="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29240" y="3830760"/>
            <a:ext cx="1349280" cy="1009440"/>
          </a:xfrm>
          <a:custGeom>
            <a:avLst/>
            <a:gdLst/>
            <a:ahLst/>
            <a:rect l="l" t="t" r="r" b="b"/>
            <a:pathLst>
              <a:path w="850" h="636">
                <a:moveTo>
                  <a:pt x="0" y="53"/>
                </a:moveTo>
                <a:cubicBezTo>
                  <a:pt x="160" y="0"/>
                  <a:pt x="366" y="47"/>
                  <a:pt x="534" y="53"/>
                </a:cubicBezTo>
                <a:cubicBezTo>
                  <a:pt x="578" y="57"/>
                  <a:pt x="617" y="65"/>
                  <a:pt x="660" y="71"/>
                </a:cubicBezTo>
                <a:cubicBezTo>
                  <a:pt x="706" y="86"/>
                  <a:pt x="684" y="81"/>
                  <a:pt x="726" y="89"/>
                </a:cubicBezTo>
                <a:cubicBezTo>
                  <a:pt x="752" y="106"/>
                  <a:pt x="780" y="107"/>
                  <a:pt x="810" y="113"/>
                </a:cubicBezTo>
                <a:cubicBezTo>
                  <a:pt x="812" y="119"/>
                  <a:pt x="813" y="125"/>
                  <a:pt x="816" y="131"/>
                </a:cubicBezTo>
                <a:cubicBezTo>
                  <a:pt x="819" y="137"/>
                  <a:pt x="825" y="142"/>
                  <a:pt x="828" y="149"/>
                </a:cubicBezTo>
                <a:cubicBezTo>
                  <a:pt x="835" y="167"/>
                  <a:pt x="839" y="231"/>
                  <a:pt x="840" y="239"/>
                </a:cubicBezTo>
                <a:cubicBezTo>
                  <a:pt x="838" y="277"/>
                  <a:pt x="830" y="315"/>
                  <a:pt x="828" y="353"/>
                </a:cubicBezTo>
                <a:cubicBezTo>
                  <a:pt x="820" y="489"/>
                  <a:pt x="850" y="504"/>
                  <a:pt x="798" y="581"/>
                </a:cubicBezTo>
                <a:cubicBezTo>
                  <a:pt x="791" y="627"/>
                  <a:pt x="798" y="636"/>
                  <a:pt x="786" y="6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7920" y="4597560"/>
            <a:ext cx="865440" cy="1041120"/>
          </a:xfrm>
          <a:custGeom>
            <a:avLst/>
            <a:gdLst/>
            <a:ahLst/>
            <a:rect l="l" t="t" r="r" b="b"/>
            <a:pathLst>
              <a:path w="545" h="656">
                <a:moveTo>
                  <a:pt x="0" y="8"/>
                </a:moveTo>
                <a:cubicBezTo>
                  <a:pt x="78" y="11"/>
                  <a:pt x="158" y="0"/>
                  <a:pt x="234" y="20"/>
                </a:cubicBezTo>
                <a:cubicBezTo>
                  <a:pt x="255" y="26"/>
                  <a:pt x="288" y="56"/>
                  <a:pt x="288" y="56"/>
                </a:cubicBezTo>
                <a:cubicBezTo>
                  <a:pt x="318" y="101"/>
                  <a:pt x="355" y="142"/>
                  <a:pt x="384" y="188"/>
                </a:cubicBezTo>
                <a:cubicBezTo>
                  <a:pt x="389" y="196"/>
                  <a:pt x="391" y="204"/>
                  <a:pt x="396" y="212"/>
                </a:cubicBezTo>
                <a:cubicBezTo>
                  <a:pt x="403" y="224"/>
                  <a:pt x="412" y="236"/>
                  <a:pt x="420" y="248"/>
                </a:cubicBezTo>
                <a:cubicBezTo>
                  <a:pt x="424" y="254"/>
                  <a:pt x="432" y="266"/>
                  <a:pt x="432" y="266"/>
                </a:cubicBezTo>
                <a:cubicBezTo>
                  <a:pt x="424" y="299"/>
                  <a:pt x="439" y="304"/>
                  <a:pt x="444" y="338"/>
                </a:cubicBezTo>
                <a:cubicBezTo>
                  <a:pt x="452" y="395"/>
                  <a:pt x="463" y="456"/>
                  <a:pt x="480" y="512"/>
                </a:cubicBezTo>
                <a:cubicBezTo>
                  <a:pt x="492" y="553"/>
                  <a:pt x="545" y="609"/>
                  <a:pt x="522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29240" y="4829040"/>
            <a:ext cx="696960" cy="800280"/>
          </a:xfrm>
          <a:custGeom>
            <a:avLst/>
            <a:gdLst/>
            <a:ahLst/>
            <a:rect l="l" t="t" r="r" b="b"/>
            <a:pathLst>
              <a:path w="439" h="504">
                <a:moveTo>
                  <a:pt x="0" y="504"/>
                </a:moveTo>
                <a:cubicBezTo>
                  <a:pt x="14" y="483"/>
                  <a:pt x="18" y="468"/>
                  <a:pt x="36" y="450"/>
                </a:cubicBezTo>
                <a:cubicBezTo>
                  <a:pt x="47" y="418"/>
                  <a:pt x="97" y="378"/>
                  <a:pt x="132" y="366"/>
                </a:cubicBezTo>
                <a:cubicBezTo>
                  <a:pt x="148" y="342"/>
                  <a:pt x="174" y="316"/>
                  <a:pt x="198" y="300"/>
                </a:cubicBezTo>
                <a:cubicBezTo>
                  <a:pt x="218" y="270"/>
                  <a:pt x="230" y="256"/>
                  <a:pt x="258" y="234"/>
                </a:cubicBezTo>
                <a:cubicBezTo>
                  <a:pt x="269" y="225"/>
                  <a:pt x="294" y="210"/>
                  <a:pt x="294" y="210"/>
                </a:cubicBezTo>
                <a:cubicBezTo>
                  <a:pt x="311" y="184"/>
                  <a:pt x="339" y="177"/>
                  <a:pt x="360" y="156"/>
                </a:cubicBezTo>
                <a:cubicBezTo>
                  <a:pt x="387" y="129"/>
                  <a:pt x="400" y="93"/>
                  <a:pt x="432" y="72"/>
                </a:cubicBezTo>
                <a:cubicBezTo>
                  <a:pt x="439" y="20"/>
                  <a:pt x="438" y="44"/>
                  <a:pt x="4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9240" y="4782960"/>
            <a:ext cx="3025800" cy="179640"/>
          </a:xfrm>
          <a:custGeom>
            <a:avLst/>
            <a:gdLst/>
            <a:ahLst/>
            <a:rect l="l" t="t" r="r" b="b"/>
            <a:pathLst>
              <a:path w="1906" h="113">
                <a:moveTo>
                  <a:pt x="16" y="101"/>
                </a:moveTo>
                <a:cubicBezTo>
                  <a:pt x="14" y="77"/>
                  <a:pt x="0" y="51"/>
                  <a:pt x="10" y="29"/>
                </a:cubicBezTo>
                <a:cubicBezTo>
                  <a:pt x="16" y="16"/>
                  <a:pt x="38" y="25"/>
                  <a:pt x="52" y="23"/>
                </a:cubicBezTo>
                <a:cubicBezTo>
                  <a:pt x="81" y="18"/>
                  <a:pt x="77" y="19"/>
                  <a:pt x="100" y="11"/>
                </a:cubicBezTo>
                <a:cubicBezTo>
                  <a:pt x="181" y="38"/>
                  <a:pt x="294" y="23"/>
                  <a:pt x="382" y="29"/>
                </a:cubicBezTo>
                <a:cubicBezTo>
                  <a:pt x="439" y="0"/>
                  <a:pt x="574" y="29"/>
                  <a:pt x="574" y="29"/>
                </a:cubicBezTo>
                <a:cubicBezTo>
                  <a:pt x="635" y="19"/>
                  <a:pt x="635" y="18"/>
                  <a:pt x="712" y="23"/>
                </a:cubicBezTo>
                <a:cubicBezTo>
                  <a:pt x="752" y="30"/>
                  <a:pt x="794" y="40"/>
                  <a:pt x="832" y="53"/>
                </a:cubicBezTo>
                <a:cubicBezTo>
                  <a:pt x="856" y="51"/>
                  <a:pt x="880" y="50"/>
                  <a:pt x="904" y="47"/>
                </a:cubicBezTo>
                <a:cubicBezTo>
                  <a:pt x="910" y="46"/>
                  <a:pt x="916" y="38"/>
                  <a:pt x="922" y="41"/>
                </a:cubicBezTo>
                <a:cubicBezTo>
                  <a:pt x="923" y="41"/>
                  <a:pt x="943" y="91"/>
                  <a:pt x="946" y="95"/>
                </a:cubicBezTo>
                <a:cubicBezTo>
                  <a:pt x="954" y="106"/>
                  <a:pt x="970" y="109"/>
                  <a:pt x="982" y="113"/>
                </a:cubicBezTo>
                <a:cubicBezTo>
                  <a:pt x="1027" y="102"/>
                  <a:pt x="1020" y="86"/>
                  <a:pt x="1042" y="53"/>
                </a:cubicBezTo>
                <a:cubicBezTo>
                  <a:pt x="1044" y="45"/>
                  <a:pt x="1040" y="31"/>
                  <a:pt x="1048" y="29"/>
                </a:cubicBezTo>
                <a:cubicBezTo>
                  <a:pt x="1076" y="23"/>
                  <a:pt x="1104" y="35"/>
                  <a:pt x="1132" y="35"/>
                </a:cubicBezTo>
                <a:cubicBezTo>
                  <a:pt x="1182" y="35"/>
                  <a:pt x="1232" y="31"/>
                  <a:pt x="1282" y="29"/>
                </a:cubicBezTo>
                <a:cubicBezTo>
                  <a:pt x="1339" y="10"/>
                  <a:pt x="1462" y="35"/>
                  <a:pt x="1462" y="35"/>
                </a:cubicBezTo>
                <a:cubicBezTo>
                  <a:pt x="1580" y="33"/>
                  <a:pt x="1698" y="33"/>
                  <a:pt x="1816" y="29"/>
                </a:cubicBezTo>
                <a:cubicBezTo>
                  <a:pt x="1846" y="28"/>
                  <a:pt x="1906" y="29"/>
                  <a:pt x="1906" y="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30640" y="4819680"/>
            <a:ext cx="2782800" cy="1263600"/>
          </a:xfrm>
          <a:custGeom>
            <a:avLst/>
            <a:gdLst/>
            <a:ahLst/>
            <a:rect l="l" t="t" r="r" b="b"/>
            <a:pathLst>
              <a:path w="1753" h="796">
                <a:moveTo>
                  <a:pt x="5" y="84"/>
                </a:moveTo>
                <a:cubicBezTo>
                  <a:pt x="8" y="180"/>
                  <a:pt x="0" y="269"/>
                  <a:pt x="23" y="360"/>
                </a:cubicBezTo>
                <a:cubicBezTo>
                  <a:pt x="21" y="394"/>
                  <a:pt x="11" y="428"/>
                  <a:pt x="11" y="462"/>
                </a:cubicBezTo>
                <a:cubicBezTo>
                  <a:pt x="11" y="522"/>
                  <a:pt x="38" y="600"/>
                  <a:pt x="65" y="654"/>
                </a:cubicBezTo>
                <a:cubicBezTo>
                  <a:pt x="72" y="693"/>
                  <a:pt x="72" y="696"/>
                  <a:pt x="107" y="708"/>
                </a:cubicBezTo>
                <a:cubicBezTo>
                  <a:pt x="224" y="796"/>
                  <a:pt x="396" y="760"/>
                  <a:pt x="533" y="714"/>
                </a:cubicBezTo>
                <a:cubicBezTo>
                  <a:pt x="612" y="721"/>
                  <a:pt x="697" y="733"/>
                  <a:pt x="773" y="708"/>
                </a:cubicBezTo>
                <a:cubicBezTo>
                  <a:pt x="830" y="714"/>
                  <a:pt x="853" y="702"/>
                  <a:pt x="911" y="708"/>
                </a:cubicBezTo>
                <a:cubicBezTo>
                  <a:pt x="987" y="693"/>
                  <a:pt x="1061" y="689"/>
                  <a:pt x="1139" y="684"/>
                </a:cubicBezTo>
                <a:cubicBezTo>
                  <a:pt x="1232" y="653"/>
                  <a:pt x="1344" y="658"/>
                  <a:pt x="1439" y="654"/>
                </a:cubicBezTo>
                <a:cubicBezTo>
                  <a:pt x="1487" y="638"/>
                  <a:pt x="1437" y="653"/>
                  <a:pt x="1541" y="642"/>
                </a:cubicBezTo>
                <a:cubicBezTo>
                  <a:pt x="1571" y="639"/>
                  <a:pt x="1603" y="627"/>
                  <a:pt x="1631" y="618"/>
                </a:cubicBezTo>
                <a:cubicBezTo>
                  <a:pt x="1665" y="566"/>
                  <a:pt x="1620" y="627"/>
                  <a:pt x="1661" y="594"/>
                </a:cubicBezTo>
                <a:cubicBezTo>
                  <a:pt x="1670" y="586"/>
                  <a:pt x="1679" y="560"/>
                  <a:pt x="1685" y="552"/>
                </a:cubicBezTo>
                <a:cubicBezTo>
                  <a:pt x="1690" y="545"/>
                  <a:pt x="1698" y="541"/>
                  <a:pt x="1703" y="534"/>
                </a:cubicBezTo>
                <a:cubicBezTo>
                  <a:pt x="1708" y="528"/>
                  <a:pt x="1711" y="522"/>
                  <a:pt x="1715" y="516"/>
                </a:cubicBezTo>
                <a:cubicBezTo>
                  <a:pt x="1733" y="446"/>
                  <a:pt x="1728" y="442"/>
                  <a:pt x="1733" y="336"/>
                </a:cubicBezTo>
                <a:cubicBezTo>
                  <a:pt x="1730" y="230"/>
                  <a:pt x="1753" y="86"/>
                  <a:pt x="16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407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3440" y="494172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00360" y="5302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71640" y="4097160"/>
            <a:ext cx="0" cy="503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4480" y="1166400"/>
            <a:ext cx="83995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SW1 and SW2 act as limit switches in this circ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4959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2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Dependent Resistor (L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increases as darkness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820960" y="1916280"/>
            <a:ext cx="3119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7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decreases as the temperature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285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2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a swi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&gt; 0.6V-0.7V between the base and emitter transistor i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292720" y="2781360"/>
            <a:ext cx="2867040" cy="27684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39640" y="2708280"/>
            <a:ext cx="2519280" cy="2768760"/>
            <a:chOff x="539640" y="2708280"/>
            <a:chExt cx="2519280" cy="2768760"/>
          </a:xfrm>
        </p:grpSpPr>
        <p:grpSp>
          <p:nvGrpSpPr>
            <p:cNvPr id="279" name=""/>
            <p:cNvGrpSpPr/>
            <p:nvPr/>
          </p:nvGrpSpPr>
          <p:grpSpPr>
            <a:xfrm>
              <a:off x="539640" y="2924280"/>
              <a:ext cx="2019240" cy="2552760"/>
              <a:chOff x="539640" y="2924280"/>
              <a:chExt cx="2019240" cy="2552760"/>
            </a:xfrm>
          </p:grpSpPr>
          <p:pic>
            <p:nvPicPr>
              <p:cNvPr id="2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640" y="2924280"/>
                <a:ext cx="2019240" cy="255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539640" y="51562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Collec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39640" y="2924280"/>
              <a:ext cx="2519280" cy="2552760"/>
              <a:chOff x="539640" y="2924280"/>
              <a:chExt cx="2519280" cy="2552760"/>
            </a:xfrm>
          </p:grpSpPr>
          <p:pic>
            <p:nvPicPr>
              <p:cNvPr id="2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9640" y="2924280"/>
                <a:ext cx="2019240" cy="255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1762200" y="5156280"/>
                <a:ext cx="129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Emit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539640" y="2924280"/>
              <a:ext cx="2019240" cy="255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"/>
            <p:cNvGrpSpPr/>
            <p:nvPr/>
          </p:nvGrpSpPr>
          <p:grpSpPr>
            <a:xfrm>
              <a:off x="539640" y="2708280"/>
              <a:ext cx="2374920" cy="2768760"/>
              <a:chOff x="539640" y="2708280"/>
              <a:chExt cx="2374920" cy="2768760"/>
            </a:xfrm>
          </p:grpSpPr>
          <p:pic>
            <p:nvPicPr>
              <p:cNvPr id="2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640" y="2924280"/>
                <a:ext cx="2019240" cy="255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1258920" y="5156280"/>
                <a:ext cx="100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42920" y="27082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FY5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9640" y="51562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Collec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" descr=""/>
            <p:cNvPicPr/>
            <p:nvPr/>
          </p:nvPicPr>
          <p:blipFill>
            <a:blip r:embed="rId6"/>
            <a:stretch/>
          </p:blipFill>
          <p:spPr>
            <a:xfrm>
              <a:off x="539640" y="2924280"/>
              <a:ext cx="201924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42920" y="27082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FY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62200" y="515628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mit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58920" y="51562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640" y="51562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ll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42920" y="27082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FY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9640" y="51562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ll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58920" y="51562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42920" y="27082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FY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9640" y="51562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ll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58920" y="51562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2200" y="515628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mit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58920" y="51562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492360" y="3500280"/>
            <a:ext cx="1218960" cy="1028520"/>
            <a:chOff x="3492360" y="3500280"/>
            <a:chExt cx="1218960" cy="1028520"/>
          </a:xfrm>
        </p:grpSpPr>
        <p:grpSp>
          <p:nvGrpSpPr>
            <p:cNvPr id="305" name=""/>
            <p:cNvGrpSpPr/>
            <p:nvPr/>
          </p:nvGrpSpPr>
          <p:grpSpPr>
            <a:xfrm>
              <a:off x="3720960" y="3500280"/>
              <a:ext cx="783360" cy="685800"/>
              <a:chOff x="3720960" y="3500280"/>
              <a:chExt cx="783360" cy="68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3720960" y="3500280"/>
                <a:ext cx="783360" cy="685800"/>
                <a:chOff x="3720960" y="3500280"/>
                <a:chExt cx="783360" cy="685800"/>
              </a:xfrm>
            </p:grpSpPr>
            <p:sp>
              <p:nvSpPr>
                <p:cNvPr id="307" name=""/>
                <p:cNvSpPr/>
                <p:nvPr/>
              </p:nvSpPr>
              <p:spPr>
                <a:xfrm rot="19527600">
                  <a:off x="4263480" y="3614400"/>
                  <a:ext cx="22824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720960" y="3500280"/>
                  <a:ext cx="685800" cy="68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4025520" y="403344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87560" y="387180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44760" y="384336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368600" y="37861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49560" y="41860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92360" y="38527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44480" y="109548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Divider circuit is used to create the turn on voltage between the base and emi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635280" y="1628640"/>
            <a:ext cx="376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5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DR Transistor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211640" y="1474920"/>
            <a:ext cx="3409920" cy="4978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55640" y="1052640"/>
            <a:ext cx="684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LDR changes the voltage according to light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rk = L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6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3661" t="5169" r="5107" b="6843"/>
          <a:stretch/>
        </p:blipFill>
        <p:spPr>
          <a:xfrm>
            <a:off x="4211640" y="1700280"/>
            <a:ext cx="3600360" cy="3673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755640" y="112536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lay is a switch used to turn other circuits on an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4365720"/>
            <a:ext cx="2089080" cy="12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566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PD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11640" y="4365720"/>
            <a:ext cx="792000" cy="12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92360" y="4941720"/>
            <a:ext cx="719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71640" y="46594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il terminals are part of controlling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0" t="9204" r="7814" b="8029"/>
          <a:stretch/>
        </p:blipFill>
        <p:spPr>
          <a:xfrm>
            <a:off x="971640" y="198900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03280" y="1268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28767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9204" r="7814" b="8029"/>
          <a:stretch/>
        </p:blipFill>
        <p:spPr>
          <a:xfrm>
            <a:off x="971640" y="198900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403280" y="1268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2876760" cy="17334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788000" y="2133720"/>
            <a:ext cx="3529080" cy="1150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132000" y="5013360"/>
            <a:ext cx="28764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8720" y="54878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411280" y="4797360"/>
            <a:ext cx="50508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2720" y="52624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924000" y="5084280"/>
            <a:ext cx="64764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537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715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urrent is the flow of electrons around a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3429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s have a negative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3667320" cy="1247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3772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4327" t="0" r="0" b="0"/>
          <a:stretch/>
        </p:blipFill>
        <p:spPr>
          <a:xfrm>
            <a:off x="826920" y="1989000"/>
            <a:ext cx="3740400" cy="3181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42920" y="134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28670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rcRect l="4327" t="0" r="0" b="0"/>
          <a:stretch/>
        </p:blipFill>
        <p:spPr>
          <a:xfrm>
            <a:off x="826920" y="1989000"/>
            <a:ext cx="3740400" cy="31813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042920" y="134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2867040" cy="1666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788000" y="3319560"/>
            <a:ext cx="3529080" cy="1150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08360" y="4653000"/>
            <a:ext cx="792360" cy="936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5553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719440" y="4869000"/>
            <a:ext cx="503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5408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4172040" y="4724280"/>
            <a:ext cx="79200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03640" y="5084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036960" y="1052640"/>
            <a:ext cx="388944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2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7151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urrent is measured with an Am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meter is placed into the circuit (in 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of measurement is the Ampere or ‘am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ed by the letter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5640" y="2820960"/>
            <a:ext cx="52578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F (electromotive force) is the force that makes electrons flow              around a circu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F is often called Voltage and is provided by the ba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voltage = more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82137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is measured using a Volt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meter is placed across a component (in parall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of measurement is the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ed by lette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2736720"/>
            <a:ext cx="63435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2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715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is the opposition to the flow of electric cur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have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wire has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of measurement is the Ohm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ed by the letter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3255840"/>
            <a:ext cx="7626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715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is the opposition to the flow of electric cur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have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wire has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of measurement is the Ohm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ed by the letter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3189240"/>
            <a:ext cx="80708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39:42Z</dcterms:created>
  <dc:creator>mmurray</dc:creator>
  <dc:description/>
  <dc:language>en-US</dc:language>
  <cp:lastModifiedBy>Elizabeth</cp:lastModifiedBy>
  <dcterms:modified xsi:type="dcterms:W3CDTF">2009-09-09T20:03:13Z</dcterms:modified>
  <cp:revision>122</cp:revision>
  <dc:subject/>
  <dc:title>Meeting NCTE – 7th Feb 2008</dc:title>
</cp:coreProperties>
</file>