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21.gif" ContentType="image/gif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B1AB0-E01D-4DBD-BDDB-BBD7B9896B0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ing for manufacturing – students should show graphically how the parts fit together; use notes / anno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lp explain your ideas / think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7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3200" spc="-1" strike="noStrike">
                <a:solidFill>
                  <a:srgbClr val="000000"/>
                </a:solidFill>
                <a:latin typeface="Arial Black"/>
              </a:rPr>
              <a:t>Dragster Project: emphasis 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13850" t="0" r="20998" b="0"/>
          <a:stretch/>
        </p:blipFill>
        <p:spPr>
          <a:xfrm>
            <a:off x="6300720" y="1700280"/>
            <a:ext cx="1970280" cy="4176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Dragster T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rcRect l="7473" t="9047" r="8061" b="9047"/>
          <a:stretch/>
        </p:blipFill>
        <p:spPr>
          <a:xfrm>
            <a:off x="-5797440" y="-243000"/>
            <a:ext cx="14941440" cy="1086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13850" t="0" r="20998" b="0"/>
          <a:stretch/>
        </p:blipFill>
        <p:spPr>
          <a:xfrm>
            <a:off x="6300720" y="1700280"/>
            <a:ext cx="1970280" cy="4176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Dragster T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268280"/>
            <a:ext cx="756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imple design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ne piece frame or body to support additional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34845" t="22831" r="25001" b="11024"/>
          <a:stretch/>
        </p:blipFill>
        <p:spPr>
          <a:xfrm>
            <a:off x="0" y="907920"/>
            <a:ext cx="4487760" cy="5545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17205" t="23725" r="19791" b="18983"/>
          <a:stretch/>
        </p:blipFill>
        <p:spPr>
          <a:xfrm>
            <a:off x="4356000" y="981000"/>
            <a:ext cx="4276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1251000"/>
            <a:ext cx="7504200" cy="10004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227640" y="1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s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-603360"/>
            <a:ext cx="0" cy="828036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067280" y="-674640"/>
            <a:ext cx="0" cy="842472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6093000"/>
            <a:ext cx="13669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300720" y="1844640"/>
            <a:ext cx="2608200" cy="3389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6049800" cy="3875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10440" cy="85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stor in a car st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848360" cy="4848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76360" y="5516640"/>
            <a:ext cx="61912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5229360"/>
            <a:ext cx="223200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3850" t="0" r="20998" b="0"/>
          <a:stretch/>
        </p:blipFill>
        <p:spPr>
          <a:xfrm>
            <a:off x="6300720" y="1700280"/>
            <a:ext cx="1970280" cy="4176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Dragste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90792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on of Top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2276640"/>
            <a:ext cx="22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Body/Frame desig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3640" y="2349360"/>
            <a:ext cx="496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Sketching of idea’s, dimensioning, selection of suitable materials, exercises in Solid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2997360"/>
            <a:ext cx="16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ssembly Tech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2997360"/>
            <a:ext cx="41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Screwing and Tapping, and Soldering, and consideration of other metho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4221000"/>
            <a:ext cx="22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ive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3640" y="4149720"/>
            <a:ext cx="431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Gear boxes ,Both bought and constructed, Bevel gears, Worm Gears, Pulley Systems, Belt &amp; Chain Drives, Drive reversal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537372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inish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3640" y="5445000"/>
            <a:ext cx="41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Polishing, Painting, Vacuum forming of body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4869000"/>
            <a:ext cx="13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lectronic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4869000"/>
            <a:ext cx="46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Components, Circuit design, Board layout, Timing circuits, Electronic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484280"/>
            <a:ext cx="21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3640" y="1484280"/>
            <a:ext cx="424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Allocation of resources, Time, Materials, Equipment, Cost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Dragste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6720" y="1197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1557360"/>
            <a:ext cx="63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cc3300"/>
                </a:solidFill>
                <a:latin typeface="Arial"/>
                <a:ea typeface="Arial"/>
              </a:rPr>
              <a:t>Some or all of the following areas may be integrated and incorporated into the final projec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7080" y="2421000"/>
            <a:ext cx="5616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Design theory and pract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Appropriate material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Marking out and fitting 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Assembly and join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lectronic circuit design theory and 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Mould making theory and 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Finishes, surface and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considerations, general and project specif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197080" y="5445000"/>
            <a:ext cx="506736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7859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ragster project focuses 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rolling electric motors is the basis for many applications in industry Examples of applications include: standard power tools and machines – (most electric drills will reverse dire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tomated machines, CNC machines, and robotic mach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rol of motors is primary – desired motion is seco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a drags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200720" cy="4975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6192720" cy="4025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539640" y="4724280"/>
            <a:ext cx="727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irley Muldowney NY won the Top Fuel Championship in 1977, 1980, and 1982 – ranked 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all time speed driver li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downey is Irish American – Don’t forget Trace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7991640" cy="4588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8280360" cy="3983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971640" y="907920"/>
            <a:ext cx="7343640" cy="5289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692360" y="1341360"/>
            <a:ext cx="777708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13850" t="0" r="20998" b="0"/>
          <a:stretch/>
        </p:blipFill>
        <p:spPr>
          <a:xfrm>
            <a:off x="6300720" y="1700280"/>
            <a:ext cx="1970280" cy="4176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Dragster T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268280"/>
            <a:ext cx="756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Expandable design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- Body based on inter fitting aluminium channels. Two simple gearboxes and motors are used to drive large rear wheels. Each wheel may be controlled sepa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249228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ototype vehic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7473" t="9047" r="8061" b="9047"/>
          <a:stretch/>
        </p:blipFill>
        <p:spPr>
          <a:xfrm>
            <a:off x="2124000" y="2852640"/>
            <a:ext cx="489744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684360" y="-387360"/>
            <a:ext cx="11209320" cy="84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0:37:43Z</dcterms:created>
  <dc:creator>rmoffatt</dc:creator>
  <dc:description/>
  <dc:language>en-US</dc:language>
  <cp:lastModifiedBy>Elizabeth Davis</cp:lastModifiedBy>
  <dcterms:modified xsi:type="dcterms:W3CDTF">2008-02-11T10:36:26Z</dcterms:modified>
  <cp:revision>91</cp:revision>
  <dc:subject/>
  <dc:title>Slide 1</dc:title>
</cp:coreProperties>
</file>