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979-C4B0-404E-9156-88E234AC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C38-CE0A-4452-B1F1-36F2C208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1C82-2ED9-42B2-8B11-2CB4FDCD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7075-8A13-4166-AC8C-A3BD3263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3968-DDCE-47A0-95B8-D07BD586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B53-BFFA-4CFE-A4D1-7E3E5626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C4B-8662-4BD7-A7AB-79350D2C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A69-3703-49B7-90AE-65D35F04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57E-4F6D-40DD-8978-6C488203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3D4-CA36-4718-9453-13F32ADE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EFAF-05D4-4014-96F4-D3779346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AF09-8991-40C1-92E7-92375B62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923-F49C-41BA-AB3D-543127A9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78B-11DE-45FF-8FA3-34A2EA26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F4F-5BA7-4BF8-A3D9-270DC01E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7BD-A545-4E6D-80ED-FA3EC206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890-88DE-4246-BE65-51F25756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C17-8541-4936-94A8-A23FA87C8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282D-FB1F-4DEB-B723-52B0C921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4CF-B1C6-43B9-B085-EFC9B399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DDB-693D-43BE-90AF-12DFC78E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F9C2-818F-41EA-8CFD-CBF116A9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9312-46B6-4203-B5D1-FB39F248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C6D-7A9C-4DD5-BC78-5F652503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B95-49DA-49F4-B05F-D9CB24D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F0A-2F6B-4B7E-8ED7-4ACDDB51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2E5-920B-4571-A6CD-3DF9C3F0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441-ECBC-45E4-9B1A-09D3B3F9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A6E-3687-4B77-8D9E-2661B2E6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EB3-0470-4B5A-9B15-0E156ED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355-BF7C-429B-B886-3620937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C38-B1BB-4EA6-BF43-6EC0BD95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046-9E35-4A12-AD8A-4AEBC3A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5E4-E7B2-428A-91E0-878497E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994-D462-4F2C-82AF-D93815F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C68-4AEB-480D-9C40-06FC8D47E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tep.org.uk/" TargetMode="External"/><Relationship Id="rId3" Type="http://schemas.openxmlformats.org/officeDocument/2006/relationships/hyperlink" Target="http://www.crclarke.com/" TargetMode="External"/><Relationship Id="rId4" Type="http://schemas.openxmlformats.org/officeDocument/2006/relationships/hyperlink" Target="http://www.mutr.co.uk/" TargetMode="External"/><Relationship Id="rId5" Type="http://schemas.openxmlformats.org/officeDocument/2006/relationships/hyperlink" Target="http://www.tep.org.uk/TEP_Video/video_pods.htm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0AF-5352-463C-9C42-9BC14474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14400" y="510552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Comic Sans MS"/>
              </a:rPr>
              <a:t>Mobile Phone Ho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685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Comic Sans MS"/>
              </a:rPr>
              <a:t>Design for Manufacture</a:t>
            </a:r>
            <a:endParaRPr b="0" lang="en-US" sz="4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6C4-61B8-4C64-AE90-FA179BF8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348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Research/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1219320" y="10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Designers need stimulation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219320" y="21337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rovision of stimulation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1219320" y="3124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ersonal Research – How did it influence the thought proces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219320" y="4495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ee accompanying presentation on Research – Add to it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5484-BA19-45DA-8697-9E5094A5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13" name="Picture 29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914400"/>
          <a:ext cx="3504960" cy="56386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Mate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mm expanded foam sheet (Foame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5mm Vacuum forming plas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mm MDF or suitable material for production of moulds and fo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ip range press fit nylon click faste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e w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rylic cement or 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419720" y="914400"/>
          <a:ext cx="3504960" cy="56386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 u="sng">
                          <a:solidFill>
                            <a:srgbClr val="0000cc"/>
                          </a:solidFill>
                          <a:uFillTx/>
                          <a:latin typeface="Comic Sans MS"/>
                          <a:ea typeface="Times New Roman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acuum fo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range of hole saws or forstner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croll s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et and dry 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EEBF-DAA0-491D-8652-A3E6FCCF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18" name="Picture 27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Making the 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914400" y="3733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Male and Female Formers – 18mm MDF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914400" y="4267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imple Shape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914400" y="4800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Female – Larger by thickness of casing material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91440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Male – Fixed to Base (Allignment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9144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aper – Not necessary, Radius top edg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25" name="Picture 41" descr="DSCF1543"/>
          <p:cNvPicPr/>
          <p:nvPr/>
        </p:nvPicPr>
        <p:blipFill>
          <a:blip r:embed="rId2"/>
          <a:srcRect l="2898" t="7716" r="4107" b="8290"/>
          <a:stretch/>
        </p:blipFill>
        <p:spPr>
          <a:xfrm>
            <a:off x="1981080" y="990720"/>
            <a:ext cx="396252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CB1A-95D2-436B-97A3-83E5DECA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27" name="Picture 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Heating and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1"/>
          <p:cNvGrpSpPr/>
          <p:nvPr/>
        </p:nvGrpSpPr>
        <p:grpSpPr>
          <a:xfrm>
            <a:off x="4191120" y="1066680"/>
            <a:ext cx="4267080" cy="2325960"/>
            <a:chOff x="4191120" y="1066680"/>
            <a:chExt cx="4267080" cy="2325960"/>
          </a:xfrm>
        </p:grpSpPr>
        <p:sp>
          <p:nvSpPr>
            <p:cNvPr id="130" name="Text Box 23"/>
            <p:cNvSpPr/>
            <p:nvPr/>
          </p:nvSpPr>
          <p:spPr>
            <a:xfrm>
              <a:off x="4191120" y="1066680"/>
              <a:ext cx="403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omic Sans MS"/>
                </a:rPr>
                <a:t>Material is placed in pre-heated oven</a:t>
              </a:r>
              <a:endParaRPr b="0" lang="en-US" sz="24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omic Sans MS"/>
                </a:rPr>
                <a:t>(See Temperature chart )</a:t>
              </a:r>
              <a:endParaRPr b="0" lang="en-US" sz="24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4191120" y="2567160"/>
              <a:ext cx="426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omic Sans MS"/>
                </a:rPr>
                <a:t>Heated material is draped over male former</a:t>
              </a:r>
              <a:endParaRPr b="0" lang="en-US" sz="24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  <p:sp>
        <p:nvSpPr>
          <p:cNvPr id="132" name="Text Box 25"/>
          <p:cNvSpPr/>
          <p:nvPr/>
        </p:nvSpPr>
        <p:spPr>
          <a:xfrm>
            <a:off x="685800" y="3962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Locate female former over male forme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28600" y="5105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Force together and hold until material cool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34" name="Picture 29" descr="DSCF1549"/>
          <p:cNvPicPr/>
          <p:nvPr/>
        </p:nvPicPr>
        <p:blipFill>
          <a:blip r:embed="rId2"/>
          <a:stretch/>
        </p:blipFill>
        <p:spPr>
          <a:xfrm>
            <a:off x="4495680" y="3733920"/>
            <a:ext cx="335304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30" descr="DSCF1546"/>
          <p:cNvPicPr/>
          <p:nvPr/>
        </p:nvPicPr>
        <p:blipFill>
          <a:blip r:embed="rId3"/>
          <a:stretch/>
        </p:blipFill>
        <p:spPr>
          <a:xfrm>
            <a:off x="533520" y="990720"/>
            <a:ext cx="34290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B30-FA5C-4030-81FE-AEF921EF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37" name="Picture 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Cu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284720" y="407664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Material can be trimmed to leave a 10mm lip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File and finish to shape with wet and dry pape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0" name="Picture 23" descr="DSCF1564"/>
          <p:cNvPicPr/>
          <p:nvPr/>
        </p:nvPicPr>
        <p:blipFill>
          <a:blip r:embed="rId2"/>
          <a:stretch/>
        </p:blipFill>
        <p:spPr>
          <a:xfrm>
            <a:off x="611280" y="3933720"/>
            <a:ext cx="33526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26" descr="DSCF1591"/>
          <p:cNvPicPr/>
          <p:nvPr/>
        </p:nvPicPr>
        <p:blipFill>
          <a:blip r:embed="rId3">
            <a:lum bright="12000"/>
          </a:blip>
          <a:srcRect l="6261" t="19242" r="4003" b="8377"/>
          <a:stretch/>
        </p:blipFill>
        <p:spPr>
          <a:xfrm>
            <a:off x="1908000" y="981000"/>
            <a:ext cx="45356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5212-FCF2-47B9-B62A-DD884EF2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3" name="Picture 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"/>
          <p:cNvSpPr/>
          <p:nvPr/>
        </p:nvSpPr>
        <p:spPr>
          <a:xfrm>
            <a:off x="4067280" y="1484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ut casing material in half using a scroll saw and file to finish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28600" y="39625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upport bracket can be marked from casing but its profile is cut 5mm smaller all round and filed to finish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Support Br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3" descr="DSCF1582"/>
          <p:cNvPicPr/>
          <p:nvPr/>
        </p:nvPicPr>
        <p:blipFill>
          <a:blip r:embed="rId2"/>
          <a:stretch/>
        </p:blipFill>
        <p:spPr>
          <a:xfrm>
            <a:off x="539640" y="1052640"/>
            <a:ext cx="3384720" cy="25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24" descr="DSCF1587"/>
          <p:cNvPicPr/>
          <p:nvPr/>
        </p:nvPicPr>
        <p:blipFill>
          <a:blip r:embed="rId3"/>
          <a:stretch/>
        </p:blipFill>
        <p:spPr>
          <a:xfrm>
            <a:off x="4643280" y="3716280"/>
            <a:ext cx="3456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650-864B-44BB-BB87-3FF7505F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0" name="Picture 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6"/>
          <p:cNvSpPr/>
          <p:nvPr/>
        </p:nvSpPr>
        <p:spPr>
          <a:xfrm>
            <a:off x="0" y="45813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asing is affixed to support bracket using tensol solvent/cement or a glue gun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211640" y="14130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ssembly may need to be supported with masking tape during the gluing proces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2" descr="DSCF1590"/>
          <p:cNvPicPr/>
          <p:nvPr/>
        </p:nvPicPr>
        <p:blipFill>
          <a:blip r:embed="rId2"/>
          <a:stretch/>
        </p:blipFill>
        <p:spPr>
          <a:xfrm>
            <a:off x="4572000" y="3860640"/>
            <a:ext cx="3384720" cy="25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23" descr="DSCF1595"/>
          <p:cNvPicPr/>
          <p:nvPr/>
        </p:nvPicPr>
        <p:blipFill>
          <a:blip r:embed="rId3"/>
          <a:srcRect l="10432" t="10660" r="4167" b="0"/>
          <a:stretch/>
        </p:blipFill>
        <p:spPr>
          <a:xfrm>
            <a:off x="611280" y="1052640"/>
            <a:ext cx="3384360" cy="26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345-20DD-4338-82E9-72DD4062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7" name="Picture 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B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DSCF1597"/>
          <p:cNvPicPr/>
          <p:nvPr/>
        </p:nvPicPr>
        <p:blipFill>
          <a:blip r:embed="rId2"/>
          <a:stretch/>
        </p:blipFill>
        <p:spPr>
          <a:xfrm>
            <a:off x="1547640" y="2349360"/>
            <a:ext cx="4969080" cy="372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13"/>
          <p:cNvSpPr/>
          <p:nvPr/>
        </p:nvSpPr>
        <p:spPr>
          <a:xfrm>
            <a:off x="1763640" y="141300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upport Bracket can be bent using a Strip Heate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F50-F75D-442B-BA8C-78AC9BB1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Finished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DSCF1495"/>
          <p:cNvPicPr/>
          <p:nvPr/>
        </p:nvPicPr>
        <p:blipFill>
          <a:blip r:embed="rId1">
            <a:lum contrast="24000"/>
          </a:blip>
          <a:srcRect l="0" t="16666" r="0" b="3336"/>
          <a:stretch/>
        </p:blipFill>
        <p:spPr>
          <a:xfrm>
            <a:off x="2209680" y="1219320"/>
            <a:ext cx="49294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2D3-00E1-4C1D-BB1A-473D52F5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Design Var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DSCF151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47920" y="1905120"/>
            <a:ext cx="58006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Text Box 13"/>
          <p:cNvSpPr/>
          <p:nvPr/>
        </p:nvSpPr>
        <p:spPr>
          <a:xfrm>
            <a:off x="1295280" y="990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 number of design variations are possible using this proces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BA21-516B-4994-BA41-9E121F228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Mobile Phone Hold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DSCF1495"/>
          <p:cNvPicPr/>
          <p:nvPr/>
        </p:nvPicPr>
        <p:blipFill>
          <a:blip r:embed="rId1">
            <a:lum contrast="24000"/>
          </a:blip>
          <a:srcRect l="0" t="16666" r="0" b="3336"/>
          <a:stretch/>
        </p:blipFill>
        <p:spPr>
          <a:xfrm>
            <a:off x="2209680" y="1219320"/>
            <a:ext cx="49294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C3E-3C99-43AB-ACC1-E08737E2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Extension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26920" y="90792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9"/>
          <p:cNvSpPr/>
          <p:nvPr/>
        </p:nvSpPr>
        <p:spPr>
          <a:xfrm>
            <a:off x="659520" y="1509840"/>
            <a:ext cx="40118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vival Kit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wimming Holiday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wellery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 Po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D Storag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mping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mper Po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by Gea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ndsets/Remote Control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cil Cas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5076720" y="1436760"/>
            <a:ext cx="2675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rsonal Alarm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use Hous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accessorie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k Tidy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dio Housing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trument Cas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olbox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obot Shell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ey Box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intbox Stor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B2F-AA35-416A-8ABC-F8CCDBAF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74" name="Picture 3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26920" y="907920"/>
            <a:ext cx="6553440" cy="479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611280" y="1773360"/>
          <a:ext cx="7210440" cy="3668760"/>
        </p:xfrm>
        <a:graphic>
          <a:graphicData uri="http://schemas.openxmlformats.org/drawingml/2006/table">
            <a:tbl>
              <a:tblPr/>
              <a:tblGrid>
                <a:gridCol w="1803240"/>
                <a:gridCol w="1801800"/>
                <a:gridCol w="1803600"/>
                <a:gridCol w="1801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ven Temp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°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Secon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mm Foam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plastic becomes mishapen, it can be returned to the oven and rehea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mm Plastaz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mm Plastaz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itannic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Times &amp; Temper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2F3C-AF6B-45C0-AD9A-49E13E79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5586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9"/>
          <p:cNvGrpSpPr/>
          <p:nvPr/>
        </p:nvGrpSpPr>
        <p:grpSpPr>
          <a:xfrm>
            <a:off x="826920" y="1052640"/>
            <a:ext cx="5256360" cy="4897440"/>
            <a:chOff x="826920" y="1052640"/>
            <a:chExt cx="5256360" cy="4897440"/>
          </a:xfrm>
        </p:grpSpPr>
        <p:sp>
          <p:nvSpPr>
            <p:cNvPr id="181" name="Text Box 5"/>
            <p:cNvSpPr/>
            <p:nvPr/>
          </p:nvSpPr>
          <p:spPr>
            <a:xfrm>
              <a:off x="900000" y="1052640"/>
              <a:ext cx="5183280" cy="41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</a:rPr>
                <a:t>TEP International Manufacturing Centre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University of Warwick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oventry  CV4 7AL   </a:t>
              </a:r>
              <a:r>
                <a:rPr b="0" lang="en-GB" sz="1600" spc="-1" strike="noStrike" u="sng">
                  <a:solidFill>
                    <a:srgbClr val="009999"/>
                  </a:solidFill>
                  <a:uFillTx/>
                  <a:latin typeface="Comic Sans MS"/>
                  <a:hlinkClick r:id="rId2"/>
                </a:rPr>
                <a:t>www.tep.org.uk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9999"/>
                  </a:solidFill>
                  <a:uFillTx/>
                  <a:latin typeface="Comic Sans MS"/>
                  <a:hlinkClick r:id="rId3"/>
                </a:rPr>
                <a:t>www.crclarke.com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Middlesex University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Teaching Resources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Unit 10, IO Centre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Waltham Cross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Herts  EN9 1AS   </a:t>
              </a:r>
              <a:r>
                <a:rPr b="0" lang="en-GB" sz="1600" spc="-1" strike="noStrike" u="sng">
                  <a:solidFill>
                    <a:srgbClr val="009999"/>
                  </a:solidFill>
                  <a:uFillTx/>
                  <a:latin typeface="Comic Sans MS"/>
                  <a:hlinkClick r:id="rId4"/>
                </a:rPr>
                <a:t>www.mutr.co.uk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pic>
          <p:nvPicPr>
            <p:cNvPr id="182" name="Picture 7" descr="qt_movi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788000" y="5373720"/>
              <a:ext cx="6141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8"/>
            <p:cNvSpPr/>
            <p:nvPr/>
          </p:nvSpPr>
          <p:spPr>
            <a:xfrm>
              <a:off x="826920" y="5516640"/>
              <a:ext cx="37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lick Here to view instructional video</a:t>
              </a:r>
              <a:endParaRPr b="0" lang="en-US" sz="16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5F95-FE99-44E6-AB0F-705A1A22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>
            <a:off x="4038480" y="2133720"/>
            <a:ext cx="409680" cy="533160"/>
          </a:xfrm>
          <a:prstGeom prst="downArrow">
            <a:avLst>
              <a:gd name="adj1" fmla="val 50000"/>
              <a:gd name="adj2" fmla="val 325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4038480" y="3733920"/>
            <a:ext cx="409680" cy="533160"/>
          </a:xfrm>
          <a:prstGeom prst="downArrow">
            <a:avLst>
              <a:gd name="adj1" fmla="val 50000"/>
              <a:gd name="adj2" fmla="val 325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66680" y="9144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Variety of Processes and Manufacturing Technique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roduction of Artifact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143000" y="45720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Enhance Problem Soving and Design Capabilitie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6C2C-7153-4484-8EE7-A2B90C6C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63" name="Picture 10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4038480" y="1981080"/>
            <a:ext cx="409680" cy="533520"/>
          </a:xfrm>
          <a:prstGeom prst="downArrow">
            <a:avLst>
              <a:gd name="adj1" fmla="val 50000"/>
              <a:gd name="adj2" fmla="val 325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4038480" y="4038480"/>
            <a:ext cx="409680" cy="533520"/>
          </a:xfrm>
          <a:prstGeom prst="downArrow">
            <a:avLst>
              <a:gd name="adj1" fmla="val 50000"/>
              <a:gd name="adj2" fmla="val 325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066680" y="1066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ress Forming using ‘Foamex’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olutions to Real Life Design Situation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1143000" y="487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Development of Individualised Product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B7B-54F4-499C-91B2-EC42870D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71" name="Picture 10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914400" y="1905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Thematic Approach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914400" y="32004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Encourage Integration of Topic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990720" y="4495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Adapt Projects to meet individual Circumstance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897-F8D0-4D8F-8E26-133E0B36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77" name="Picture 22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838080" y="1752480"/>
            <a:ext cx="67057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A Range of Manufacturing Skills: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at forming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he use of jigs and former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rking out, cutting, drilling,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finishing and assembly of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materials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838080" y="48006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An Understanding of The Characteristics of Thermoplastics Material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990720" y="990720"/>
            <a:ext cx="397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Students will Develop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1B06-5C0B-45BF-9646-8793408E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143000" y="18288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Graphics/Design skills and technique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143000" y="33526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roduct Analysis Techniques and Design Specification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1143000" y="45720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Ability to Design according to User Requirement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143000" y="2590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Research Skills using ICT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2DF-F110-4F37-B788-F9B089AD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91" name="Picture 79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1"/>
          <p:cNvSpPr/>
          <p:nvPr/>
        </p:nvSpPr>
        <p:spPr>
          <a:xfrm>
            <a:off x="762120" y="914400"/>
            <a:ext cx="746748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Theme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Mobile phones are a worldwide phenomenon that have revolutionised the way we communicate with one another.  They are both desirable and essential to our everyday lives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he ways in which we carry, protect and secure our mobile phones can be based on fashion, practicality and function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Text Box 82"/>
          <p:cNvSpPr/>
          <p:nvPr/>
        </p:nvSpPr>
        <p:spPr>
          <a:xfrm>
            <a:off x="1219320" y="4648320"/>
            <a:ext cx="6705360" cy="144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Design Brief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Design and make a functional mobile phone holder suitable for personal or desktop us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7F1-7EC5-40EA-8142-E39E53020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8" descr="DSCF1516"/>
          <p:cNvPicPr/>
          <p:nvPr/>
        </p:nvPicPr>
        <p:blipFill>
          <a:blip r:embed="rId1"/>
          <a:srcRect l="0" t="2418" r="176" b="0"/>
          <a:stretch/>
        </p:blipFill>
        <p:spPr>
          <a:xfrm>
            <a:off x="838080" y="914400"/>
            <a:ext cx="6553440" cy="479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42920" y="274320"/>
            <a:ext cx="4138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Comic Sans MS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1066680" y="1066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Work within student skills range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1066680" y="175248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Manufacturing Processes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- Press forming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- Vacuum Forming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1066680" y="3733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unctionality and Ease of Use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1066680" y="44956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High Standard of Finish – Use of Graphic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1066680" y="57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Individualised Product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6:06Z</dcterms:created>
  <dc:creator>Niamh Ni Mhuiri</dc:creator>
  <dc:description/>
  <dc:language>en-US</dc:language>
  <cp:lastModifiedBy>Administrator</cp:lastModifiedBy>
  <dcterms:modified xsi:type="dcterms:W3CDTF">2008-02-12T16:11:16Z</dcterms:modified>
  <cp:revision>63</cp:revision>
  <dc:subject/>
  <dc:title>T4</dc:title>
</cp:coreProperties>
</file>