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7B3B-4D09-47C5-B3EE-E7A1587FC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D6F6-EFC0-4206-89AA-F76D1F546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1571-7F4D-404F-A7F5-9356B8168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FFF6-79F3-44AF-AA40-3507B847D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274C-00AF-4911-BC78-10A00DD78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C199-8140-450A-8A2D-FAFB43149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D3FC-4F72-4F01-A5CD-9B7EB2BC0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9EC1-246A-4025-AAFF-2A9B6CAC5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1BE0-4F15-40A2-8512-4ACACC1AA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1365-F06A-45F9-AFD3-6339389D2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933E-B202-402C-B48B-C14B12AC1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9580-7F60-48F4-8C47-E4CD4DDE0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C3CB-A99D-486B-9B28-DEA291C97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900000" y="189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dobe Caslon Pro Bold"/>
              </a:rPr>
              <a:t>Motorcycl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tcam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hyperlink" Target="http://www.ssschemical.com/" TargetMode="External"/><Relationship Id="rId6" Type="http://schemas.openxmlformats.org/officeDocument/2006/relationships/hyperlink" Target="http://www.ssschemical.com/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98100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00"/>
                </a:solidFill>
                <a:latin typeface="Arial"/>
              </a:rPr>
              <a:t>Design and make a project of simple construction,suitable for a Leaving Certificate Technolog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565360"/>
            <a:ext cx="19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in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Front f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Handle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4797360"/>
            <a:ext cx="25905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3   Wheels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2   Battery 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  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4869000"/>
            <a:ext cx="3095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Gears Wh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Worm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1   Seat &amp; Petrol Ta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dobe Caslon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4    AA 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43657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dditional components requi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0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ree part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0" y="1557360"/>
            <a:ext cx="3552840" cy="2774880"/>
            <a:chOff x="4572000" y="1557360"/>
            <a:chExt cx="3552840" cy="27748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4572000" y="1557360"/>
              <a:ext cx="354960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1562040"/>
              <a:ext cx="3552840" cy="275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98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Main body or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628640"/>
            <a:ext cx="43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dobe Caslon Pro Bold"/>
              </a:rPr>
              <a:t>Body profile made from sheet  Aluminium   1mm, Blank size shown in the dia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63700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inished outline is Symmetr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284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Profile marked out, holes drilled and then cut from given blank according to accompanying dimensioned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24360" y="2060640"/>
            <a:ext cx="2687760" cy="2452680"/>
            <a:chOff x="5724360" y="2060640"/>
            <a:chExt cx="2687760" cy="2452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5724360" y="2060640"/>
              <a:ext cx="26877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776920" y="2060640"/>
              <a:ext cx="2592360" cy="244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19400" y="4653000"/>
            <a:ext cx="3484800" cy="197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4797360"/>
            <a:ext cx="331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inished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The finished profile is then bent to shape 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2682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ndara"/>
              </a:rPr>
              <a:t>Front f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1844640"/>
            <a:ext cx="38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rk out the desired profile according to the given dimensions. Then drill  the three </a:t>
            </a:r>
            <a:r>
              <a:rPr b="0" i="1" lang="en-US" sz="1800" spc="-1" strike="noStrike">
                <a:solidFill>
                  <a:srgbClr val="000000"/>
                </a:solidFill>
                <a:latin typeface="Adobe Caslon Pro Bold"/>
                <a:ea typeface="Times New Roman"/>
              </a:rPr>
              <a:t>Ø 4mm </a:t>
            </a: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holes and cut out the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700280"/>
            <a:ext cx="3387600" cy="1944360"/>
            <a:chOff x="4859280" y="1700280"/>
            <a:chExt cx="3387600" cy="194436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4859280" y="1700280"/>
              <a:ext cx="338760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37040" y="2179440"/>
              <a:ext cx="3228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334040" y="4224240"/>
            <a:ext cx="2477880" cy="22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4076640"/>
            <a:ext cx="338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Candara"/>
              </a:rPr>
              <a:t>Now bend both sides at right angles to produce the final design a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9920" y="126828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Handleb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141880" y="1539720"/>
            <a:ext cx="2990520" cy="2404800"/>
            <a:chOff x="5141880" y="1539720"/>
            <a:chExt cx="2990520" cy="2404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141880" y="1539720"/>
              <a:ext cx="2990520" cy="24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163480" y="2022120"/>
              <a:ext cx="2932200" cy="187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321080" y="4378320"/>
            <a:ext cx="1973520" cy="1951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1819440"/>
            <a:ext cx="29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Mark out and drill the blank. Cut out the profile and finally bend as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38400" y="4410000"/>
            <a:ext cx="31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Completed Handlebars shown opposi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19000" y="1933560"/>
            <a:ext cx="40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Assembled view of the three main parts of the Motor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3952800"/>
            <a:ext cx="319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dobe Caslon Pro Bold"/>
              </a:rPr>
              <a:t>The additional components are then added to give the final assembled Motorcycle project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00" y="11523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Main parts assembl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8280" y="336240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ndara"/>
              </a:rPr>
              <a:t>Finished Motor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19640" y="949320"/>
            <a:ext cx="4828320" cy="2597040"/>
            <a:chOff x="3419640" y="949320"/>
            <a:chExt cx="4828320" cy="25970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254560" y="949320"/>
              <a:ext cx="2395080" cy="259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5866920" y="1143000"/>
              <a:ext cx="1895040" cy="409680"/>
              <a:chOff x="5866920" y="1143000"/>
              <a:chExt cx="1895040" cy="40968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5866920" y="1342800"/>
                <a:ext cx="837720" cy="2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5000" y="1143000"/>
                <a:ext cx="105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Handleba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010280" y="1866960"/>
              <a:ext cx="1237680" cy="1220760"/>
              <a:chOff x="7010280" y="1866960"/>
              <a:chExt cx="1237680" cy="1220760"/>
            </a:xfrm>
          </p:grpSpPr>
          <p:sp>
            <p:nvSpPr>
              <p:cNvPr id="83" name=""/>
              <p:cNvSpPr/>
              <p:nvPr/>
            </p:nvSpPr>
            <p:spPr>
              <a:xfrm flipH="1" flipV="1">
                <a:off x="7010280" y="1866960"/>
                <a:ext cx="63792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62360" y="2628720"/>
                <a:ext cx="885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Main bod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419640" y="2409840"/>
              <a:ext cx="2171160" cy="276480"/>
              <a:chOff x="3419640" y="2409840"/>
              <a:chExt cx="2171160" cy="276480"/>
            </a:xfrm>
          </p:grpSpPr>
          <p:sp>
            <p:nvSpPr>
              <p:cNvPr id="86" name=""/>
              <p:cNvSpPr/>
              <p:nvPr/>
            </p:nvSpPr>
            <p:spPr>
              <a:xfrm flipV="1">
                <a:off x="4333680" y="2457000"/>
                <a:ext cx="125712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419640" y="2409840"/>
                <a:ext cx="1028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1200" spc="-1" strike="noStrike">
                    <a:solidFill>
                      <a:srgbClr val="000000"/>
                    </a:solidFill>
                    <a:latin typeface="Adobe Caslon Pro Bold"/>
                  </a:rPr>
                  <a:t>Front for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3906360" y="3619440"/>
            <a:ext cx="3884760" cy="2676600"/>
            <a:chOff x="3906360" y="3619440"/>
            <a:chExt cx="3884760" cy="26766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 flipH="1">
              <a:off x="3906360" y="3619440"/>
              <a:ext cx="388476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flipH="1">
              <a:off x="3913920" y="3619440"/>
              <a:ext cx="3876840" cy="2670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33480" y="9716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Finish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49544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c74105"/>
                </a:solidFill>
                <a:latin typeface="Candara"/>
              </a:rPr>
              <a:t>As with all projects there are a number of possible fin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114640"/>
            <a:ext cx="6543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olish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Fine grade emery cl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Graded Steel W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Mechanical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Polishing Mops &amp; so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ott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Chemical Polishes:</a:t>
            </a: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Brasso, Silvo, P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42840" y="4295880"/>
            <a:ext cx="67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lastic Coat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Dip co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9160" y="4915080"/>
            <a:ext cx="66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Painting:</a:t>
            </a: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Standard colours &amp; specialist p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5486400"/>
            <a:ext cx="6629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etal Spraying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ld spray able Metal coa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www.artcam.com</a:t>
            </a:r>
            <a:r>
              <a:rPr b="0" lang="en-GB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71640" y="971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Metal D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74105"/>
                </a:solidFill>
                <a:latin typeface="Candara"/>
              </a:rPr>
              <a:t>These are special chemical that react with the metal to produce a range of finis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2352600"/>
            <a:ext cx="4905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Antiquing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upric 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balt Nit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Copper Sul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Silver 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42861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c74105"/>
                </a:solidFill>
                <a:latin typeface="Candara"/>
              </a:rPr>
              <a:t>Sample of special Chemical finis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73640" y="2098800"/>
            <a:ext cx="2539800" cy="1269720"/>
            <a:chOff x="5273640" y="2098800"/>
            <a:chExt cx="2539800" cy="12697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273640" y="2098800"/>
              <a:ext cx="2539800" cy="12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314680" y="2971440"/>
              <a:ext cx="75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Bl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73640" y="3537000"/>
            <a:ext cx="2539800" cy="1270080"/>
            <a:chOff x="5273640" y="3537000"/>
            <a:chExt cx="2539800" cy="12700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5273640" y="3537000"/>
              <a:ext cx="253980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381640" y="439092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Rusty Brow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64280" y="4994280"/>
            <a:ext cx="2539800" cy="1270080"/>
            <a:chOff x="5264280" y="4994280"/>
            <a:chExt cx="2539800" cy="127008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5264280" y="4994280"/>
              <a:ext cx="2539800" cy="12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19800" y="5877000"/>
              <a:ext cx="126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Tri Colo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206360" y="4756320"/>
            <a:ext cx="3483000" cy="1453680"/>
            <a:chOff x="1206360" y="4756320"/>
            <a:chExt cx="3483000" cy="1453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1206360" y="4756320"/>
              <a:ext cx="3483000" cy="12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238400" y="5629320"/>
              <a:ext cx="1466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Candara"/>
                </a:rPr>
                <a:t>Flemish Viol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19320" y="6058080"/>
            <a:ext cx="340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5"/>
              </a:rPr>
              <a:t>www.ssschemical.com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Candara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19160" y="95256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74105"/>
                </a:solidFill>
                <a:latin typeface="Adobe Caslon Pro Bold"/>
              </a:rPr>
              <a:t>Project Enhanc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5040" y="16858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Introduce Timing circuit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Travel set distance forward / 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61920" y="2505240"/>
            <a:ext cx="56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Flashing LED’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Astable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2097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Sound Chip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Motor Cycle Sound when switched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3480" y="43909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dobe Caslon Pro Bold"/>
              </a:rPr>
              <a:t>Tilt Switches: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Candara"/>
              </a:rPr>
              <a:t>Turn off the Drive should the  Motor Cycle fall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6880" y="5391000"/>
            <a:ext cx="69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74105"/>
                </a:solidFill>
                <a:latin typeface="Adobe Caslon Pro Bold"/>
              </a:rPr>
              <a:t>Finally design and make a suitable Seat and Fuel Tank for the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33480" y="1038240"/>
            <a:ext cx="5857920" cy="642600"/>
          </a:xfrm>
          <a:prstGeom prst="rect">
            <a:avLst/>
          </a:prstGeom>
          <a:solidFill>
            <a:srgbClr val="c741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Adobe Caslon Pro Bold"/>
              </a:rPr>
              <a:t>Some typical Technology room sheet metalworking 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028880" y="1790640"/>
            <a:ext cx="1942920" cy="1411920"/>
            <a:chOff x="1028880" y="1790640"/>
            <a:chExt cx="1942920" cy="1411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028880" y="1790640"/>
              <a:ext cx="19429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238400" y="2895480"/>
              <a:ext cx="103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Tin Sn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36880" y="1800360"/>
            <a:ext cx="1859040" cy="1402200"/>
            <a:chOff x="3836880" y="1800360"/>
            <a:chExt cx="1859040" cy="140220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3836880" y="1800360"/>
              <a:ext cx="185904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238640" y="2895480"/>
              <a:ext cx="143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Hand Nibb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093000" y="2009880"/>
            <a:ext cx="2336760" cy="1386720"/>
            <a:chOff x="6093000" y="2009880"/>
            <a:chExt cx="2336760" cy="138672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6093000" y="2009880"/>
              <a:ext cx="2336760" cy="10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429240" y="28764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Sheetmetal Clam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129360" y="3610080"/>
            <a:ext cx="2090880" cy="1510560"/>
            <a:chOff x="6129360" y="3610080"/>
            <a:chExt cx="2090880" cy="1510560"/>
          </a:xfrm>
        </p:grpSpPr>
        <p:pic>
          <p:nvPicPr>
            <p:cNvPr id="131" name="" descr=""/>
            <p:cNvPicPr/>
            <p:nvPr/>
          </p:nvPicPr>
          <p:blipFill>
            <a:blip r:embed="rId4"/>
            <a:stretch/>
          </p:blipFill>
          <p:spPr>
            <a:xfrm>
              <a:off x="6129360" y="3610080"/>
              <a:ext cx="199548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24640" y="4600440"/>
              <a:ext cx="169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Bench vice fol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3381480"/>
            <a:ext cx="2019240" cy="1815840"/>
            <a:chOff x="4114800" y="3381480"/>
            <a:chExt cx="2019240" cy="1815840"/>
          </a:xfrm>
        </p:grpSpPr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4352760" y="3381480"/>
              <a:ext cx="1467000" cy="14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114800" y="4677120"/>
              <a:ext cx="201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Simple vice jaw fol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981000" y="3228840"/>
            <a:ext cx="1486080" cy="1305000"/>
            <a:chOff x="981000" y="3228840"/>
            <a:chExt cx="1486080" cy="1305000"/>
          </a:xfrm>
        </p:grpSpPr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981000" y="3228840"/>
              <a:ext cx="13050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1019160" y="405756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Conical dril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5477040"/>
            <a:ext cx="328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00280" y="4591080"/>
            <a:ext cx="7324560" cy="2144880"/>
            <a:chOff x="800280" y="4591080"/>
            <a:chExt cx="7324560" cy="214488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800280" y="4591080"/>
              <a:ext cx="193356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flipH="1" flipV="1">
              <a:off x="1924200" y="6057720"/>
              <a:ext cx="12477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914480" y="5828760"/>
              <a:ext cx="147636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371680" y="5381640"/>
              <a:ext cx="12668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6276960"/>
              <a:ext cx="619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Shea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6880" y="5933880"/>
              <a:ext cx="73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F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3920" y="551484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200" spc="-1" strike="noStrike">
                  <a:solidFill>
                    <a:srgbClr val="000000"/>
                  </a:solidFill>
                  <a:latin typeface="Adobe Caslon Pro Bold"/>
                </a:rPr>
                <a:t>Roll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3240" y="5467320"/>
              <a:ext cx="3171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000000"/>
                  </a:solidFill>
                  <a:latin typeface="Adobe Caslon Pro Bold"/>
                </a:rPr>
                <a:t>Combined bench mounted, hand operated rollers, folders and shear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438280" y="3855960"/>
            <a:ext cx="1687320" cy="1127880"/>
            <a:chOff x="2438280" y="3855960"/>
            <a:chExt cx="1687320" cy="1127880"/>
          </a:xfrm>
        </p:grpSpPr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>
              <a:off x="2481120" y="3855960"/>
              <a:ext cx="16444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438280" y="4676760"/>
              <a:ext cx="148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dobe Caslon Pro Bold"/>
                </a:rPr>
                <a:t>Folding Ba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6:33:41Z</dcterms:created>
  <dc:creator>Hugh Mc Lean</dc:creator>
  <dc:description/>
  <dc:language>en-US</dc:language>
  <cp:lastModifiedBy>Elizabeth Davis</cp:lastModifiedBy>
  <dcterms:modified xsi:type="dcterms:W3CDTF">2008-02-11T10:18:44Z</dcterms:modified>
  <cp:revision>70</cp:revision>
  <dc:subject/>
  <dc:title>Slide 1</dc:title>
</cp:coreProperties>
</file>