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8051D-C73D-40D3-A50E-C51503F52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58D88-9AFE-41F2-A598-1E0730937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CEA95-1B98-499A-8949-F8DF4D7413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0D645-E952-4222-94FB-888C6DC1C7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1984D-673C-4677-99CD-4F4DD787C7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4BF2B-1B67-4F6D-B513-029245581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EF561-B012-41D5-B7FB-A1960AAC4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61B1A-F7CF-4183-9D0F-E4A166CA8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89827-1E56-4197-B9DD-926C136A95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AC03-7072-47E9-BD72-CEBBD516C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20E03-DB12-41BF-8E1D-40F652463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86222-5175-40DD-AF4B-1B846E1FCE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90D3-43A1-476D-84BB-8B474EF2C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900000" y="18900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dobe Caslon Pro Bold"/>
              </a:rPr>
              <a:t>Motorcycl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rtcam.com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hyperlink" Target="http://www.ssschemical.com/" TargetMode="External"/><Relationship Id="rId6" Type="http://schemas.openxmlformats.org/officeDocument/2006/relationships/hyperlink" Target="http://www.ssschemical.com/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981000"/>
            <a:ext cx="60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00"/>
                </a:solidFill>
                <a:latin typeface="Arial"/>
              </a:rPr>
              <a:t>Design and make a project of simple construction,suitable for a Leaving Certificate Technology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35280" y="2565360"/>
            <a:ext cx="194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dobe Caslon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Main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dobe Caslon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Front f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dobe Caslon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Handleb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2360" y="4797360"/>
            <a:ext cx="25905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   </a:t>
            </a: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3   Wheels</a:t>
            </a: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   </a:t>
            </a: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1   M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   </a:t>
            </a: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2   Battery 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   </a:t>
            </a: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1  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59280" y="4869000"/>
            <a:ext cx="3095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1   Gears Whe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1   Worm 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1   Seat &amp; Petrol Ta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4    AA Batt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43657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Additional components requir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2060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Three part desig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0" y="1557360"/>
            <a:ext cx="3552840" cy="2774880"/>
            <a:chOff x="4572000" y="1557360"/>
            <a:chExt cx="3552840" cy="277488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4572000" y="1557360"/>
              <a:ext cx="3549600" cy="27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572000" y="1562040"/>
              <a:ext cx="3552840" cy="27529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16000" y="981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The Main body or fr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1628640"/>
            <a:ext cx="439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000000"/>
                </a:solidFill>
                <a:latin typeface="Adobe Caslon Pro Bold"/>
              </a:rPr>
              <a:t>Body profile made from sheet  Aluminium   1mm, Blank size shown in the dia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2637000"/>
            <a:ext cx="41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Finished outline is Symmetri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58920" y="328464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Profile marked out, holes drilled and then cut from given blank according to accompanying dimensioned 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24360" y="2060640"/>
            <a:ext cx="2687760" cy="2452680"/>
            <a:chOff x="5724360" y="2060640"/>
            <a:chExt cx="2687760" cy="245268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5724360" y="2060640"/>
              <a:ext cx="2687760" cy="24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776920" y="2060640"/>
              <a:ext cx="2592360" cy="244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019400" y="4653000"/>
            <a:ext cx="3484800" cy="1971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87280" y="4797360"/>
            <a:ext cx="331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Finished p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The finished profile is then bent to shape as sh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00000" y="12682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Candara"/>
              </a:rPr>
              <a:t>Front for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1844640"/>
            <a:ext cx="389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Mark out the desired profile according to the given dimensions. Then drill  the three </a:t>
            </a:r>
            <a:r>
              <a:rPr b="0" i="1" lang="en-US" sz="1800" spc="-1" strike="noStrike">
                <a:solidFill>
                  <a:srgbClr val="000000"/>
                </a:solidFill>
                <a:latin typeface="Adobe Caslon Pro Bold"/>
                <a:ea typeface="Times New Roman"/>
              </a:rPr>
              <a:t>Ø 4mm </a:t>
            </a: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holes and cut out the pro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859280" y="1700280"/>
            <a:ext cx="3387600" cy="1944360"/>
            <a:chOff x="4859280" y="1700280"/>
            <a:chExt cx="3387600" cy="194436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4859280" y="1700280"/>
              <a:ext cx="3387600" cy="19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937040" y="2179440"/>
              <a:ext cx="3228120" cy="103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334040" y="4224240"/>
            <a:ext cx="2477880" cy="2233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4076640"/>
            <a:ext cx="338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Candara"/>
              </a:rPr>
              <a:t>Now bend both sides at right angles to produce the final design as sh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69920" y="1268280"/>
            <a:ext cx="14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Candara"/>
              </a:rPr>
              <a:t>Handleb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141880" y="1539720"/>
            <a:ext cx="2990520" cy="2404800"/>
            <a:chOff x="5141880" y="1539720"/>
            <a:chExt cx="2990520" cy="24048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5141880" y="1539720"/>
              <a:ext cx="2990520" cy="24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5163480" y="2022120"/>
              <a:ext cx="2932200" cy="187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321080" y="4378320"/>
            <a:ext cx="1973520" cy="1951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19320" y="1819440"/>
            <a:ext cx="296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Mark out and drill the blank. Cut out the profile and finally bend as requ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38400" y="4410000"/>
            <a:ext cx="31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Completed Handlebars shown opposi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19000" y="1933560"/>
            <a:ext cx="40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Assembled view of the three main parts of the Motor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43040" y="3952800"/>
            <a:ext cx="319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The additional components are then added to give the final assembled Motorcycle project sh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2400" y="115236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Candara"/>
              </a:rPr>
              <a:t>Main parts assembl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8280" y="3362400"/>
            <a:ext cx="31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Candara"/>
              </a:rPr>
              <a:t>Finished Motorcyc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419640" y="949320"/>
            <a:ext cx="4828320" cy="2597040"/>
            <a:chOff x="3419640" y="949320"/>
            <a:chExt cx="4828320" cy="259704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5254560" y="949320"/>
              <a:ext cx="2395080" cy="259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" name=""/>
            <p:cNvGrpSpPr/>
            <p:nvPr/>
          </p:nvGrpSpPr>
          <p:grpSpPr>
            <a:xfrm>
              <a:off x="5866920" y="1143000"/>
              <a:ext cx="1895040" cy="409680"/>
              <a:chOff x="5866920" y="1143000"/>
              <a:chExt cx="1895040" cy="409680"/>
            </a:xfrm>
          </p:grpSpPr>
          <p:sp>
            <p:nvSpPr>
              <p:cNvPr id="80" name=""/>
              <p:cNvSpPr/>
              <p:nvPr/>
            </p:nvSpPr>
            <p:spPr>
              <a:xfrm flipH="1">
                <a:off x="5866920" y="1342800"/>
                <a:ext cx="837720" cy="2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705000" y="1143000"/>
                <a:ext cx="105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IE" sz="1200" spc="-1" strike="noStrike">
                    <a:solidFill>
                      <a:srgbClr val="000000"/>
                    </a:solidFill>
                    <a:latin typeface="Adobe Caslon Pro Bold"/>
                  </a:rPr>
                  <a:t>Handleba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7010280" y="1866960"/>
              <a:ext cx="1237680" cy="1220760"/>
              <a:chOff x="7010280" y="1866960"/>
              <a:chExt cx="1237680" cy="1220760"/>
            </a:xfrm>
          </p:grpSpPr>
          <p:sp>
            <p:nvSpPr>
              <p:cNvPr id="83" name=""/>
              <p:cNvSpPr/>
              <p:nvPr/>
            </p:nvSpPr>
            <p:spPr>
              <a:xfrm flipH="1" flipV="1">
                <a:off x="7010280" y="1866960"/>
                <a:ext cx="63792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362360" y="2628720"/>
                <a:ext cx="885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IE" sz="1200" spc="-1" strike="noStrike">
                    <a:solidFill>
                      <a:srgbClr val="000000"/>
                    </a:solidFill>
                    <a:latin typeface="Adobe Caslon Pro Bold"/>
                  </a:rPr>
                  <a:t>Main bod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3419640" y="2409840"/>
              <a:ext cx="2171160" cy="276480"/>
              <a:chOff x="3419640" y="2409840"/>
              <a:chExt cx="2171160" cy="276480"/>
            </a:xfrm>
          </p:grpSpPr>
          <p:sp>
            <p:nvSpPr>
              <p:cNvPr id="86" name=""/>
              <p:cNvSpPr/>
              <p:nvPr/>
            </p:nvSpPr>
            <p:spPr>
              <a:xfrm flipV="1">
                <a:off x="4333680" y="2457000"/>
                <a:ext cx="1257120" cy="6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419640" y="2409840"/>
                <a:ext cx="1028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1200" spc="-1" strike="noStrike">
                    <a:solidFill>
                      <a:srgbClr val="000000"/>
                    </a:solidFill>
                    <a:latin typeface="Adobe Caslon Pro Bold"/>
                  </a:rPr>
                  <a:t>Front fork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" name=""/>
          <p:cNvGrpSpPr/>
          <p:nvPr/>
        </p:nvGrpSpPr>
        <p:grpSpPr>
          <a:xfrm>
            <a:off x="3906360" y="3619440"/>
            <a:ext cx="3884760" cy="2676600"/>
            <a:chOff x="3906360" y="3619440"/>
            <a:chExt cx="3884760" cy="267660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 flipH="1">
              <a:off x="3906360" y="3619440"/>
              <a:ext cx="388476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 flipH="1">
              <a:off x="3913920" y="3619440"/>
              <a:ext cx="3876840" cy="26704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33480" y="97164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dobe Caslon Pro Bold"/>
              </a:rPr>
              <a:t>Finishing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149544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c74105"/>
                </a:solidFill>
                <a:latin typeface="Candara"/>
              </a:rPr>
              <a:t>As with all projects there are a number of possible finis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2114640"/>
            <a:ext cx="6543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dobe Caslon Pro Bold"/>
              </a:rPr>
              <a:t>Polishing: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Fine grade emery cl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Graded Steel W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dobe Caslon Pro Bold"/>
              </a:rPr>
              <a:t>Mechanical: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Polishing Mops &amp; so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Mott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dobe Caslon Pro Bold"/>
              </a:rPr>
              <a:t>Chemical Polishes:</a:t>
            </a:r>
            <a:r>
              <a:rPr b="1" i="1" lang="en-IE" sz="1800" spc="-1" strike="noStrike">
                <a:solidFill>
                  <a:srgbClr val="000000"/>
                </a:solidFill>
                <a:latin typeface="Adobe Caslon Pro Bold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Brasso, Silvo, Pe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42840" y="4295880"/>
            <a:ext cx="67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dobe Caslon Pro Bold"/>
              </a:rPr>
              <a:t>Plastic Coating: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Dip co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19160" y="4915080"/>
            <a:ext cx="666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dobe Caslon Pro Bold"/>
              </a:rPr>
              <a:t>Painting:</a:t>
            </a:r>
            <a:r>
              <a:rPr b="1" i="1" lang="en-IE" sz="1800" spc="-1" strike="noStrike">
                <a:solidFill>
                  <a:srgbClr val="000000"/>
                </a:solidFill>
                <a:latin typeface="Adobe Caslon Pro Bold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Standard colours &amp; specialist p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5486400"/>
            <a:ext cx="6629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Metal Spraying: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Cold spray able Metal coat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Candara"/>
                <a:hlinkClick r:id="rId1"/>
              </a:rPr>
              <a:t>www.artcam.com</a:t>
            </a:r>
            <a:r>
              <a:rPr b="0" lang="en-GB" sz="1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71640" y="971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dobe Caslon Pro Bold"/>
              </a:rPr>
              <a:t>Metal Dy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144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c74105"/>
                </a:solidFill>
                <a:latin typeface="Candara"/>
              </a:rPr>
              <a:t>These are special chemical that react with the metal to produce a range of finis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6920" y="2352600"/>
            <a:ext cx="4905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Antiquing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Cupric Ni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Cobalt Nit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Copper Sulph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Silver Ni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95480" y="42861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c74105"/>
                </a:solidFill>
                <a:latin typeface="Candara"/>
              </a:rPr>
              <a:t>Sample of special Chemical finish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273640" y="2098800"/>
            <a:ext cx="2539800" cy="1269720"/>
            <a:chOff x="5273640" y="2098800"/>
            <a:chExt cx="2539800" cy="126972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5273640" y="2098800"/>
              <a:ext cx="2539800" cy="12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314680" y="2971440"/>
              <a:ext cx="75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ffffff"/>
                  </a:solidFill>
                  <a:latin typeface="Candara"/>
                </a:rPr>
                <a:t>Bl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273640" y="3537000"/>
            <a:ext cx="2539800" cy="1270080"/>
            <a:chOff x="5273640" y="3537000"/>
            <a:chExt cx="2539800" cy="127008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5273640" y="3537000"/>
              <a:ext cx="253980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5381640" y="4390920"/>
              <a:ext cx="148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ffffff"/>
                  </a:solidFill>
                  <a:latin typeface="Candara"/>
                </a:rPr>
                <a:t>Rusty Brow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264280" y="4994280"/>
            <a:ext cx="2539800" cy="1270080"/>
            <a:chOff x="5264280" y="4994280"/>
            <a:chExt cx="2539800" cy="1270080"/>
          </a:xfrm>
        </p:grpSpPr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5264280" y="4994280"/>
              <a:ext cx="253980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5419800" y="5877000"/>
              <a:ext cx="126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ffffff"/>
                  </a:solidFill>
                  <a:latin typeface="Candara"/>
                </a:rPr>
                <a:t>Tri Colo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206360" y="4756320"/>
            <a:ext cx="3483000" cy="1453680"/>
            <a:chOff x="1206360" y="4756320"/>
            <a:chExt cx="3483000" cy="1453680"/>
          </a:xfrm>
        </p:grpSpPr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>
              <a:off x="1206360" y="4756320"/>
              <a:ext cx="3483000" cy="12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238400" y="5629320"/>
              <a:ext cx="1466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ffffff"/>
                  </a:solidFill>
                  <a:latin typeface="Candara"/>
                </a:rPr>
                <a:t>Flemish Viol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219320" y="6058080"/>
            <a:ext cx="3409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Candara"/>
                <a:hlinkClick r:id="rId5"/>
              </a:rPr>
              <a:t>www.ssschemical.com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Candara"/>
                <a:hlinkClick r:id="rId6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19160" y="952560"/>
            <a:ext cx="25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c74105"/>
                </a:solidFill>
                <a:latin typeface="Adobe Caslon Pro Bold"/>
              </a:rPr>
              <a:t>Project Enhanc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5040" y="168588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dobe Caslon Pro Bold"/>
              </a:rPr>
              <a:t>Introduce Timing circuits: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Travel set distance forward / re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61920" y="2505240"/>
            <a:ext cx="56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dobe Caslon Pro Bold"/>
              </a:rPr>
              <a:t>Flashing LED’s: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Astable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320976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dobe Caslon Pro Bold"/>
              </a:rPr>
              <a:t>Sound Chip: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Motor Cycle Sound when switched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33480" y="439092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dobe Caslon Pro Bold"/>
              </a:rPr>
              <a:t>Tilt Switches: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Turn off the Drive should the  Motor Cycle fall 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66880" y="5391000"/>
            <a:ext cx="69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c74105"/>
                </a:solidFill>
                <a:latin typeface="Adobe Caslon Pro Bold"/>
              </a:rPr>
              <a:t>Finally design and make a suitable Seat and Fuel Tank for the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33480" y="1038240"/>
            <a:ext cx="5857920" cy="642600"/>
          </a:xfrm>
          <a:prstGeom prst="rect">
            <a:avLst/>
          </a:prstGeom>
          <a:solidFill>
            <a:srgbClr val="c741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dobe Caslon Pro Bold"/>
              </a:rPr>
              <a:t>Some typical Technology room sheet metalworking 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028880" y="1790640"/>
            <a:ext cx="1942920" cy="1411920"/>
            <a:chOff x="1028880" y="1790640"/>
            <a:chExt cx="1942920" cy="141192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1028880" y="1790640"/>
              <a:ext cx="194292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238400" y="2895480"/>
              <a:ext cx="103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400" spc="-1" strike="noStrike">
                  <a:solidFill>
                    <a:srgbClr val="000000"/>
                  </a:solidFill>
                  <a:latin typeface="Adobe Caslon Pro Bold"/>
                </a:rPr>
                <a:t>Tin Sni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36880" y="1800360"/>
            <a:ext cx="1859040" cy="1402200"/>
            <a:chOff x="3836880" y="1800360"/>
            <a:chExt cx="1859040" cy="1402200"/>
          </a:xfrm>
        </p:grpSpPr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3836880" y="1800360"/>
              <a:ext cx="185904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238640" y="2895480"/>
              <a:ext cx="143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400" spc="-1" strike="noStrike">
                  <a:solidFill>
                    <a:srgbClr val="000000"/>
                  </a:solidFill>
                  <a:latin typeface="Adobe Caslon Pro Bold"/>
                </a:rPr>
                <a:t>Hand Nibbl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093000" y="2009880"/>
            <a:ext cx="2336760" cy="1386720"/>
            <a:chOff x="6093000" y="2009880"/>
            <a:chExt cx="2336760" cy="1386720"/>
          </a:xfrm>
        </p:grpSpPr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6093000" y="2009880"/>
              <a:ext cx="233676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429240" y="287640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400" spc="-1" strike="noStrike">
                  <a:solidFill>
                    <a:srgbClr val="000000"/>
                  </a:solidFill>
                  <a:latin typeface="Adobe Caslon Pro Bold"/>
                </a:rPr>
                <a:t>Sheetmetal Clam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6129360" y="3610080"/>
            <a:ext cx="2090880" cy="1510560"/>
            <a:chOff x="6129360" y="3610080"/>
            <a:chExt cx="2090880" cy="1510560"/>
          </a:xfrm>
        </p:grpSpPr>
        <p:pic>
          <p:nvPicPr>
            <p:cNvPr id="131" name="" descr=""/>
            <p:cNvPicPr/>
            <p:nvPr/>
          </p:nvPicPr>
          <p:blipFill>
            <a:blip r:embed="rId4"/>
            <a:stretch/>
          </p:blipFill>
          <p:spPr>
            <a:xfrm>
              <a:off x="6129360" y="3610080"/>
              <a:ext cx="1995480" cy="10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524640" y="4600440"/>
              <a:ext cx="1695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400" spc="-1" strike="noStrike">
                  <a:solidFill>
                    <a:srgbClr val="000000"/>
                  </a:solidFill>
                  <a:latin typeface="Adobe Caslon Pro Bold"/>
                </a:rPr>
                <a:t>Bench vice fol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114800" y="3381480"/>
            <a:ext cx="2019240" cy="1815840"/>
            <a:chOff x="4114800" y="3381480"/>
            <a:chExt cx="2019240" cy="1815840"/>
          </a:xfrm>
        </p:grpSpPr>
        <p:pic>
          <p:nvPicPr>
            <p:cNvPr id="134" name="" descr=""/>
            <p:cNvPicPr/>
            <p:nvPr/>
          </p:nvPicPr>
          <p:blipFill>
            <a:blip r:embed="rId5"/>
            <a:stretch/>
          </p:blipFill>
          <p:spPr>
            <a:xfrm>
              <a:off x="4352760" y="3381480"/>
              <a:ext cx="1467000" cy="14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114800" y="4677120"/>
              <a:ext cx="201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400" spc="-1" strike="noStrike">
                  <a:solidFill>
                    <a:srgbClr val="000000"/>
                  </a:solidFill>
                  <a:latin typeface="Adobe Caslon Pro Bold"/>
                </a:rPr>
                <a:t>Simple vice jaw fol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981000" y="3228840"/>
            <a:ext cx="1486080" cy="1305000"/>
            <a:chOff x="981000" y="3228840"/>
            <a:chExt cx="1486080" cy="1305000"/>
          </a:xfrm>
        </p:grpSpPr>
        <p:pic>
          <p:nvPicPr>
            <p:cNvPr id="137" name="" descr=""/>
            <p:cNvPicPr/>
            <p:nvPr/>
          </p:nvPicPr>
          <p:blipFill>
            <a:blip r:embed="rId6"/>
            <a:stretch/>
          </p:blipFill>
          <p:spPr>
            <a:xfrm>
              <a:off x="981000" y="3228840"/>
              <a:ext cx="130500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1019160" y="405756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400" spc="-1" strike="noStrike">
                  <a:solidFill>
                    <a:srgbClr val="000000"/>
                  </a:solidFill>
                  <a:latin typeface="Adobe Caslon Pro Bold"/>
                </a:rPr>
                <a:t>Conical dril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581280" y="5477040"/>
            <a:ext cx="3286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800280" y="4591080"/>
            <a:ext cx="7324560" cy="2144880"/>
            <a:chOff x="800280" y="4591080"/>
            <a:chExt cx="7324560" cy="2144880"/>
          </a:xfrm>
        </p:grpSpPr>
        <p:pic>
          <p:nvPicPr>
            <p:cNvPr id="141" name="" descr=""/>
            <p:cNvPicPr/>
            <p:nvPr/>
          </p:nvPicPr>
          <p:blipFill>
            <a:blip r:embed="rId7"/>
            <a:stretch/>
          </p:blipFill>
          <p:spPr>
            <a:xfrm>
              <a:off x="800280" y="4591080"/>
              <a:ext cx="1933560" cy="20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 flipH="1" flipV="1">
              <a:off x="1924200" y="6057720"/>
              <a:ext cx="124776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1914480" y="5828760"/>
              <a:ext cx="147636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2371680" y="5381640"/>
              <a:ext cx="126684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0400" y="6276960"/>
              <a:ext cx="619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200" spc="-1" strike="noStrike">
                  <a:solidFill>
                    <a:srgbClr val="000000"/>
                  </a:solidFill>
                  <a:latin typeface="Adobe Caslon Pro Bold"/>
                </a:rPr>
                <a:t>Shea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76880" y="5933880"/>
              <a:ext cx="73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200" spc="-1" strike="noStrike">
                  <a:solidFill>
                    <a:srgbClr val="000000"/>
                  </a:solidFill>
                  <a:latin typeface="Adobe Caslon Pro Bold"/>
                </a:rPr>
                <a:t>Fold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33920" y="5514840"/>
              <a:ext cx="120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200" spc="-1" strike="noStrike">
                  <a:solidFill>
                    <a:srgbClr val="000000"/>
                  </a:solidFill>
                  <a:latin typeface="Adobe Caslon Pro Bold"/>
                </a:rPr>
                <a:t>Roll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53240" y="5467320"/>
              <a:ext cx="3171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dobe Caslon Pro Bold"/>
                </a:rPr>
                <a:t>Combined bench mounted, hand operated rollers, folders and shear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438280" y="3855960"/>
            <a:ext cx="1687320" cy="1127880"/>
            <a:chOff x="2438280" y="3855960"/>
            <a:chExt cx="1687320" cy="1127880"/>
          </a:xfrm>
        </p:grpSpPr>
        <p:pic>
          <p:nvPicPr>
            <p:cNvPr id="150" name="" descr=""/>
            <p:cNvPicPr/>
            <p:nvPr/>
          </p:nvPicPr>
          <p:blipFill>
            <a:blip r:embed="rId8"/>
            <a:stretch/>
          </p:blipFill>
          <p:spPr>
            <a:xfrm>
              <a:off x="2481120" y="3855960"/>
              <a:ext cx="16444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438280" y="4676760"/>
              <a:ext cx="148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400" spc="-1" strike="noStrike">
                  <a:solidFill>
                    <a:srgbClr val="000000"/>
                  </a:solidFill>
                  <a:latin typeface="Adobe Caslon Pro Bold"/>
                </a:rPr>
                <a:t>Folding Ba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6:33:41Z</dcterms:created>
  <dc:creator>Hugh Mc Lean</dc:creator>
  <dc:description/>
  <dc:language>en-US</dc:language>
  <cp:lastModifiedBy>Elizabeth Davis</cp:lastModifiedBy>
  <dcterms:modified xsi:type="dcterms:W3CDTF">2008-02-11T10:18:44Z</dcterms:modified>
  <cp:revision>70</cp:revision>
  <dc:subject/>
  <dc:title>Slide 1</dc:title>
</cp:coreProperties>
</file>