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76D-189D-43E9-9073-CC892498F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ign opportunities to help develop design and graphics capability as well as exposure to how things fit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type of exercises help a build design vocabulary – a knowledge of how mechanical components fit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ign opportunities to help develop design and graphics capability.  It will be necessary to model your design thinking!  And teachers need a bank of tasks such as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ycle lock design.  An idea for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ycle lock design. An idea that could be develop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42677" t="0" r="13950" b="53149"/>
          <a:stretch/>
        </p:blipFill>
        <p:spPr>
          <a:xfrm>
            <a:off x="5580000" y="260280"/>
            <a:ext cx="325116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7600" y="5132520"/>
            <a:ext cx="5414040" cy="164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sign / Research / Graphics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ow is the saddle adjusted for he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ow is the reflector secured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Saddle 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280" t="0" r="22317" b="47896"/>
          <a:stretch/>
        </p:blipFill>
        <p:spPr>
          <a:xfrm>
            <a:off x="5256360" y="333360"/>
            <a:ext cx="3808440" cy="460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9880" y="5084640"/>
            <a:ext cx="4681080" cy="161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sign / Graphics Task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Design a saddle-bag attachment for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Bicycle de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ow could the bicycle pump be fit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080" y="217440"/>
            <a:ext cx="4597200" cy="651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04360" y="18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Bicycl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6680" y="171360"/>
            <a:ext cx="4613400" cy="653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4360" y="18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Bicycl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7:09:04Z</dcterms:created>
  <dc:creator>rmoffatt</dc:creator>
  <dc:description/>
  <dc:language>en-US</dc:language>
  <cp:lastModifiedBy>Elizabeth Davis</cp:lastModifiedBy>
  <dcterms:modified xsi:type="dcterms:W3CDTF">2007-05-03T11:06:16Z</dcterms:modified>
  <cp:revision>37</cp:revision>
  <dc:subject/>
  <dc:title>Slide 1</dc:title>
</cp:coreProperties>
</file>