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5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6.jpeg" ContentType="image/jpeg"/>
  <Override PartName="/ppt/media/image27.jpeg" ContentType="image/jpeg"/>
  <Override PartName="/ppt/media/image11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3.jpeg" ContentType="image/jpeg"/>
  <Override PartName="/ppt/media/image4.gif" ContentType="image/gif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36.jpeg" ContentType="image/jpeg"/>
  <Override PartName="/ppt/media/image2.jpeg" ContentType="image/jpeg"/>
  <Override PartName="/ppt/media/image14.png" ContentType="image/pn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sheldonbrown.com/harris/reallite/" TargetMode="External"/><Relationship Id="rId3" Type="http://schemas.openxmlformats.org/officeDocument/2006/relationships/image" Target="../media/image4.gi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heldonbrown.com/harris/reallite/" TargetMode="Externa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"/>
          <p:cNvSpPr/>
          <p:nvPr/>
        </p:nvSpPr>
        <p:spPr>
          <a:xfrm>
            <a:off x="1504800" y="104760"/>
            <a:ext cx="613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To Design Bicyc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Hazard / Indicator L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3498480" y="5084640"/>
            <a:ext cx="214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>
            <a:lum bright="70000" contrast="-70000"/>
          </a:blip>
          <a:srcRect l="12486" t="3637" r="14433" b="16316"/>
          <a:stretch/>
        </p:blipFill>
        <p:spPr>
          <a:xfrm>
            <a:off x="973080" y="44280"/>
            <a:ext cx="7775640" cy="6748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5400720" cy="3436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50760" y="532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6520" y="5083920"/>
            <a:ext cx="380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Only draws 20 </a:t>
            </a:r>
            <a:r>
              <a:rPr b="0" lang="en-US" sz="1800" spc="-1" strike="noStrike" u="sng">
                <a:solidFill>
                  <a:srgbClr val="808080"/>
                </a:solidFill>
                <a:uFillTx/>
                <a:latin typeface="Arial"/>
              </a:rPr>
              <a:t>milliamps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of Power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34080" y="147600"/>
            <a:ext cx="40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Bicycle Hazard 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3672000" cy="3672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9280" y="1557360"/>
            <a:ext cx="2281320" cy="1533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427640" y="3645000"/>
            <a:ext cx="3429000" cy="2428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34080" y="147600"/>
            <a:ext cx="40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Bicycle Hazard 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4971960" cy="3981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34080" y="147600"/>
            <a:ext cx="40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Bicycle Hazard 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4441680" cy="5040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34080" y="147600"/>
            <a:ext cx="40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Bicycle Hazard 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Pacanim-1"/>
          <p:cNvPicPr/>
          <p:nvPr/>
        </p:nvPicPr>
        <p:blipFill>
          <a:blip r:embed="rId1"/>
          <a:stretch/>
        </p:blipFill>
        <p:spPr>
          <a:xfrm>
            <a:off x="826920" y="1125360"/>
            <a:ext cx="4597560" cy="3448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34080" y="147600"/>
            <a:ext cx="40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Bicycle Hazard 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5033880" cy="3608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0" y="4941720"/>
            <a:ext cx="3168720" cy="1711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34080" y="147600"/>
            <a:ext cx="40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Bicycle Hazard 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5616720" cy="4213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234080" y="147600"/>
            <a:ext cx="40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Bicycle Hazard 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5400720" cy="4068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1234080" y="147600"/>
            <a:ext cx="40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Bicycle Hazard 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27134" r="0" b="27134"/>
          <a:stretch/>
        </p:blipFill>
        <p:spPr>
          <a:xfrm>
            <a:off x="3780000" y="4149720"/>
            <a:ext cx="3444840" cy="1943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4680000" cy="1857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234080" y="147600"/>
            <a:ext cx="40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Bicycle Hazard 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349800" cy="3349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535280" cy="4535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234080" y="147600"/>
            <a:ext cx="40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Bicycle Hazard 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>
            <a:lum bright="70000" contrast="-70000"/>
          </a:blip>
          <a:srcRect l="12486" t="3637" r="14433" b="16316"/>
          <a:stretch/>
        </p:blipFill>
        <p:spPr>
          <a:xfrm>
            <a:off x="900000" y="552600"/>
            <a:ext cx="6985080" cy="60624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1246320" y="1628640"/>
            <a:ext cx="649440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Arial Black"/>
              </a:rPr>
              <a:t>To Design Bicy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Arial Black"/>
              </a:rPr>
              <a:t>Hazzard / Indicator 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Arial Black"/>
              </a:rPr>
              <a:t>Resear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6560" y="4437000"/>
            <a:ext cx="576108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7378560" y="3645000"/>
            <a:ext cx="0" cy="10080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08720" y="4365720"/>
            <a:ext cx="144720" cy="144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16040" y="716040"/>
            <a:ext cx="144360" cy="144360"/>
          </a:xfrm>
          <a:prstGeom prst="ellipse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95240" y="988920"/>
            <a:ext cx="0" cy="12877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43640" y="189000"/>
            <a:ext cx="78408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3924360" cy="3438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356000" y="1125360"/>
            <a:ext cx="3527640" cy="267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1234080" y="147600"/>
            <a:ext cx="40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Bicycle Hazard 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58920" y="3716280"/>
            <a:ext cx="2771640" cy="2152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651640" y="4149720"/>
            <a:ext cx="1773000" cy="2138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900000" y="1125360"/>
            <a:ext cx="5257800" cy="22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1234080" y="257040"/>
            <a:ext cx="40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Bicycle Hazard 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bright="70000" contrast="-70000"/>
          </a:blip>
          <a:srcRect l="12486" t="3637" r="14433" b="16316"/>
          <a:stretch/>
        </p:blipFill>
        <p:spPr>
          <a:xfrm>
            <a:off x="252360" y="11160"/>
            <a:ext cx="8352000" cy="7248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3744720" cy="374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284720" y="1484280"/>
            <a:ext cx="3744720" cy="374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234080" y="147600"/>
            <a:ext cx="40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Bicycle Hazard 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bright="70000" contrast="-70000"/>
          </a:blip>
          <a:srcRect l="12486" t="3637" r="14433" b="16316"/>
          <a:stretch/>
        </p:blipFill>
        <p:spPr>
          <a:xfrm>
            <a:off x="1835280" y="552600"/>
            <a:ext cx="6984720" cy="6062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55640" y="1125360"/>
            <a:ext cx="5329080" cy="532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234080" y="147600"/>
            <a:ext cx="40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Bicycle Hazard 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2880" y="1628640"/>
            <a:ext cx="237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Where &amp; how will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light be attach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>
            <a:lum bright="70000" contrast="-70000"/>
          </a:blip>
          <a:srcRect l="12486" t="3637" r="14433" b="16316"/>
          <a:stretch/>
        </p:blipFill>
        <p:spPr>
          <a:xfrm>
            <a:off x="900000" y="-9360"/>
            <a:ext cx="7632720" cy="6624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34080" y="147600"/>
            <a:ext cx="40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Bicycle Hazard 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16360" y="1628640"/>
            <a:ext cx="3427560" cy="2235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859280" y="3716280"/>
            <a:ext cx="3265560" cy="2449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34080" y="147600"/>
            <a:ext cx="40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Bicycle Hazard 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3889440" cy="3881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635280" y="1557360"/>
            <a:ext cx="4535640" cy="4495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34080" y="147600"/>
            <a:ext cx="40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Bicycle Hazard 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bright="70000" contrast="-70000"/>
          </a:blip>
          <a:srcRect l="12486" t="3637" r="14433" b="16316"/>
          <a:stretch/>
        </p:blipFill>
        <p:spPr>
          <a:xfrm>
            <a:off x="108000" y="0"/>
            <a:ext cx="6192720" cy="6615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780000" y="3573360"/>
            <a:ext cx="4176720" cy="2846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rcRect l="0" t="18486" r="0" b="16000"/>
          <a:stretch/>
        </p:blipFill>
        <p:spPr>
          <a:xfrm>
            <a:off x="755640" y="1197000"/>
            <a:ext cx="4286160" cy="2808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234080" y="147600"/>
            <a:ext cx="40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Bicycle Hazard 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886200" cy="2923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859280" y="3213000"/>
            <a:ext cx="3171960" cy="2362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234080" y="147600"/>
            <a:ext cx="40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Bicycle Hazard 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20:04:47Z</dcterms:created>
  <dc:creator>rmoffatt</dc:creator>
  <dc:description/>
  <dc:language>en-US</dc:language>
  <cp:lastModifiedBy>Elizabeth Davis</cp:lastModifiedBy>
  <dcterms:modified xsi:type="dcterms:W3CDTF">2008-02-18T21:03:24Z</dcterms:modified>
  <cp:revision>24</cp:revision>
  <dc:subject/>
  <dc:title>Slide 1</dc:title>
</cp:coreProperties>
</file>