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sxc.hu/browse.phtml?f=download&amp;id=633066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"/>
          <p:cNvSpPr txBox="1"/>
          <p:nvPr/>
        </p:nvSpPr>
        <p:spPr>
          <a:xfrm>
            <a:off x="611280" y="620640"/>
            <a:ext cx="7920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A Portable Car Breakdown Sign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3564000" y="5157720"/>
            <a:ext cx="207324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81185" dir="1927803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Research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81185" dir="1927803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 txBox="1"/>
          <p:nvPr/>
        </p:nvSpPr>
        <p:spPr>
          <a:xfrm>
            <a:off x="684360" y="355680"/>
            <a:ext cx="72468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To Design A Car Breakdown Sign</a:t>
            </a:r>
            <a:endParaRPr b="0" i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740720" y="3357720"/>
            <a:ext cx="11826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8172360" cy="4513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car breakdow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65440" y="2133720"/>
            <a:ext cx="4967280" cy="33112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45" name=""/>
          <p:cNvSpPr/>
          <p:nvPr/>
        </p:nvSpPr>
        <p:spPr>
          <a:xfrm>
            <a:off x="324000" y="5733720"/>
            <a:ext cx="784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ign shown above is placed by Gard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near a crash site. It means you must drive at 20 km/h or less until you pass the crash site. Watch out for emergency workers and injured pe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50920" y="1052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219640" y="476280"/>
            <a:ext cx="3313080" cy="2484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5365440"/>
            <a:ext cx="76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ice: (1). As this is a plastic product, the optics of the face demands a high reflective finish. The face should be kept clean and free from oil and scratches. (2). It should stored careful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032360" cy="307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780000" y="4221000"/>
            <a:ext cx="3819240" cy="24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2000160" cy="2857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58920" y="1054080"/>
            <a:ext cx="3476520" cy="3600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859280" y="1773360"/>
            <a:ext cx="2536920" cy="28861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3997" t="9461" r="11319" b="3628"/>
          <a:stretch/>
        </p:blipFill>
        <p:spPr>
          <a:xfrm>
            <a:off x="611280" y="2060640"/>
            <a:ext cx="2808360" cy="269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219640" y="1773360"/>
            <a:ext cx="252432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0" name="" descr="Triangular stanchion frame - For housing temporary road signs. Size 600mm triangle.TRSF 3"/>
          <p:cNvPicPr/>
          <p:nvPr/>
        </p:nvPicPr>
        <p:blipFill>
          <a:blip r:embed="rId3"/>
          <a:stretch/>
        </p:blipFill>
        <p:spPr>
          <a:xfrm>
            <a:off x="3635280" y="1268280"/>
            <a:ext cx="1278000" cy="1762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11280" y="4869000"/>
            <a:ext cx="156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Inspira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2581200" cy="2759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Figure"/>
          <p:cNvPicPr/>
          <p:nvPr/>
        </p:nvPicPr>
        <p:blipFill>
          <a:blip r:embed="rId2"/>
          <a:srcRect l="12802" t="7464" r="24731" b="13429"/>
          <a:stretch/>
        </p:blipFill>
        <p:spPr>
          <a:xfrm>
            <a:off x="3708360" y="1268280"/>
            <a:ext cx="2016000" cy="4392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867280" y="2133720"/>
            <a:ext cx="15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Bradley Hand ITC"/>
              </a:rPr>
              <a:t>Inspiration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3024360" cy="3024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900000" y="18900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A Car Breakdown 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708360" y="3645000"/>
            <a:ext cx="25210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Bradley Hand ITC"/>
              </a:rPr>
              <a:t>A rotational sig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19:55:12Z</dcterms:created>
  <dc:creator>rmoffatt</dc:creator>
  <dc:description/>
  <dc:language>en-US</dc:language>
  <cp:lastModifiedBy>Elizabeth Davis</cp:lastModifiedBy>
  <dcterms:modified xsi:type="dcterms:W3CDTF">2007-05-03T10:49:33Z</dcterms:modified>
  <cp:revision>17</cp:revision>
  <dc:subject/>
  <dc:title>Slide 1</dc:title>
</cp:coreProperties>
</file>