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0DB-E95C-456D-AF03-BA364D03F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ve, a European driver as the car is on the right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rylic sheet / strips cut to length;  pins may be used to secure base on grass verge?  Alternatively, aluminium rod may be used as a support.  Part ‘D’ made from aluminium sh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entre piece may be made from aluminium and covered in white fabl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4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611280" y="620640"/>
            <a:ext cx="7920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927803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Portable Car Breakdown S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927803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4941720"/>
            <a:ext cx="6343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927803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Process of Des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927803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24709" t="22624" r="24237" b="3211"/>
          <a:stretch/>
        </p:blipFill>
        <p:spPr>
          <a:xfrm>
            <a:off x="3176640" y="1442880"/>
            <a:ext cx="2867040" cy="298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26334" t="20135" r="27477" b="3594"/>
          <a:stretch/>
        </p:blipFill>
        <p:spPr>
          <a:xfrm>
            <a:off x="412920" y="1127160"/>
            <a:ext cx="3359160" cy="3984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8280" y="440388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ron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rcRect l="25190" t="17611" r="23456" b="10030"/>
          <a:stretch/>
        </p:blipFill>
        <p:spPr>
          <a:xfrm>
            <a:off x="5843520" y="2457360"/>
            <a:ext cx="2497320" cy="252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908400">
            <a:off x="7119720" y="2421000"/>
            <a:ext cx="277560" cy="441360"/>
          </a:xfrm>
          <a:custGeom>
            <a:avLst/>
            <a:gdLst>
              <a:gd name="textAreaLeft" fmla="*/ 37080 w 277560"/>
              <a:gd name="textAreaRight" fmla="*/ 240480 w 277560"/>
              <a:gd name="textAreaTop" fmla="*/ 77040 h 441360"/>
              <a:gd name="textAreaBottom" fmla="*/ 320040 h 4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6240" y="49482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olded into container &amp;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5861160"/>
            <a:ext cx="5832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LED’s could be located around the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The box above could also be used to hold a ‘First Aid Ki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0160" y="1397160"/>
            <a:ext cx="16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Acrylic box to house 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9386" t="0" r="31303" b="0"/>
          <a:stretch/>
        </p:blipFill>
        <p:spPr>
          <a:xfrm>
            <a:off x="777960" y="1143000"/>
            <a:ext cx="3809880" cy="48182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11915" t="0" r="25911" b="0"/>
          <a:stretch/>
        </p:blipFill>
        <p:spPr>
          <a:xfrm>
            <a:off x="4708440" y="1554120"/>
            <a:ext cx="3032280" cy="3657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230120" y="14760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Hazzard Lights /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Emergency Breakdown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8120" y="1050840"/>
            <a:ext cx="4149720" cy="5532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48240" y="1736640"/>
            <a:ext cx="3406680" cy="4541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30120" y="14760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Hazzard Lights /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Emergency Breakdown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7240" y="1217520"/>
            <a:ext cx="3861000" cy="514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89200" y="5634000"/>
            <a:ext cx="2809800" cy="642600"/>
          </a:xfrm>
          <a:prstGeom prst="rect">
            <a:avLst/>
          </a:prstGeom>
          <a:solidFill>
            <a:srgbClr val="5da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adley Hand ITC"/>
              </a:rPr>
              <a:t>Electronics system /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8433800">
            <a:off x="2471760" y="5338440"/>
            <a:ext cx="317520" cy="295200"/>
          </a:xfrm>
          <a:custGeom>
            <a:avLst/>
            <a:gdLst>
              <a:gd name="textAreaLeft" fmla="*/ 55440 w 317520"/>
              <a:gd name="textAreaRight" fmla="*/ 230400 w 317520"/>
              <a:gd name="textAreaTop" fmla="*/ 39240 h 295200"/>
              <a:gd name="textAreaBottom" fmla="*/ 25596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9600" y="13273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Completed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21466" t="0" r="19463" b="0"/>
          <a:stretch/>
        </p:blipFill>
        <p:spPr>
          <a:xfrm>
            <a:off x="1863720" y="907920"/>
            <a:ext cx="4486320" cy="56898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230120" y="147600"/>
            <a:ext cx="64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6600"/>
                </a:solidFill>
                <a:latin typeface="Arial"/>
              </a:rPr>
              <a:t>Hazzard Lights / </a:t>
            </a: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Emergency Breakdown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811680" y="3159000"/>
            <a:ext cx="176364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364000" y="4339080"/>
            <a:ext cx="3048120" cy="3053520"/>
            <a:chOff x="5364000" y="4339080"/>
            <a:chExt cx="3048120" cy="305352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rcRect l="22436" t="15047" r="22911" b="0"/>
            <a:stretch/>
          </p:blipFill>
          <p:spPr>
            <a:xfrm rot="13445400">
              <a:off x="5868720" y="4727520"/>
              <a:ext cx="2038320" cy="22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 rot="21194400">
              <a:off x="6815160" y="5070600"/>
              <a:ext cx="41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451640" y="3068640"/>
              <a:ext cx="50508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68360" y="4292640"/>
            <a:ext cx="287640" cy="28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10400" y="3092400"/>
            <a:ext cx="1182600" cy="908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84360" y="355680"/>
            <a:ext cx="6621480" cy="56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 Design A Car Breakdown S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8101080" y="4435560"/>
            <a:ext cx="936720" cy="1170000"/>
            <a:chOff x="8101080" y="4435560"/>
            <a:chExt cx="936720" cy="1170000"/>
          </a:xfrm>
        </p:grpSpPr>
        <p:grpSp>
          <p:nvGrpSpPr>
            <p:cNvPr id="54" name=""/>
            <p:cNvGrpSpPr/>
            <p:nvPr/>
          </p:nvGrpSpPr>
          <p:grpSpPr>
            <a:xfrm>
              <a:off x="8101080" y="4435560"/>
              <a:ext cx="936720" cy="1170000"/>
              <a:chOff x="8101080" y="4435560"/>
              <a:chExt cx="936720" cy="1170000"/>
            </a:xfrm>
          </p:grpSpPr>
          <p:sp>
            <p:nvSpPr>
              <p:cNvPr id="55" name=""/>
              <p:cNvSpPr/>
              <p:nvPr/>
            </p:nvSpPr>
            <p:spPr>
              <a:xfrm flipV="1">
                <a:off x="8115480" y="4451040"/>
                <a:ext cx="484200" cy="9586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88520" y="4435560"/>
                <a:ext cx="426960" cy="1170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01080" y="5379840"/>
                <a:ext cx="936720" cy="216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394840" y="4748040"/>
              <a:ext cx="336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6239"/>
          <a:stretch/>
        </p:blipFill>
        <p:spPr>
          <a:xfrm>
            <a:off x="1547640" y="1557360"/>
            <a:ext cx="6680520" cy="40323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6573960" y="115920"/>
            <a:ext cx="1150920" cy="1368360"/>
            <a:chOff x="6573960" y="115920"/>
            <a:chExt cx="1150920" cy="13683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rcRect l="24435" t="6175" r="21169" b="3755"/>
            <a:stretch/>
          </p:blipFill>
          <p:spPr>
            <a:xfrm>
              <a:off x="6573960" y="115920"/>
              <a:ext cx="11509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rot="388800">
              <a:off x="7005240" y="4726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68360" y="3933720"/>
            <a:ext cx="1817640" cy="2160720"/>
            <a:chOff x="468360" y="3933720"/>
            <a:chExt cx="1817640" cy="2160720"/>
          </a:xfrm>
        </p:grpSpPr>
        <p:pic>
          <p:nvPicPr>
            <p:cNvPr id="65" name="" descr=""/>
            <p:cNvPicPr/>
            <p:nvPr/>
          </p:nvPicPr>
          <p:blipFill>
            <a:blip r:embed="rId3"/>
            <a:srcRect l="24435" t="6175" r="21169" b="3755"/>
            <a:stretch/>
          </p:blipFill>
          <p:spPr>
            <a:xfrm>
              <a:off x="468360" y="3933720"/>
              <a:ext cx="1817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 rot="388800">
              <a:off x="1179000" y="4598640"/>
              <a:ext cx="392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7800" y="119232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Design Brie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Design and manufacture a car breakdown sign that will indicate or 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warn passing motorists that a car has broken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Identification &amp;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ome type of electronic system is required that will flash a light ‘on’ and ‘off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Consider location of the electronics system and batte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The breakdown triangle should be compac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Ease of use i.e. assembly and pack aw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Stability is an important fac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573960" y="115920"/>
            <a:ext cx="1150920" cy="1368360"/>
            <a:chOff x="6573960" y="115920"/>
            <a:chExt cx="1150920" cy="1368360"/>
          </a:xfrm>
        </p:grpSpPr>
        <p:pic>
          <p:nvPicPr>
            <p:cNvPr id="70" name="" descr=""/>
            <p:cNvPicPr/>
            <p:nvPr/>
          </p:nvPicPr>
          <p:blipFill>
            <a:blip r:embed="rId1"/>
            <a:srcRect l="24435" t="6175" r="21169" b="3755"/>
            <a:stretch/>
          </p:blipFill>
          <p:spPr>
            <a:xfrm>
              <a:off x="6573960" y="115920"/>
              <a:ext cx="11509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388800">
              <a:off x="7005240" y="472680"/>
              <a:ext cx="322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24000"/>
            <a:ext cx="8208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Identification &amp;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Materials – non corrosive and robu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ize - easily seen by other car drivers from a distance of at least 60 met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Should be easy to see this sign at n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How and where will the sign be stored in the c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  <a:ea typeface="Arial"/>
              </a:rPr>
              <a:t>Manufacturing capability and process availab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23629" t="4960" r="21133" b="2710"/>
          <a:stretch/>
        </p:blipFill>
        <p:spPr>
          <a:xfrm>
            <a:off x="415800" y="1009800"/>
            <a:ext cx="3295800" cy="3952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32456" t="0" r="29798" b="0"/>
          <a:stretch/>
        </p:blipFill>
        <p:spPr>
          <a:xfrm>
            <a:off x="5132520" y="446040"/>
            <a:ext cx="2420640" cy="4602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9480" y="498780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ron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9680" y="501984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Rea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280" y="6272280"/>
            <a:ext cx="61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Wood profile used as a former used to vacuum formed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12625" t="22256" r="13209" b="10724"/>
          <a:stretch/>
        </p:blipFill>
        <p:spPr>
          <a:xfrm rot="1600200">
            <a:off x="2979360" y="4405320"/>
            <a:ext cx="4802040" cy="313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78360" y="4754520"/>
            <a:ext cx="8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m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398600">
            <a:off x="3749760" y="4702320"/>
            <a:ext cx="271440" cy="217440"/>
          </a:xfrm>
          <a:custGeom>
            <a:avLst/>
            <a:gdLst>
              <a:gd name="textAreaLeft" fmla="*/ 47520 w 271440"/>
              <a:gd name="textAreaRight" fmla="*/ 196920 w 27144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2436" t="15047" r="22911" b="0"/>
          <a:stretch/>
        </p:blipFill>
        <p:spPr>
          <a:xfrm>
            <a:off x="297000" y="996840"/>
            <a:ext cx="4216320" cy="4708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30080" t="16867" r="31115" b="9229"/>
          <a:stretch/>
        </p:blipFill>
        <p:spPr>
          <a:xfrm>
            <a:off x="4559400" y="1003320"/>
            <a:ext cx="3429000" cy="4692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9480" y="5226120"/>
            <a:ext cx="16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Front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11800" y="525780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Rear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2880" y="585000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Three single strips made from acrylic 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21640" y="3328920"/>
            <a:ext cx="9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fol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3836880"/>
            <a:ext cx="274680" cy="419040"/>
          </a:xfrm>
          <a:custGeom>
            <a:avLst/>
            <a:gdLst>
              <a:gd name="textAreaLeft" fmla="*/ 36720 w 274680"/>
              <a:gd name="textAreaRight" fmla="*/ 237960 w 274680"/>
              <a:gd name="textAreaTop" fmla="*/ 73080 h 419040"/>
              <a:gd name="textAreaBottom" fmla="*/ 303840 h 41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8400" y="2201760"/>
            <a:ext cx="395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473280" y="2052720"/>
            <a:ext cx="622440" cy="606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08280" y="2516040"/>
            <a:ext cx="822240" cy="59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6195960"/>
            <a:ext cx="64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How will part ‘D’ be attached to the acrylic stri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24213" t="23974" r="35743" b="3896"/>
          <a:stretch/>
        </p:blipFill>
        <p:spPr>
          <a:xfrm>
            <a:off x="539640" y="1773360"/>
            <a:ext cx="3456000" cy="446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6017" t="19545" r="5709" b="18927"/>
          <a:stretch/>
        </p:blipFill>
        <p:spPr>
          <a:xfrm>
            <a:off x="4572000" y="1268280"/>
            <a:ext cx="2664000" cy="1333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15611" t="3640" r="15408" b="3880"/>
          <a:stretch/>
        </p:blipFill>
        <p:spPr>
          <a:xfrm>
            <a:off x="4572000" y="3241800"/>
            <a:ext cx="2665440" cy="2563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8200" y="6195960"/>
            <a:ext cx="647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Material added to provide a basis for a weight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400040"/>
            <a:ext cx="344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Joint </a:t>
            </a:r>
            <a:r>
              <a:rPr b="1" lang="en-US" sz="2000" spc="-1" strike="noStrike" u="sng">
                <a:solidFill>
                  <a:srgbClr val="808080"/>
                </a:solidFill>
                <a:uFillTx/>
                <a:latin typeface="Bradley Hand ITC"/>
              </a:rPr>
              <a:t>mitred</a:t>
            </a: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 / riveted or bol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22713" t="20697" r="21918" b="3325"/>
          <a:stretch/>
        </p:blipFill>
        <p:spPr>
          <a:xfrm>
            <a:off x="560520" y="803160"/>
            <a:ext cx="3617640" cy="3562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23461" t="21691" r="22071" b="4155"/>
          <a:stretch/>
        </p:blipFill>
        <p:spPr>
          <a:xfrm>
            <a:off x="4302000" y="865080"/>
            <a:ext cx="3800520" cy="371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23076" t="22924" r="46847" b="2846"/>
          <a:stretch/>
        </p:blipFill>
        <p:spPr>
          <a:xfrm>
            <a:off x="4540320" y="3865680"/>
            <a:ext cx="1490760" cy="2643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21040" y="3538440"/>
            <a:ext cx="3206880" cy="3208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35360" y="2984400"/>
            <a:ext cx="371520" cy="635040"/>
          </a:xfrm>
          <a:custGeom>
            <a:avLst/>
            <a:gdLst>
              <a:gd name="textAreaLeft" fmla="*/ 49680 w 371520"/>
              <a:gd name="textAreaRight" fmla="*/ 321840 w 37152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86280" y="2970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Suggested Idea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68440" y="4091040"/>
            <a:ext cx="2547720" cy="1830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5600" y="3459240"/>
            <a:ext cx="3206880" cy="3208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82640" y="2627280"/>
            <a:ext cx="371520" cy="635040"/>
          </a:xfrm>
          <a:custGeom>
            <a:avLst/>
            <a:gdLst>
              <a:gd name="textAreaLeft" fmla="*/ 49680 w 371520"/>
              <a:gd name="textAreaRight" fmla="*/ 321840 w 371520"/>
              <a:gd name="textAreaTop" fmla="*/ 110880 h 635040"/>
              <a:gd name="textAreaBottom" fmla="*/ 460440 h 63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631188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Bradley Hand ITC"/>
              </a:rPr>
              <a:t>Rear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21:38:04Z</dcterms:created>
  <dc:creator>rmoffatt</dc:creator>
  <dc:description/>
  <dc:language>en-US</dc:language>
  <cp:lastModifiedBy>Elizabeth Davis</cp:lastModifiedBy>
  <dcterms:modified xsi:type="dcterms:W3CDTF">2007-05-02T20:54:35Z</dcterms:modified>
  <cp:revision>30</cp:revision>
  <dc:subject/>
  <dc:title>Slide 1</dc:title>
</cp:coreProperties>
</file>