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7A165-DDF3-4451-9500-BD7AC63274C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: An knowledge of construction and manufacturing techniques and processes will be of benef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sidering appropriate ideas / concepts when designing for manuf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should model (designing) demonstrate how we think, see shapes and form, use reference materials and mood boards to generate ideas. Also, show how an idea/concept can be developed in design detail and showing constructional details i.e. how the parts intend to fit together.  Showing how the pcb, battery are located and se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for manufacturing – students should show graphically how the parts fit together; use notes / anno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 explain your ideas / think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s of the wooden blocks will be calculated by the teacher and this is the starting point for the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the vacuum forming process is important before starting to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ossible use 2-3mm rigid polystyrene sheet to accommodate complex shapes which also provides rigidity and a feeling of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" name=""/>
          <p:cNvSpPr/>
          <p:nvPr/>
        </p:nvSpPr>
        <p:spPr>
          <a:xfrm>
            <a:off x="755640" y="260280"/>
            <a:ext cx="810432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000000"/>
                </a:solidFill>
                <a:latin typeface="Arial Black"/>
              </a:rPr>
              <a:t>Design and make a vehicle that will travel exactly 1 Metr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000000"/>
                </a:solidFill>
                <a:latin typeface="Arial Black"/>
              </a:rPr>
              <a:t>then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052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imple design idea for wal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122800" cy="1806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1943280" cy="152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254484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5373720"/>
            <a:ext cx="63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ith the addition of a stairs profile and inclined at an angle you have an escalator. Add shelve plates at right angles to the belt, mount vertically and you have a dumb waiter or a simple revolving display, etc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720" y="119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557360"/>
            <a:ext cx="63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cc3300"/>
                </a:solidFill>
                <a:latin typeface="Arial"/>
                <a:ea typeface="Arial"/>
              </a:rPr>
              <a:t>Some or all of the following areas may be integrated and incorporated into the final projec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7080" y="2421000"/>
            <a:ext cx="561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Design theory and pract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ppropriate material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Marking out and fitting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ssembly and join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lectronic circuit design theor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Mould making theor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Finishes, surface and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considerations, general and project speci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97080" y="5445000"/>
            <a:ext cx="50673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4200" y="1231920"/>
            <a:ext cx="7057800" cy="529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2200" y="1144440"/>
            <a:ext cx="8534520" cy="5164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37000" y="5794200"/>
            <a:ext cx="419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inature electric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8000" y="4024440"/>
            <a:ext cx="3456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a small DC motor that is useful for low power projects – larger motors are available that supply more torque but require mor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360" y="1327320"/>
            <a:ext cx="5583240" cy="46940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4878360" y="474192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tor connections from the 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506400" y="4817880"/>
            <a:ext cx="152388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82520" y="4818240"/>
            <a:ext cx="2971800" cy="838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5686560" cy="5302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19240" y="5621400"/>
            <a:ext cx="556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rushes – brush against the armature to bring current to the coil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57520" y="4402080"/>
            <a:ext cx="3049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38200" y="2878200"/>
            <a:ext cx="228600" cy="274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95560" y="1278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tor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1520" y="2133720"/>
            <a:ext cx="7315200" cy="3719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27520" y="1173240"/>
            <a:ext cx="5029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rmature: note coils of wire which carry current from brushes to create magne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5205240" cy="4681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19440" y="1311120"/>
            <a:ext cx="3886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gnets inside case drive armatur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2073240"/>
            <a:ext cx="1377720" cy="2906640"/>
          </a:xfrm>
          <a:custGeom>
            <a:avLst/>
            <a:gdLst/>
            <a:ahLst/>
            <a:rect l="l" t="t" r="r" b="b"/>
            <a:pathLst>
              <a:path w="868" h="1831">
                <a:moveTo>
                  <a:pt x="868" y="0"/>
                </a:moveTo>
                <a:lnTo>
                  <a:pt x="0" y="18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90480" y="2073240"/>
            <a:ext cx="2590920" cy="1523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6559560" cy="5376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02280" y="998640"/>
            <a:ext cx="2209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gnets removed from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87320" y="2065320"/>
            <a:ext cx="3429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2640" y="2141640"/>
            <a:ext cx="152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96960" y="564660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39960" y="579888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3850" t="0" r="20998" b="0"/>
          <a:stretch/>
        </p:blipFill>
        <p:spPr>
          <a:xfrm>
            <a:off x="6300720" y="1700280"/>
            <a:ext cx="1970280" cy="41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268280"/>
            <a:ext cx="756108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imple desig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ne piece frame or body to support additional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esign to incorporate an existing circuit from pha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- Monostable 555 timer circuit cho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- Circuit may be a separate board or Milled/cut from a copper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clad board which could also be the support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- Electronic components mounted directly to the frame/bod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645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vehi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3960720" cy="251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5440" y="141300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vehi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4720" y="5445000"/>
            <a:ext cx="6192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n additional transistor required in the circuit to drive the relay as the output on pin 3 not sufficient to drive the relay direct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power supply used to drive the mo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9080" y="979560"/>
            <a:ext cx="3384720" cy="2146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044720" y="3139920"/>
            <a:ext cx="6769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olycarbonate body frame shaped and drilled with motor mounted directly to fra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orm gear system to drive the rear whee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circuit board, attached to the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 monostable 555 timer circuit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ravel distance obtained by adjusting the Resistance/ Capacitance values in the potential divider circu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output on pin 3 timed to give required travel depending on the gearing system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386064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dditional views of components and assemblies mounted to th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952720" cy="221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56000" y="4221000"/>
            <a:ext cx="3457800" cy="223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132000" y="907920"/>
            <a:ext cx="4464360" cy="2784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250920" y="1700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ircuit with additional components a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3850" t="0" r="20998" b="0"/>
          <a:stretch/>
        </p:blipFill>
        <p:spPr>
          <a:xfrm>
            <a:off x="6300720" y="1700280"/>
            <a:ext cx="1970280" cy="417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90792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 of Top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227664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Body/Frame desig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349360"/>
            <a:ext cx="4967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ketching of idea’s, dimensioning, selection of suitable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99736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Processes us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06864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Marking out, cutting, filing, drilling, bending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42900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ssembly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50028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crewing and Tapping, Soldering, Pop riveting, Adhesi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422100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ive Syst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4149720"/>
            <a:ext cx="431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Gear boxes ,Both bought and constructed, Bevel gears, Worm Gears, Pulley Systems, Belt &amp; Chain Drives, Drive reversal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53737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inish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44500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Polishing, Painting, Vacuum forming of exterior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86900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lectronic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4869000"/>
            <a:ext cx="46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Components, Circuit design, Board layout, Timing circuits, Electronic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80536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cc3300"/>
                </a:solidFill>
                <a:latin typeface="Arial"/>
                <a:ea typeface="Arial"/>
              </a:rPr>
              <a:t>Most or all of the above with associated theory may be integrated into the overall design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48428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148428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llocation of resources, Time, Materials, Equipment, Costs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0000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47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management – applied 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iation by task parameters – 3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impl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lycarbonat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acuum formed body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ments of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and energy –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046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ould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111744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 moulds may be made by gluing layers of material together and then shaping using a variety of tools and methods to arrive at the require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3432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terials may be MDF, Balsa wood, Modelling clay, et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0621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When using wood as a mould material the bottom layer is usually glued separated by a sheet of paper so that it may be easily removed and used as the base for you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52228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Vacuum forming then used to obtain the finished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60148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ough sample shown in the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42861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ould design important when considering the easy removal of the vacuum formed shell. No overhanging lips, negative angl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909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ample mould with Vacuum formed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302080"/>
            <a:ext cx="35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cc3300"/>
                </a:solidFill>
                <a:latin typeface="Arial"/>
                <a:ea typeface="Arial"/>
              </a:rPr>
              <a:t>Best results obtained from 2mm sh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059360" cy="261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3686400" cy="274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979640" y="436572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colour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otion /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2360" y="1125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possible ideas on a vehicle or motion th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1628640"/>
            <a:ext cx="58309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Use of sensors: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      Anti crash /avoidance de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Direction change/ Light sensing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Line follo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14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Airport Rolling wal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4005360"/>
            <a:ext cx="58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ll of the processes and manufacturing techniques used in the previous example also required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4797360"/>
            <a:ext cx="56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 addition you could incorporate different drive mechanisms, load sensors, motion detectors, counter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5589720"/>
            <a:ext cx="54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consid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0:37:43Z</dcterms:created>
  <dc:creator>rmoffatt</dc:creator>
  <dc:description/>
  <dc:language>en-US</dc:language>
  <cp:lastModifiedBy>Elizabeth Davis</cp:lastModifiedBy>
  <dcterms:modified xsi:type="dcterms:W3CDTF">2007-05-03T11:37:41Z</dcterms:modified>
  <cp:revision>74</cp:revision>
  <dc:subject/>
  <dc:title>Slide 1</dc:title>
</cp:coreProperties>
</file>