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2.gif" ContentType="image/gif"/>
  <Override PartName="/ppt/media/image58.png" ContentType="image/png"/>
  <Override PartName="/ppt/media/image3.jpeg" ContentType="image/jpeg"/>
  <Override PartName="/ppt/media/image67.png" ContentType="image/png"/>
  <Override PartName="/ppt/media/image37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52.png" ContentType="image/png"/>
  <Override PartName="/ppt/media/image50.jpeg" ContentType="image/jpeg"/>
  <Override PartName="/ppt/media/image27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26.png" ContentType="image/png"/>
  <Override PartName="/ppt/media/image49.jpeg" ContentType="image/jpeg"/>
  <Override PartName="/ppt/media/image20.jpeg" ContentType="image/jpeg"/>
  <Override PartName="/ppt/media/image61.png" ContentType="image/png"/>
  <Override PartName="/ppt/media/image72.png" ContentType="image/png"/>
  <Override PartName="/ppt/media/image70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5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57.jpeg" ContentType="image/jpeg"/>
  <Override PartName="/ppt/media/image6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DEE-E05E-45DF-93BA-45B1BC1B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3EC-2B6F-44FF-8071-D5FDF5C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EDE-1249-4AE6-A618-5E965B3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846-BA7D-4B73-B28F-E74DA56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6B5-0EB3-4CD6-A1D1-E97F9B3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FF6-36B5-4357-81FA-04FC49C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774-751D-445C-A94D-263051CE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D7E-7872-44A0-ACA3-35047FB5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5A2-9F31-479C-8E2E-A6273698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4A1-8183-478A-85E2-1B42F78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E53-87B0-40D2-A72E-6FBF36E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A84-29C6-4255-9C68-94142B6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5F6-D3EC-4AAE-B9DE-711C0966F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8440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pplied Control  System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otic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otic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6" descr="cartesian.gif"/>
          <p:cNvPicPr/>
          <p:nvPr/>
        </p:nvPicPr>
        <p:blipFill>
          <a:blip r:embed="rId2"/>
          <a:stretch/>
        </p:blipFill>
        <p:spPr>
          <a:xfrm>
            <a:off x="4788000" y="4076640"/>
            <a:ext cx="3060720" cy="250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61920"/>
            <a:ext cx="728352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amili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three axes at 90°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coordinates needed to fin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ght-hand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Rob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prisma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Diarmuid\My Documents\My Pictures\T4 control\324px-Coord_planes_color_svg.png"/>
          <p:cNvPicPr/>
          <p:nvPr/>
        </p:nvPicPr>
        <p:blipFill>
          <a:blip r:embed="rId3"/>
          <a:stretch/>
        </p:blipFill>
        <p:spPr>
          <a:xfrm>
            <a:off x="5580000" y="1341360"/>
            <a:ext cx="2500200" cy="2090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257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rtesian Coordinat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4076640"/>
            <a:ext cx="28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2570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rtesian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981000"/>
            <a:ext cx="3789360" cy="2714760"/>
            <a:chOff x="250920" y="981000"/>
            <a:chExt cx="3789360" cy="2714760"/>
          </a:xfrm>
        </p:grpSpPr>
        <p:pic>
          <p:nvPicPr>
            <p:cNvPr id="77" name="Picture 4" descr="e_il18.jpg"/>
            <p:cNvPicPr/>
            <p:nvPr/>
          </p:nvPicPr>
          <p:blipFill>
            <a:blip r:embed="rId2"/>
            <a:stretch/>
          </p:blipFill>
          <p:spPr>
            <a:xfrm>
              <a:off x="468360" y="981000"/>
              <a:ext cx="357192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0920" y="1557360"/>
              <a:ext cx="115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pplying adhesive to a pane of gl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00720" y="981000"/>
            <a:ext cx="4103640" cy="2341800"/>
            <a:chOff x="4500720" y="981000"/>
            <a:chExt cx="4103640" cy="2341800"/>
          </a:xfrm>
        </p:grpSpPr>
        <p:pic>
          <p:nvPicPr>
            <p:cNvPr id="80" name="Picture 5" descr="e_il19.jpg"/>
            <p:cNvPicPr/>
            <p:nvPr/>
          </p:nvPicPr>
          <p:blipFill>
            <a:blip r:embed="rId3"/>
            <a:stretch/>
          </p:blipFill>
          <p:spPr>
            <a:xfrm>
              <a:off x="4500720" y="981000"/>
              <a:ext cx="335268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516720" y="2852640"/>
              <a:ext cx="2087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ferring ICs from a pallet to a holding lo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573360"/>
            <a:ext cx="3286080" cy="2918160"/>
            <a:chOff x="755640" y="3573360"/>
            <a:chExt cx="3286080" cy="2918160"/>
          </a:xfrm>
        </p:grpSpPr>
        <p:pic>
          <p:nvPicPr>
            <p:cNvPr id="83" name="Picture 7" descr="e_il22.jpg"/>
            <p:cNvPicPr/>
            <p:nvPr/>
          </p:nvPicPr>
          <p:blipFill>
            <a:blip r:embed="rId4"/>
            <a:stretch/>
          </p:blipFill>
          <p:spPr>
            <a:xfrm>
              <a:off x="755640" y="3573360"/>
              <a:ext cx="328608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00000" y="60930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ferring &amp; Stack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84720" y="3649680"/>
            <a:ext cx="3929040" cy="2595600"/>
            <a:chOff x="4284720" y="3649680"/>
            <a:chExt cx="3929040" cy="2595600"/>
          </a:xfrm>
        </p:grpSpPr>
        <p:pic>
          <p:nvPicPr>
            <p:cNvPr id="86" name="Picture 6" descr="e_il20.jpg"/>
            <p:cNvPicPr/>
            <p:nvPr/>
          </p:nvPicPr>
          <p:blipFill>
            <a:blip r:embed="rId5"/>
            <a:stretch/>
          </p:blipFill>
          <p:spPr>
            <a:xfrm>
              <a:off x="4284720" y="3649680"/>
              <a:ext cx="392904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67280" y="5950080"/>
              <a:ext cx="21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mera monitoring of produ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182520"/>
            <a:ext cx="61563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ylindrical Coordinat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4" descr="cs7.gif"/>
          <p:cNvPicPr/>
          <p:nvPr/>
        </p:nvPicPr>
        <p:blipFill>
          <a:blip r:embed="rId2"/>
          <a:stretch/>
        </p:blipFill>
        <p:spPr>
          <a:xfrm>
            <a:off x="6084720" y="1484280"/>
            <a:ext cx="199548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65912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A- located on cylinder of known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ight Z from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point - angle on the XY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716280"/>
            <a:ext cx="28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3716280"/>
            <a:ext cx="288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3716280"/>
            <a:ext cx="503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716280"/>
            <a:ext cx="7920000" cy="2665080"/>
            <a:chOff x="539640" y="3716280"/>
            <a:chExt cx="7920000" cy="2665080"/>
          </a:xfrm>
        </p:grpSpPr>
        <p:pic>
          <p:nvPicPr>
            <p:cNvPr id="95" name="Picture 2" descr="C:\Documents and Settings\Diarmuid\My Documents\My Pictures\T4 control\cylindrical2.gif"/>
            <p:cNvPicPr/>
            <p:nvPr/>
          </p:nvPicPr>
          <p:blipFill>
            <a:blip r:embed="rId3"/>
            <a:stretch/>
          </p:blipFill>
          <p:spPr>
            <a:xfrm>
              <a:off x="6012000" y="3716280"/>
              <a:ext cx="244764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39640" y="3789360"/>
              <a:ext cx="5759640" cy="25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ylindrical Robo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sed mainly for assemb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eatability and accuracy - Medical tes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wo prismatic joints and one rotary joi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720" y="558972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 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956720" y="5157720"/>
              <a:ext cx="2872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244000" y="3716280"/>
            <a:ext cx="431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3716280"/>
            <a:ext cx="360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9820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ylindrical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T5CA66A84ZCARK3YXZCA09Y4JCCAZKMBAXCA2R75KOCAPUPL03CAJNDHCOCATUIHNECA99S0GLCAZEQEB9CA7Q60ZVCAXLDJBTCADU8DD8CAOALG5KCABPMUQ8CAXJE6PBCAWXZV0OCA83RUZACA90WGZN.jpg"/>
          <p:cNvPicPr/>
          <p:nvPr/>
        </p:nvPicPr>
        <p:blipFill>
          <a:blip r:embed="rId2"/>
          <a:stretch/>
        </p:blipFill>
        <p:spPr>
          <a:xfrm>
            <a:off x="900000" y="4357800"/>
            <a:ext cx="1800360" cy="1695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ylindrical.bmp"/>
          <p:cNvPicPr/>
          <p:nvPr/>
        </p:nvPicPr>
        <p:blipFill>
          <a:blip r:embed="rId3"/>
          <a:stretch/>
        </p:blipFill>
        <p:spPr>
          <a:xfrm>
            <a:off x="6012000" y="4149720"/>
            <a:ext cx="1398600" cy="171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na cylindrical.jpg"/>
          <p:cNvPicPr/>
          <p:nvPr/>
        </p:nvPicPr>
        <p:blipFill>
          <a:blip r:embed="rId4"/>
          <a:stretch/>
        </p:blipFill>
        <p:spPr>
          <a:xfrm>
            <a:off x="2771640" y="1413000"/>
            <a:ext cx="2838600" cy="188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68360" y="3573360"/>
            <a:ext cx="4105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extensively in med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NA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98080"/>
            <a:ext cx="716436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pherical/ Polar Coordin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129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 to finding a point on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6" descr="erde.jpg"/>
          <p:cNvPicPr/>
          <p:nvPr/>
        </p:nvPicPr>
        <p:blipFill>
          <a:blip r:embed="rId2"/>
          <a:stretch/>
        </p:blipFill>
        <p:spPr>
          <a:xfrm>
            <a:off x="5651640" y="1413000"/>
            <a:ext cx="20160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6560" y="3573360"/>
            <a:ext cx="7790040" cy="3019320"/>
            <a:chOff x="466560" y="3573360"/>
            <a:chExt cx="7790040" cy="3019320"/>
          </a:xfrm>
        </p:grpSpPr>
        <p:sp>
          <p:nvSpPr>
            <p:cNvPr id="110" name=""/>
            <p:cNvSpPr/>
            <p:nvPr/>
          </p:nvSpPr>
          <p:spPr>
            <a:xfrm>
              <a:off x="466560" y="3573360"/>
              <a:ext cx="6696360" cy="30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pherical / Polar Robo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pot, Gas and Arc We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aching horizontal or incli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nnels /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obot sometimes known as the gun turr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5292720" y="3573360"/>
              <a:ext cx="29638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58920" y="6165720"/>
              <a:ext cx="14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 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667280" y="5734080"/>
              <a:ext cx="360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7080" y="189000"/>
            <a:ext cx="5183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olar Robotic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olar.jpg"/>
          <p:cNvPicPr/>
          <p:nvPr/>
        </p:nvPicPr>
        <p:blipFill>
          <a:blip r:embed="rId2"/>
          <a:stretch/>
        </p:blipFill>
        <p:spPr>
          <a:xfrm>
            <a:off x="1116000" y="1125360"/>
            <a:ext cx="2519280" cy="250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welding.jpg"/>
          <p:cNvPicPr/>
          <p:nvPr/>
        </p:nvPicPr>
        <p:blipFill>
          <a:blip r:embed="rId3"/>
          <a:stretch/>
        </p:blipFill>
        <p:spPr>
          <a:xfrm>
            <a:off x="5148360" y="3933720"/>
            <a:ext cx="2449440" cy="240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19890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extensively in the car manufactur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50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392436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Scara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575640"/>
            <a:ext cx="799308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Developed to meet the needs of moder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ast movement with light pay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apid placements of electronic components on PCB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Combination of two horizontal rotational axes and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nea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7" descr="scaragripper.jpg"/>
          <p:cNvPicPr/>
          <p:nvPr/>
        </p:nvPicPr>
        <p:blipFill>
          <a:blip r:embed="rId2"/>
          <a:stretch/>
        </p:blipFill>
        <p:spPr>
          <a:xfrm>
            <a:off x="4788000" y="3500280"/>
            <a:ext cx="2303280" cy="268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45000" y="3425760"/>
            <a:ext cx="54000" cy="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45000" y="3425760"/>
            <a:ext cx="54000" cy="7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58920" y="3500280"/>
            <a:ext cx="2636640" cy="260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393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2000" y="44280"/>
            <a:ext cx="5292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cara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28800"/>
            <a:ext cx="3678480" cy="2857320"/>
            <a:chOff x="179280" y="928800"/>
            <a:chExt cx="3678480" cy="2857320"/>
          </a:xfrm>
        </p:grpSpPr>
        <p:pic>
          <p:nvPicPr>
            <p:cNvPr id="128" name="Picture 6" descr="Scara 1.jpg"/>
            <p:cNvPicPr/>
            <p:nvPr/>
          </p:nvPicPr>
          <p:blipFill>
            <a:blip r:embed="rId2"/>
            <a:stretch/>
          </p:blipFill>
          <p:spPr>
            <a:xfrm>
              <a:off x="285840" y="928800"/>
              <a:ext cx="357192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79280" y="1341360"/>
              <a:ext cx="15130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esting a calculato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mera observ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981000"/>
            <a:ext cx="4753080" cy="2857680"/>
            <a:chOff x="3564000" y="981000"/>
            <a:chExt cx="4753080" cy="2857680"/>
          </a:xfrm>
        </p:grpSpPr>
        <p:pic>
          <p:nvPicPr>
            <p:cNvPr id="131" name="Picture 8" descr="scara- 2.jpg"/>
            <p:cNvPicPr/>
            <p:nvPr/>
          </p:nvPicPr>
          <p:blipFill>
            <a:blip r:embed="rId3"/>
            <a:stretch/>
          </p:blipFill>
          <p:spPr>
            <a:xfrm>
              <a:off x="3564000" y="981000"/>
              <a:ext cx="385740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804000" y="2060640"/>
              <a:ext cx="1513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tacking lightweigh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5840" y="3857760"/>
            <a:ext cx="4070160" cy="2643120"/>
            <a:chOff x="285840" y="3857760"/>
            <a:chExt cx="4070160" cy="2643120"/>
          </a:xfrm>
        </p:grpSpPr>
        <p:pic>
          <p:nvPicPr>
            <p:cNvPr id="134" name="Picture 9" descr="scara- 3.jpg"/>
            <p:cNvPicPr/>
            <p:nvPr/>
          </p:nvPicPr>
          <p:blipFill>
            <a:blip r:embed="rId4"/>
            <a:stretch/>
          </p:blipFill>
          <p:spPr>
            <a:xfrm>
              <a:off x="285840" y="3857760"/>
              <a:ext cx="35719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56000" y="4479840"/>
              <a:ext cx="180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ecision assemb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29080" y="3929040"/>
            <a:ext cx="3672000" cy="2571840"/>
            <a:chOff x="4429080" y="3929040"/>
            <a:chExt cx="3672000" cy="2571840"/>
          </a:xfrm>
        </p:grpSpPr>
        <p:pic>
          <p:nvPicPr>
            <p:cNvPr id="137" name="Picture 10" descr="Scara 4.jpg"/>
            <p:cNvPicPr/>
            <p:nvPr/>
          </p:nvPicPr>
          <p:blipFill>
            <a:blip r:embed="rId5"/>
            <a:stretch/>
          </p:blipFill>
          <p:spPr>
            <a:xfrm>
              <a:off x="4429080" y="3929040"/>
              <a:ext cx="35719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948360" y="414972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Multi Fun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09440"/>
            <a:ext cx="42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Revolute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79160"/>
            <a:ext cx="8207280" cy="27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e Revolute or Puma most resembles the human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e Robot rotates much like the human wa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deal for spray painting and welding as it mimics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468520" cy="328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2454480" cy="278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96360" y="52293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ri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165800" y="551664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4500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evolut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hermal-spray.jpg"/>
          <p:cNvPicPr/>
          <p:nvPr/>
        </p:nvPicPr>
        <p:blipFill>
          <a:blip r:embed="rId2"/>
          <a:stretch/>
        </p:blipFill>
        <p:spPr>
          <a:xfrm>
            <a:off x="826920" y="907920"/>
            <a:ext cx="3143520" cy="378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welding_cell.jpg"/>
          <p:cNvPicPr/>
          <p:nvPr/>
        </p:nvPicPr>
        <p:blipFill>
          <a:blip r:embed="rId3"/>
          <a:stretch/>
        </p:blipFill>
        <p:spPr>
          <a:xfrm>
            <a:off x="4427640" y="3213000"/>
            <a:ext cx="3673440" cy="302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40360" y="9079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ray Pa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911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l Inert Gas We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2000" y="115920"/>
            <a:ext cx="594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Arial"/>
              </a:rPr>
              <a:t>Robotic Syllabus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3040" y="1010880"/>
            <a:ext cx="791244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&amp;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Ord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Robotic joints; degrees of freedom; coordinat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Forces and moments;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to Robotic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Classification of robots by structure; applications, with an emphasis on manufactu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 of open and closed loop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 of operation and control of d.c., servos and stepper mo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/D and D/A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ogue to digital and digital to analogue converters (A/D and D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1640" y="109440"/>
            <a:ext cx="435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Humanoid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57240"/>
            <a:ext cx="648000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Previously developed for recreation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ntertainmen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search into use for household cho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aid for elderly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3CARHO0AJCAK8IY92CAB09TFLCATVCFUWCAKTF4G0CAGT8BL1CAIIY8L3CAU00BO2CALRSCEVCA4110OICAC08OT0CA7407RWCA0G0HOLCA7YX6HDCAUZBWQ5CAWL2QO3CAYU3SV8CAZFLQAMCATBU3NG.jpg"/>
          <p:cNvPicPr/>
          <p:nvPr/>
        </p:nvPicPr>
        <p:blipFill>
          <a:blip r:embed="rId2"/>
          <a:stretch/>
        </p:blipFill>
        <p:spPr>
          <a:xfrm>
            <a:off x="6443640" y="1341360"/>
            <a:ext cx="1600200" cy="1778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medical-robot.jpg"/>
          <p:cNvPicPr/>
          <p:nvPr/>
        </p:nvPicPr>
        <p:blipFill>
          <a:blip r:embed="rId4"/>
          <a:stretch/>
        </p:blipFill>
        <p:spPr>
          <a:xfrm>
            <a:off x="1187280" y="3357720"/>
            <a:ext cx="292284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09440"/>
            <a:ext cx="42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Moments and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1144080"/>
            <a:ext cx="835164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forces acting about a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election of servo - determined by required 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s = Force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s = Load and robot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moment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or of safety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7" descr="mechanics_staticsmomentarm.gif"/>
          <p:cNvPicPr/>
          <p:nvPr/>
        </p:nvPicPr>
        <p:blipFill>
          <a:blip r:embed="rId2"/>
          <a:stretch/>
        </p:blipFill>
        <p:spPr>
          <a:xfrm>
            <a:off x="5219640" y="2349360"/>
            <a:ext cx="2905200" cy="1928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Diarmuid\My Documents\My Pictures\T4 control\mechanics_staticsbeerarm.gif"/>
          <p:cNvPicPr/>
          <p:nvPr/>
        </p:nvPicPr>
        <p:blipFill>
          <a:blip r:embed="rId3"/>
          <a:stretch/>
        </p:blipFill>
        <p:spPr>
          <a:xfrm>
            <a:off x="1547640" y="4653000"/>
            <a:ext cx="3105360" cy="183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3280" y="109440"/>
            <a:ext cx="2268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ctu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144080"/>
            <a:ext cx="75614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s- control the movement of a rob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as Actuators there are three comm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o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Content Placeholder 6" descr="bottom2.jpg"/>
          <p:cNvPicPr/>
          <p:nvPr/>
        </p:nvPicPr>
        <p:blipFill>
          <a:blip r:embed="rId2"/>
          <a:stretch/>
        </p:blipFill>
        <p:spPr>
          <a:xfrm>
            <a:off x="4140360" y="2997360"/>
            <a:ext cx="3298680" cy="3671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2472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epper mo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92720" y="4508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9640" y="109440"/>
            <a:ext cx="2411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C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1840" y="1144080"/>
            <a:ext cx="587088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mmon and chea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ed with two wires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s large amounts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not be wired straight from a 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offer accuracy or spe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5" descr="DC_Motor.jpg"/>
          <p:cNvPicPr/>
          <p:nvPr/>
        </p:nvPicPr>
        <p:blipFill>
          <a:blip r:embed="rId2"/>
          <a:stretch/>
        </p:blipFill>
        <p:spPr>
          <a:xfrm>
            <a:off x="2987640" y="407664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3419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17120" y="928800"/>
            <a:ext cx="8102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has many electro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controlled by sequential turning on and of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ulse moves another step, providing a step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s a step angle of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control with a larg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step angle achieved with the toothed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ontent Placeholder 6" descr="steps.gif"/>
          <p:cNvPicPr/>
          <p:nvPr/>
        </p:nvPicPr>
        <p:blipFill>
          <a:blip r:embed="rId2"/>
          <a:stretch/>
        </p:blipFill>
        <p:spPr>
          <a:xfrm>
            <a:off x="6300720" y="2924280"/>
            <a:ext cx="214488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5120" y="172800"/>
            <a:ext cx="5133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Content Placeholder 6" descr="241px-Stepper_motor_1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5" descr="241px-Stepper_motor_2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21744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5" descr="241px-Stepper_motor_3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1890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4000" y="37893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5" descr="241px-Stepper_motor_4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55640" y="1890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1080" y="4365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33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727236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6 degree step angle =&gt; 100 steps per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teeth, 4 step= 1 tooth =&gt; 100 steps for 25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led using output Blocks on a 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equence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erse sequence - revers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ontent Placeholder 10" descr="Table.JPG"/>
          <p:cNvPicPr/>
          <p:nvPr/>
        </p:nvPicPr>
        <p:blipFill>
          <a:blip r:embed="rId2"/>
          <a:stretch/>
        </p:blipFill>
        <p:spPr>
          <a:xfrm>
            <a:off x="1763640" y="3933720"/>
            <a:ext cx="5286600" cy="21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8000" y="189000"/>
            <a:ext cx="234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28880" y="1125000"/>
            <a:ext cx="75038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s of freedom &amp; Robo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fication &amp; coordinate systems /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s and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tors, DC motors, Stepper and Servo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/D &amp; D/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00" y="115920"/>
            <a:ext cx="2772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939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o offers smoothe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e to a specific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 good torqu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for powering robot arm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 of revolution is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applications which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Content Placeholder 5" descr="M0CAY6FL6KCAQP7NEHCA05P1T3CAZBZQ1NCAXD1594CA9LMNE3CAB1XBXDCAXDP7ZDCAAOEDTGCAUF935KCAUKJ675CAWA6YY8CAXUN0TKCAKWH37PCAKLAYZ0CAEVGFP1CAXECGRQCA9VUOZNCAY0EW5J.jpg"/>
          <p:cNvPicPr/>
          <p:nvPr/>
        </p:nvPicPr>
        <p:blipFill>
          <a:blip r:embed="rId2"/>
          <a:stretch/>
        </p:blipFill>
        <p:spPr>
          <a:xfrm>
            <a:off x="6084720" y="2565360"/>
            <a:ext cx="161316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4560" y="109440"/>
            <a:ext cx="291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7993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in motor, gearbox, driver controller and potenti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wires - 0v, 5v and PIC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ometer connected to gearbox - monitors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ition is distorted - automatic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ontent Placeholder 6" descr="Exploded servo.JPG"/>
          <p:cNvPicPr/>
          <p:nvPr/>
        </p:nvPicPr>
        <p:blipFill>
          <a:blip r:embed="rId2"/>
          <a:stretch/>
        </p:blipFill>
        <p:spPr>
          <a:xfrm>
            <a:off x="6443640" y="2556000"/>
            <a:ext cx="1792440" cy="3321000"/>
          </a:xfrm>
          <a:prstGeom prst="rect">
            <a:avLst/>
          </a:prstGeom>
          <a:ln w="0">
            <a:noFill/>
          </a:ln>
        </p:spPr>
      </p:pic>
      <p:pic>
        <p:nvPicPr>
          <p:cNvPr id="191" name="hsr1422cr-500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2125800" cy="2565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5435640" y="443700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rcRect l="19583" t="32000" r="24167" b="24668"/>
          <a:stretch/>
        </p:blipFill>
        <p:spPr>
          <a:xfrm>
            <a:off x="250920" y="3933720"/>
            <a:ext cx="3473280" cy="1955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3760" y="4091040"/>
            <a:ext cx="79848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360" y="44280"/>
            <a:ext cx="471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74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Modulation (0.75ms to 2.25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takes servo from 0° to 150°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str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2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programming block, pulse width and output pin must b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can also be expressed a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2438280" cy="2476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22092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5080" y="109440"/>
            <a:ext cx="2843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79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name for the “Hand” that is attached to the end of rob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for grasping, drilling, painting, weld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end effectors allow for a standard robo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 numerous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different types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ippers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219640" y="1700280"/>
          <a:ext cx="2200320" cy="24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1700280"/>
                    <a:ext cx="22003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70036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068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2987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480" y="1095480"/>
            <a:ext cx="96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are used where a specific oper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carried out such as welding, painting dr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c.  - the tool is attached to the mounting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ipper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cal, magnetic and pneum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fingered most common, also multi-fingered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s force that causes enough friction between objec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 for it to be li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some objects which may be delicate / br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WPCAYNF8QHCA70DPUCCA2KWDKZCA9OS5FJCAD23PGSCAXN01HMCAHX3QO4CACGN0M9CAH8NL0FCAKP0WJVCAE8TKVNCANF6U1SCA8HMHGUCAPIIAUDCAJA9NZ5CA45X5U6CABGPU4QCA7XRTTQCAEQ3ZEP.jpg"/>
          <p:cNvPicPr/>
          <p:nvPr/>
        </p:nvPicPr>
        <p:blipFill>
          <a:blip r:embed="rId2"/>
          <a:stretch/>
        </p:blipFill>
        <p:spPr>
          <a:xfrm>
            <a:off x="7581960" y="2781360"/>
            <a:ext cx="820800" cy="136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63640" y="115920"/>
            <a:ext cx="3132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480" y="95040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e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rous material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 and permanent magnet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neu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tion cups from plastic or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 even surfac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ight &amp; size of object determines size and number of 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schunknp36.jpg"/>
          <p:cNvPicPr/>
          <p:nvPr/>
        </p:nvPicPr>
        <p:blipFill>
          <a:blip r:embed="rId2"/>
          <a:stretch/>
        </p:blipFill>
        <p:spPr>
          <a:xfrm>
            <a:off x="5580000" y="1052640"/>
            <a:ext cx="2303640" cy="219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SSP.jpg"/>
          <p:cNvPicPr/>
          <p:nvPr/>
        </p:nvPicPr>
        <p:blipFill>
          <a:blip r:embed="rId3"/>
          <a:stretch/>
        </p:blipFill>
        <p:spPr>
          <a:xfrm>
            <a:off x="5003640" y="4917960"/>
            <a:ext cx="2664000" cy="16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44280"/>
            <a:ext cx="594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and 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6589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ontrol systems contain three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Current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Servo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CNC schematic"/>
          <p:cNvPicPr/>
          <p:nvPr/>
        </p:nvPicPr>
        <p:blipFill>
          <a:blip r:embed="rId2"/>
          <a:stretch/>
        </p:blipFill>
        <p:spPr>
          <a:xfrm>
            <a:off x="2124000" y="2924280"/>
            <a:ext cx="3816360" cy="1407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431964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 is the Brain - reads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amplifier receives orders from brain and s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signal to th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 sent depends on the whether Open or 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000" y="44280"/>
            <a:ext cx="3708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8232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pen Loop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ler is told where the output device need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e controller sends the signal to motor it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 feedback to known if it has reached desired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loop much cheaper than closed loop but les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5943600" cy="264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6720" y="44280"/>
            <a:ext cx="3635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134040" cy="356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3996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2155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feedback to the control unit telling it the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mo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ual position is found using an enc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tual position is compared to the des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is changed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58010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89120" y="1383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ob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device who’s motion can be controlled, planned, sensed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-mechanic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s and appearance conveys it has intent of it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s jobs- cheaper, faster, greater accuracy, reliability compared to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ly used in manufacturing an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60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115920"/>
            <a:ext cx="270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360080"/>
            <a:ext cx="8215200" cy="31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ders give the control unit information as to the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mo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 shines through a slotted disc, the light sens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and number of breaks in the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for the calculation of speed, direction an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ve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4771800" cy="24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44280"/>
            <a:ext cx="414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146240"/>
            <a:ext cx="82152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red value is compared to the actual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or subtracts actual from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the error which is fed to the controller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generates a control action to eliminate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09440"/>
            <a:ext cx="4032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n - of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152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st closed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n error is identified the  system goes into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iv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tend to over shoot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s and falls below desired so it never reache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010560" cy="30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4067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por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bber band effect - greater the distance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d more corrective force appl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 approaches the desired, less 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d to reduce over shoot but slower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reaches desired -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65008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5080" y="44280"/>
            <a:ext cx="3851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por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360" y="1001880"/>
            <a:ext cx="82152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attempts to calculat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 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ll try and stabilise the system at the desired valu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357960" cy="46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6720" y="109440"/>
            <a:ext cx="3635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D/D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040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essary to be able to convert analogue values to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omputer systems only count using 1 &amp;0 (B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counting system to the b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the decimal system to the ba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4067280" y="2133720"/>
            <a:ext cx="4319640" cy="2435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0072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611280" y="2060640"/>
            <a:ext cx="2808360" cy="2074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042920" y="3645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63640" y="44280"/>
            <a:ext cx="3276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inary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bincount.gif"/>
          <p:cNvPicPr/>
          <p:nvPr/>
        </p:nvPicPr>
        <p:blipFill>
          <a:blip r:embed="rId2"/>
          <a:stretch/>
        </p:blipFill>
        <p:spPr>
          <a:xfrm>
            <a:off x="539640" y="1844640"/>
            <a:ext cx="3475080" cy="3633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3327480" cy="477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270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8 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tor uses an 8 bi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gives the 256 number  (0 - 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reads 0 (Off) from 0v - 0.8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(On) from  2v -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signal.gif"/>
          <p:cNvPicPr/>
          <p:nvPr/>
        </p:nvPicPr>
        <p:blipFill>
          <a:blip r:embed="rId2"/>
          <a:stretch/>
        </p:blipFill>
        <p:spPr>
          <a:xfrm>
            <a:off x="1116000" y="3500280"/>
            <a:ext cx="6215040" cy="221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37800"/>
            <a:ext cx="19080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has a large number of values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v and 5v. Depends on the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ph shows the fluctuation in voltage compared to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3686400" cy="272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6720" y="44280"/>
            <a:ext cx="3348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alogue-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152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5v is broken up into 256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alogue resolution is now 256 (0 - 25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ltage level from the analogue input is now able to be read between 0 - 255 and not as a fluctuating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alue is now stored as a binary number in the 8 bit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4500720" cy="3062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11640" y="4221000"/>
            <a:ext cx="2016000" cy="4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cc33"/>
                </a:solidFill>
                <a:latin typeface="Arial"/>
              </a:rPr>
              <a:t>The analogue reading at an in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1125000"/>
            <a:ext cx="792000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s are machines expected to do what human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s can mimic certain part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 arms come in a variety of shapes and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 &amp; shape critical to the robots efficient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ntain elbows, shoulders which represent: -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s provide the ‘Musc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circuit provides the ‘Bra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1342800" cy="22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7deg.gif"/>
          <p:cNvPicPr/>
          <p:nvPr/>
        </p:nvPicPr>
        <p:blipFill>
          <a:blip r:embed="rId2"/>
          <a:stretch/>
        </p:blipFill>
        <p:spPr>
          <a:xfrm>
            <a:off x="4067280" y="4076640"/>
            <a:ext cx="159228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680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 of freedom - one joint one degree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robots - 3 degrees  of freedom in X,Y,Z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n robot arms have up to 7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YZ, Roll, Pitch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man arm can be used to demonstrate the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st Crawler- 5 degrees 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0920" y="1890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9920" y="272520"/>
            <a:ext cx="36097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Robotic 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a variety of degrees of freed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obotic joints can be used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ry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aist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lbow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ar/ Prisma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liding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imple axi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80000" y="3933720"/>
            <a:ext cx="2448000" cy="1006560"/>
            <a:chOff x="5580000" y="3933720"/>
            <a:chExt cx="2448000" cy="10065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580000" y="3933720"/>
              <a:ext cx="2448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130080" y="4570560"/>
              <a:ext cx="79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liding Lin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796000" y="1844640"/>
            <a:ext cx="2302920" cy="1800360"/>
            <a:chOff x="5796000" y="1844640"/>
            <a:chExt cx="2302920" cy="18003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96000" y="1844640"/>
              <a:ext cx="20674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799680" y="2653560"/>
              <a:ext cx="129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otation around joint ax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1280" y="5516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used together to achieve required movement 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rical Robo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867280" y="5160960"/>
            <a:ext cx="1800360" cy="16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9920" y="272520"/>
            <a:ext cx="57164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Robot ‘Work Envelop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4032360" cy="288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25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lume of space in which a robot can operate is called the ‘Work Envelop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530064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 envelope defines the space around a robot that is accessible to the mounting point for the end-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274320"/>
            <a:ext cx="5410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assification of Ro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2680" y="125892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 designs fall under different coordinate systems or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 on join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e system types determine the position of a point through measurement (X, Y etc.) 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ystems cater for different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e major robotic classific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 Carte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Cylind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Spherical /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1:41:54Z</dcterms:created>
  <dc:creator>Diarmuid</dc:creator>
  <dc:description/>
  <dc:language>en-US</dc:language>
  <cp:lastModifiedBy>Elizabeth</cp:lastModifiedBy>
  <dcterms:modified xsi:type="dcterms:W3CDTF">2009-04-23T13:35:33Z</dcterms:modified>
  <cp:revision>132</cp:revision>
  <dc:subject/>
  <dc:title>Applied Control  Systems Robotics</dc:title>
</cp:coreProperties>
</file>