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8.jpeg" ContentType="image/jpeg"/>
  <Override PartName="/ppt/media/image12.wmf" ContentType="image/x-wmf"/>
  <Override PartName="/ppt/media/image27.png" ContentType="image/png"/>
  <Override PartName="/ppt/media/image7.wmf" ContentType="image/x-wmf"/>
  <Override PartName="/ppt/media/image10.wmf" ContentType="image/x-wmf"/>
  <Override PartName="/ppt/media/image5.wmf" ContentType="image/x-wmf"/>
  <Override PartName="/ppt/media/image11.wmf" ContentType="image/x-wmf"/>
  <Override PartName="/ppt/media/image6.wmf" ContentType="image/x-wmf"/>
  <Override PartName="/ppt/media/image3.gif" ContentType="image/gif"/>
  <Override PartName="/ppt/media/image2.jpeg" ContentType="image/jpeg"/>
  <Override PartName="/ppt/media/image25.wmf" ContentType="image/x-wmf"/>
  <Override PartName="/ppt/media/image28.png" ContentType="image/png"/>
  <Override PartName="/ppt/media/image21.jpeg" ContentType="image/jpeg"/>
  <Override PartName="/ppt/media/image26.jpeg" ContentType="image/jpeg"/>
  <Override PartName="/ppt/media/image19.png" ContentType="image/png"/>
  <Override PartName="/ppt/media/image24.png" ContentType="image/png"/>
  <Override PartName="/ppt/media/image23.png" ContentType="image/png"/>
  <Override PartName="/ppt/media/image2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AD0-1697-44DD-B773-8574C152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21C-FA0F-4D8E-A1F7-E6F2B58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F3D-1EF5-4871-9CD7-F06AB72A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53E-C93C-4511-8ABA-B8AE83E9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F2F-991B-4CD3-A1D9-0E5E85DB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6626-0689-499E-A321-6EBEE25C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0D0C-1176-4CE1-9C1C-640180BC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7EFC-AE89-4ADB-ABA4-80EC1A46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7DDB-D2C7-4990-9B89-AC907A79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E9E6-4D88-4B25-95D3-5C93BE19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4AFB-0117-4289-B7D8-EC426DDF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9F42-E226-4679-B4D7-08C48A3B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8A06-9E82-4EF3-A6D8-21B9B74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E911-9FBE-42B8-A9E1-137BE95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926F-0311-4A2F-B558-E3406F1E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388A-5963-4383-9DD9-30BDEE00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894E-3F35-4ABE-968F-01505587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B974C-D73C-427B-800B-C62C475D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D3327-C1C2-4E2F-B81F-F6A39A6E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1F1D-BAF4-4D0B-AB85-2CFD6D7B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D4EC-45B4-4EA4-8829-6B4D3666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3C06-6A80-4471-9E3C-2839BDC3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021-91C8-4CDB-A52A-BDC6963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A3CD-1396-4570-80C7-77422D95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C53E-39BB-4B26-BF09-4888F92B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890A-4A74-4E76-AAB5-602C00F1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13B9B-A5F7-4EA2-AEF5-9DA6FA53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EF78-B702-4D6A-9083-E748BA93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097E-1904-445B-A0D7-922E627C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2B39-5570-47C3-B302-892FB29F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AC0-76BA-4C13-8275-3F405C2D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F9A-5750-490C-ADEE-BDF88EBD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84D7-9C4F-42A6-83E6-67F9D40C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6BB-5443-4841-A363-3BD1A74E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040-C2E4-40E2-9393-9E946DC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946-6125-4F82-855E-B91BE443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920" y="6402240"/>
            <a:ext cx="1441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9E2C-E18A-4A5D-85E9-14E3B334FF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79280" y="6400800"/>
            <a:ext cx="504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80360" y="6402240"/>
            <a:ext cx="1341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072F-8FCC-44F2-AB49-9E824A5F9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1E78-F0D3-4CEB-B175-79F9C1B34DD4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3AD2-FBF2-462D-A750-70A762649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D2A2-71AA-4D10-A72E-E64BC847AA44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3A8A-3009-4BC7-A686-DFD2F0509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Applied Control Syst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Stepper Moto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58800" y="1112760"/>
            <a:ext cx="3300480" cy="3300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79480" y="4680000"/>
            <a:ext cx="326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bottom electromagnet (3) is energized; another 3.6° rotation occu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510080" y="1085760"/>
            <a:ext cx="3921120" cy="5163480"/>
            <a:chOff x="4510080" y="1085760"/>
            <a:chExt cx="3921120" cy="5163480"/>
          </a:xfrm>
        </p:grpSpPr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4543560" y="1085760"/>
              <a:ext cx="3303360" cy="33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4510080" y="4663440"/>
              <a:ext cx="39211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left electromagnet (4) is enabled, rotating again by 3.6°. When the top electromagnet (1) is again enabled, the teeth in the sprocket will have rotated by one tooth position; since there are 25 teeth, it will take 100 steps to make a full rotation in this examp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219320" y="914400"/>
            <a:ext cx="6553080" cy="4952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172200" cy="4629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Times New Roman"/>
              </a:rPr>
              <a:t>Stepping Motor to move read-write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895480" y="4647960"/>
            <a:ext cx="2362320" cy="15238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876920" y="3200040"/>
            <a:ext cx="380880" cy="2971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66880" y="217440"/>
            <a:ext cx="60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Stepper moto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8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3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233960" y="1062000"/>
            <a:ext cx="3674880" cy="2444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95200" y="3979800"/>
            <a:ext cx="3386160" cy="2554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7200" y="214164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per feeder on pri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72120" y="495000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NC lat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79720" y="3506760"/>
            <a:ext cx="24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pper mo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84160" y="236520"/>
            <a:ext cx="61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Stepper moto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62120" y="380880"/>
            <a:ext cx="7162560" cy="563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6858000" cy="5341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1295280" y="4343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R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Stator c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1981080"/>
            <a:ext cx="68580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133720" y="3886200"/>
            <a:ext cx="1218960" cy="990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4876920"/>
            <a:ext cx="327672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CNC Stepping 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2680" y="1187280"/>
            <a:ext cx="297180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57200" y="1254240"/>
            <a:ext cx="2819520" cy="2611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33920" y="843120"/>
            <a:ext cx="48006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ow cost for control 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Rugge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Simplicity of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Can operate in an open loop contro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ow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Less likely to stall or s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Will work in any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267080"/>
            <a:ext cx="46479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Times New Roman"/>
              </a:rPr>
              <a:t>Disadvantage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Require a dedicated control 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Use more current than D.C. mo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High torque output achieved at low speeds</a:t>
            </a:r>
            <a:r>
              <a:rPr b="1" lang="en-IE" sz="1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39960" y="225360"/>
            <a:ext cx="63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Advantages  / 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590920" y="3429000"/>
          <a:ext cx="3962160" cy="3048120"/>
        </p:xfrm>
        <a:graphic>
          <a:graphicData uri="http://schemas.openxmlformats.org/drawingml/2006/table">
            <a:tbl>
              <a:tblPr/>
              <a:tblGrid>
                <a:gridCol w="1120680"/>
                <a:gridCol w="708120"/>
                <a:gridCol w="731880"/>
                <a:gridCol w="715680"/>
                <a:gridCol w="685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ep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ep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ep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ep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048120" y="838080"/>
          <a:ext cx="327636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838080"/>
                    <a:ext cx="32763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791320" y="1676520"/>
            <a:ext cx="0" cy="76176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038120" y="2514600"/>
            <a:ext cx="17528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2362320"/>
            <a:ext cx="0" cy="1522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514600"/>
            <a:ext cx="0" cy="91440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1676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4723920" y="2666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1676520"/>
            <a:ext cx="0" cy="11430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86400" y="2819520"/>
            <a:ext cx="45720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819520"/>
            <a:ext cx="0" cy="6094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1676520"/>
            <a:ext cx="0" cy="17524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1447920"/>
            <a:ext cx="380880" cy="304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43600" y="11426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43600" y="11430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24480" y="914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434340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086600" y="434340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76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809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C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1143000"/>
            <a:ext cx="380880" cy="380880"/>
          </a:xfrm>
          <a:custGeom>
            <a:avLst/>
            <a:gdLst>
              <a:gd name="textAreaLeft" fmla="*/ 66600 w 380880"/>
              <a:gd name="textAreaRight" fmla="*/ 276120 w 380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1230218"/>
                <a:lnTo>
                  <a:pt x="19560" y="6840"/>
                </a:lnTo>
                <a:lnTo>
                  <a:pt x="17280" y="21600"/>
                </a:lnTo>
                <a:lnTo>
                  <a:pt x="10920" y="6840"/>
                </a:lnTo>
                <a:lnTo>
                  <a:pt x="13080" y="6840"/>
                </a:lnTo>
                <a:arcTo wR="7560" hR="21600" stAng="-4169782" swAng="-87278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0120" y="158760"/>
            <a:ext cx="71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ff6600"/>
                </a:solidFill>
                <a:latin typeface="Arial"/>
              </a:rPr>
              <a:t>Control sequence to turn a stepper mo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hsr1422cr-500" descr=""/>
          <p:cNvPicPr/>
          <p:nvPr/>
        </p:nvPicPr>
        <p:blipFill>
          <a:blip r:embed="rId2"/>
          <a:stretch/>
        </p:blipFill>
        <p:spPr>
          <a:xfrm>
            <a:off x="477720" y="898560"/>
            <a:ext cx="2511720" cy="3030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083280" y="1476360"/>
            <a:ext cx="2102040" cy="4408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848880" y="222120"/>
            <a:ext cx="37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9933"/>
                </a:solidFill>
                <a:latin typeface="Arial"/>
              </a:rPr>
              <a:t>Servo Motor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rcRect l="19583" t="32000" r="24167" b="24668"/>
          <a:stretch/>
        </p:blipFill>
        <p:spPr>
          <a:xfrm>
            <a:off x="233280" y="4140360"/>
            <a:ext cx="3473640" cy="19555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463760" y="4262400"/>
            <a:ext cx="798480" cy="3373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5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15969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tu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63880" y="3027240"/>
            <a:ext cx="17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tion g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38680" y="3646440"/>
            <a:ext cx="2031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sition feed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tentio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losed loop syst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38680" y="53211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electric DC mo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6040" y="1768320"/>
            <a:ext cx="2195640" cy="344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03880" y="3170160"/>
            <a:ext cx="1747800" cy="476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03880" y="3929040"/>
            <a:ext cx="1969920" cy="439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25920" y="5321160"/>
            <a:ext cx="12495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066760" y="1246320"/>
            <a:ext cx="487692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246240"/>
            <a:ext cx="63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Stepper Motor / Electro 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97080" y="1343160"/>
            <a:ext cx="4648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304920"/>
            <a:ext cx="251460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380880"/>
          <a:ext cx="235404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80880"/>
                    <a:ext cx="2354040" cy="259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3526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R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114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St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09320" y="1523880"/>
            <a:ext cx="121932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2840" y="1523880"/>
            <a:ext cx="6858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09320" y="685800"/>
            <a:ext cx="1219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90720" y="274284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761760" y="1828440"/>
            <a:ext cx="22860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80880" y="1523880"/>
            <a:ext cx="8305920" cy="5029200"/>
            <a:chOff x="380880" y="1523880"/>
            <a:chExt cx="8305920" cy="5029200"/>
          </a:xfrm>
        </p:grpSpPr>
        <p:sp>
          <p:nvSpPr>
            <p:cNvPr id="139" name=""/>
            <p:cNvSpPr/>
            <p:nvPr/>
          </p:nvSpPr>
          <p:spPr>
            <a:xfrm>
              <a:off x="380880" y="4648320"/>
              <a:ext cx="1905120" cy="1904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57200" y="1523880"/>
              <a:ext cx="8229600" cy="4953240"/>
              <a:chOff x="457200" y="1523880"/>
              <a:chExt cx="8229600" cy="4953240"/>
            </a:xfrm>
          </p:grpSpPr>
          <p:sp>
            <p:nvSpPr>
              <p:cNvPr id="141" name=""/>
              <p:cNvSpPr/>
              <p:nvPr/>
            </p:nvSpPr>
            <p:spPr>
              <a:xfrm>
                <a:off x="3962520" y="2286000"/>
                <a:ext cx="4572000" cy="3276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42" name=""/>
              <p:cNvGraphicFramePr/>
              <p:nvPr/>
            </p:nvGraphicFramePr>
            <p:xfrm>
              <a:off x="4038480" y="2362320"/>
              <a:ext cx="4419720" cy="3097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4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038480" y="2362320"/>
                        <a:ext cx="4419720" cy="3097080"/>
                      </a:xfrm>
                      <a:prstGeom prst="rect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4" name=""/>
              <p:cNvGraphicFramePr/>
              <p:nvPr/>
            </p:nvGraphicFramePr>
            <p:xfrm>
              <a:off x="457200" y="4724280"/>
              <a:ext cx="1752480" cy="175284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4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457200" y="4724280"/>
                        <a:ext cx="1752480" cy="17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6" name=""/>
              <p:cNvSpPr/>
              <p:nvPr/>
            </p:nvSpPr>
            <p:spPr>
              <a:xfrm>
                <a:off x="5791320" y="1523880"/>
                <a:ext cx="2895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Times New Roman"/>
                  </a:rPr>
                  <a:t>Outside Cas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90920" y="3276720"/>
                <a:ext cx="167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Times New Roman"/>
                  </a:rPr>
                  <a:t>Stat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90920" y="4038480"/>
                <a:ext cx="167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000000"/>
                    </a:solidFill>
                    <a:latin typeface="Times New Roman"/>
                  </a:rPr>
                  <a:t>Rot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23888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00400" y="3657600"/>
                <a:ext cx="1981080" cy="380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24080" y="4419720"/>
                <a:ext cx="1067040" cy="533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295280" y="3733920"/>
                <a:ext cx="1828800" cy="121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447920" y="4419720"/>
                <a:ext cx="1676160" cy="990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90920" y="5867280"/>
                <a:ext cx="552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400" spc="-1" strike="noStrike">
                    <a:solidFill>
                      <a:srgbClr val="ff0000"/>
                    </a:solidFill>
                    <a:latin typeface="Times New Roman"/>
                  </a:rPr>
                  <a:t>Internal components of a Stepper Moto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981080" y="1523880"/>
            <a:ext cx="4876920" cy="449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057400" y="1676520"/>
          <a:ext cx="472428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676520"/>
                    <a:ext cx="472428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029360" y="167652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St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4100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R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790960" y="22096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371600" y="3276720"/>
            <a:ext cx="28954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6920" y="257040"/>
            <a:ext cx="661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ross Section of a Stepper 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057400" y="1219320"/>
            <a:ext cx="4952880" cy="419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4800600" cy="4054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238880" y="1371600"/>
            <a:ext cx="1676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5867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Four Steps per revolution i.e. 90 deg.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2160" y="246240"/>
            <a:ext cx="39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Full Step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7400" y="1219320"/>
            <a:ext cx="4952880" cy="419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4800600" cy="4038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57150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Eight steps per. revolution i.e. 45 deg.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5791320"/>
            <a:ext cx="5562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74360" y="222120"/>
            <a:ext cx="39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Half Step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4876920"/>
            <a:ext cx="26672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990720"/>
            <a:ext cx="26672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371600"/>
            <a:ext cx="3962160" cy="411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581280" y="1447920"/>
          <a:ext cx="3757680" cy="39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1447920"/>
                    <a:ext cx="375768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28600" y="1066680"/>
          <a:ext cx="2514600" cy="87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066680"/>
                    <a:ext cx="251460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522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Winding nu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685800"/>
            <a:ext cx="243828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4952880"/>
          <a:ext cx="251460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4952880"/>
                    <a:ext cx="2514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52280" y="4267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Winding numb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743200" y="3428640"/>
            <a:ext cx="13716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477120" y="159984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31240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3658800">
            <a:off x="7505280" y="2133360"/>
            <a:ext cx="1295280" cy="68580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785" y="12432"/>
                </a:moveTo>
                <a:arcTo wR="-9162" hR="-9162" stAng="10184393" swAng="-7464128"/>
                <a:lnTo>
                  <a:pt x="3208" y="3118"/>
                </a:lnTo>
                <a:arcTo wR="10800" hR="10800" stAng="-8079735" swAng="7464128"/>
                <a:lnTo>
                  <a:pt x="24084" y="8395"/>
                </a:lnTo>
                <a:lnTo>
                  <a:pt x="21248" y="12485"/>
                </a:lnTo>
                <a:lnTo>
                  <a:pt x="17159" y="964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89880" y="21495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One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6 pole r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819520"/>
            <a:ext cx="190476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475000" y="1128600"/>
            <a:ext cx="3787560" cy="32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716200" y="1298520"/>
            <a:ext cx="3397320" cy="2860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20880" y="4976640"/>
            <a:ext cx="73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many steps are required for one complete revol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1240" y="233280"/>
            <a:ext cx="72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Six pole rotor, two electro magn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20560" y="1082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0560" y="4660560"/>
            <a:ext cx="3784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op electromagnet (1) is turned on, attracting the nearest teeth of a gear-shaped iron rotor. With the teeth aligned to electromagnet 1, they will be slightly offset from electromagnet 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608360" y="1109520"/>
            <a:ext cx="3476880" cy="4710600"/>
            <a:chOff x="4608360" y="1109520"/>
            <a:chExt cx="3476880" cy="4710600"/>
          </a:xfrm>
        </p:grpSpPr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4608360" y="1109520"/>
              <a:ext cx="3173400" cy="31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608360" y="4660560"/>
              <a:ext cx="34768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top electromagnet (1) is turned off, and the right electromagnet (2) is energized, pulling the nearest teeth slightly to the right. This results in a rotation of 3.6° in this exampl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789120" y="252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Practical Stepper mot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0:11:05Z</dcterms:created>
  <dc:creator>Elizabeth Davis</dc:creator>
  <dc:description/>
  <dc:language>en-US</dc:language>
  <cp:lastModifiedBy>mlohan</cp:lastModifiedBy>
  <dcterms:modified xsi:type="dcterms:W3CDTF">2008-11-04T13:35:50Z</dcterms:modified>
  <cp:revision>248</cp:revision>
  <dc:subject/>
  <dc:title>Slide 1</dc:title>
</cp:coreProperties>
</file>