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16.png" ContentType="image/png"/>
  <Override PartName="/ppt/media/image8.gif" ContentType="image/gif"/>
  <Override PartName="/ppt/media/image18.jpeg" ContentType="image/jpeg"/>
  <Override PartName="/ppt/media/image12.wmf" ContentType="image/x-wmf"/>
  <Override PartName="/ppt/media/image27.png" ContentType="image/png"/>
  <Override PartName="/ppt/media/image7.wmf" ContentType="image/x-wmf"/>
  <Override PartName="/ppt/media/image10.wmf" ContentType="image/x-wmf"/>
  <Override PartName="/ppt/media/image5.wmf" ContentType="image/x-wmf"/>
  <Override PartName="/ppt/media/image11.wmf" ContentType="image/x-wmf"/>
  <Override PartName="/ppt/media/image6.wmf" ContentType="image/x-wmf"/>
  <Override PartName="/ppt/media/image3.gif" ContentType="image/gif"/>
  <Override PartName="/ppt/media/image2.jpeg" ContentType="image/jpeg"/>
  <Override PartName="/ppt/media/image25.wmf" ContentType="image/x-wmf"/>
  <Override PartName="/ppt/media/image28.png" ContentType="image/png"/>
  <Override PartName="/ppt/media/image21.jpeg" ContentType="image/jpeg"/>
  <Override PartName="/ppt/media/image26.jpeg" ContentType="image/jpeg"/>
  <Override PartName="/ppt/media/image19.png" ContentType="image/png"/>
  <Override PartName="/ppt/media/image24.png" ContentType="image/png"/>
  <Override PartName="/ppt/media/image23.png" ContentType="image/png"/>
  <Override PartName="/ppt/media/image2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8A1B-2277-43D6-B036-72EBBB2E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A686-E064-4BA2-A7E2-BFDB542B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40B5-E45F-40E5-AD83-FF964F555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8213-5FE2-4912-BAFA-EE25EA76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5F1D-DE32-42F9-84B8-F5E4EE9A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1770-14C8-4EF3-AE19-9757F96D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80AB-D7B8-4DED-995A-2BC5EC2C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2608-315B-460D-9FC4-6065FDC1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380B-C7A6-4834-8648-22B1986D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3008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2D88-86E2-4CC5-BDDC-EA03FB99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2CC6-C5F8-470B-8F76-8DA3B463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C3AD-11D4-48C6-90E9-2F6D1CC8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41B9-A2AA-4D5D-90AF-68D77C49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04AB-9946-41FC-B3EA-ED6970FC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00D1-6A84-4B1A-8327-053B7850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9EE0-2F86-4982-92C2-51B6981D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FEF9-CB43-4480-A43A-15BFFA1F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8C990-5A70-4667-B4DE-A162E73A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56A8A-9831-4A24-89E7-5FD07B56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2385A-A756-418E-8C8C-0537B6BD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DC12C-3A56-45E3-A4EB-7840B09A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5A6DB-217E-4F22-ABF0-5775F816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22D1-3173-4FF2-96AE-0A8011FC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3008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878A1-F874-40DE-A467-1B049F82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A0EBF-59A4-4B04-9BCD-52D3D116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D8135-8B9D-4032-AF89-0F8D9047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7A6B4-3211-493A-ACF5-FC33E60A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84162-7373-4F20-AFFD-7A44550C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6A7D9-6E8F-438A-9C8A-A430E2CA4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3EC75-3923-4F82-8E8C-E812B404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3BF4-2D0C-4E37-B3E3-C04E44E2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CE4B-737E-48AB-A7EF-4DEFD4AD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3008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0D91-25D4-44FB-86D5-45D05D59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403D-E486-4FE8-9FE6-79CA2AD0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71E2-D4EF-4CE0-90E3-BBBDB983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E58D-F45A-49BF-B3FE-8A8B305D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250920" y="6402240"/>
            <a:ext cx="14414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B321-B750-4B2F-B0D0-EF46F4D0AF5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1979280" y="6400800"/>
            <a:ext cx="5040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380360" y="6402240"/>
            <a:ext cx="1341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EF7E-E079-4AFB-9F7A-ED8D9A836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6A2E-FC32-4CB6-AE1D-AD269BF41E6D}" type="datetime">
              <a:rPr b="0" lang="en-GB" sz="14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A227-8D4B-419C-9B59-C9FB83EA2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C2A8-C7D9-4AAD-9D4D-597E1EE4C695}" type="datetime">
              <a:rPr b="0" lang="en-GB" sz="14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A6A9-490E-47D4-92BD-405C75D55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Applied Control Syste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Stepper Moto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58800" y="1112760"/>
            <a:ext cx="3300480" cy="33004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879480" y="4680000"/>
            <a:ext cx="3263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bottom electromagnet (3) is energized; another 3.6° rotation occu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510080" y="1085760"/>
            <a:ext cx="3921120" cy="5163480"/>
            <a:chOff x="4510080" y="1085760"/>
            <a:chExt cx="3921120" cy="5163480"/>
          </a:xfrm>
        </p:grpSpPr>
        <p:pic>
          <p:nvPicPr>
            <p:cNvPr id="205" name="" descr=""/>
            <p:cNvPicPr/>
            <p:nvPr/>
          </p:nvPicPr>
          <p:blipFill>
            <a:blip r:embed="rId3"/>
            <a:stretch/>
          </p:blipFill>
          <p:spPr>
            <a:xfrm>
              <a:off x="4543560" y="1085760"/>
              <a:ext cx="3303360" cy="330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4510080" y="4663440"/>
              <a:ext cx="392112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 left electromagnet (4) is enabled, rotating again by 3.6°. When the top electromagnet (1) is again enabled, the teeth in the sprocket will have rotated by one tooth position; since there are 25 teeth, it will take 100 steps to make a full rotation in this exampl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19320" y="914400"/>
            <a:ext cx="6553080" cy="4952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6172200" cy="4629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Times New Roman"/>
              </a:rPr>
              <a:t>Stepping Motor to move read-write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2895480" y="4647960"/>
            <a:ext cx="2362320" cy="15238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876920" y="3200040"/>
            <a:ext cx="380880" cy="2971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66880" y="217440"/>
            <a:ext cx="603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Stepper motor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8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3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233960" y="1062000"/>
            <a:ext cx="3674880" cy="2444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295200" y="3979800"/>
            <a:ext cx="3386160" cy="25542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57200" y="2141640"/>
            <a:ext cx="35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per feeder on pri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72120" y="49500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NC la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79720" y="3506760"/>
            <a:ext cx="24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epper mo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84160" y="236520"/>
            <a:ext cx="61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Stepper motor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62120" y="380880"/>
            <a:ext cx="7162560" cy="5639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6858000" cy="5341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1295280" y="4343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00"/>
                </a:solidFill>
                <a:latin typeface="Times New Roman"/>
              </a:rPr>
              <a:t>R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00"/>
                </a:solidFill>
                <a:latin typeface="Times New Roman"/>
              </a:rPr>
              <a:t>Stator c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38480" y="1981080"/>
            <a:ext cx="685800" cy="609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133720" y="3886200"/>
            <a:ext cx="1218960" cy="990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86200" y="4876920"/>
            <a:ext cx="3276720" cy="4597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00"/>
                </a:solidFill>
                <a:latin typeface="Times New Roman"/>
              </a:rPr>
              <a:t>CNC Stepping 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2680" y="1187280"/>
            <a:ext cx="297180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57200" y="1254240"/>
            <a:ext cx="2819520" cy="26114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733920" y="843120"/>
            <a:ext cx="48006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Times New Roman"/>
              </a:rPr>
              <a:t>Advantages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Low cost for control achie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Rugged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Simplicity of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Can operate in an open loop contro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Low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Less likely to stall or s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Will work in any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4267080"/>
            <a:ext cx="46479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sadvantages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Require a dedicated control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Use more current than D.C. mo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High torque output achieved at low speeds</a:t>
            </a:r>
            <a:r>
              <a:rPr b="1" lang="en-IE" sz="1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39960" y="225360"/>
            <a:ext cx="631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Advantages  / 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2590920" y="3429000"/>
          <a:ext cx="3962160" cy="3048120"/>
        </p:xfrm>
        <a:graphic>
          <a:graphicData uri="http://schemas.openxmlformats.org/drawingml/2006/table">
            <a:tbl>
              <a:tblPr/>
              <a:tblGrid>
                <a:gridCol w="1120680"/>
                <a:gridCol w="708120"/>
                <a:gridCol w="731880"/>
                <a:gridCol w="715680"/>
                <a:gridCol w="6858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ep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ep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ep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ep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3048120" y="838080"/>
          <a:ext cx="3276360" cy="15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838080"/>
                    <a:ext cx="327636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5791320" y="1676520"/>
            <a:ext cx="0" cy="76176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038120" y="2514600"/>
            <a:ext cx="17528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91320" y="2362320"/>
            <a:ext cx="0" cy="152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2514600"/>
            <a:ext cx="0" cy="91440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16765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723920" y="26668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24280" y="2666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1676520"/>
            <a:ext cx="0" cy="11430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486400" y="2819520"/>
            <a:ext cx="4572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2819520"/>
            <a:ext cx="0" cy="6094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19920" y="1676520"/>
            <a:ext cx="0" cy="1752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15000" y="1447920"/>
            <a:ext cx="380880" cy="3045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943600" y="114264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43600" y="11430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24480" y="914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57400" y="4343400"/>
            <a:ext cx="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086600" y="434340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C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3809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CC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48120" y="1143000"/>
            <a:ext cx="380880" cy="380880"/>
          </a:xfrm>
          <a:custGeom>
            <a:avLst/>
            <a:gdLst>
              <a:gd name="textAreaLeft" fmla="*/ 66600 w 380880"/>
              <a:gd name="textAreaRight" fmla="*/ 276120 w 3808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1230218"/>
                <a:lnTo>
                  <a:pt x="19560" y="6840"/>
                </a:lnTo>
                <a:lnTo>
                  <a:pt x="17280" y="21600"/>
                </a:lnTo>
                <a:lnTo>
                  <a:pt x="10920" y="6840"/>
                </a:lnTo>
                <a:lnTo>
                  <a:pt x="13080" y="6840"/>
                </a:lnTo>
                <a:arcTo wR="7560" hR="21600" stAng="-4169782" swAng="-87278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0120" y="158760"/>
            <a:ext cx="71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6600"/>
                </a:solidFill>
                <a:latin typeface="Arial"/>
              </a:rPr>
              <a:t>Control sequence to turn a stepper 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hsr1422cr-500" descr=""/>
          <p:cNvPicPr/>
          <p:nvPr/>
        </p:nvPicPr>
        <p:blipFill>
          <a:blip r:embed="rId2"/>
          <a:stretch/>
        </p:blipFill>
        <p:spPr>
          <a:xfrm>
            <a:off x="477720" y="898560"/>
            <a:ext cx="2511720" cy="30304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083280" y="1476360"/>
            <a:ext cx="2102040" cy="4408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848880" y="222120"/>
            <a:ext cx="37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9933"/>
                </a:solidFill>
                <a:latin typeface="Arial"/>
              </a:rPr>
              <a:t>Servo Motor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"/>
          <a:srcRect l="19583" t="32000" r="24167" b="24668"/>
          <a:stretch/>
        </p:blipFill>
        <p:spPr>
          <a:xfrm>
            <a:off x="233280" y="4140360"/>
            <a:ext cx="3473640" cy="19555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463760" y="4262400"/>
            <a:ext cx="798480" cy="33732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5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159696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u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63880" y="3027240"/>
            <a:ext cx="17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duction g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38680" y="3646440"/>
            <a:ext cx="20318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sition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tentio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closed loop syst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38680" y="5321160"/>
            <a:ext cx="21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electric DC mo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56040" y="1768320"/>
            <a:ext cx="2195640" cy="344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03880" y="3170160"/>
            <a:ext cx="1747800" cy="476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03880" y="3929040"/>
            <a:ext cx="1969920" cy="439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425920" y="5321160"/>
            <a:ext cx="1249560" cy="56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066760" y="1246320"/>
            <a:ext cx="4876920" cy="487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246240"/>
            <a:ext cx="632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Stepper Motor / Electro mag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197080" y="1343160"/>
            <a:ext cx="46483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304920"/>
            <a:ext cx="251460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3520" y="380880"/>
          <a:ext cx="2354040" cy="25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80880"/>
                    <a:ext cx="2354040" cy="259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3352680" y="304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R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St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76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C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09320" y="1523880"/>
            <a:ext cx="121932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742840" y="1523880"/>
            <a:ext cx="68580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09320" y="685800"/>
            <a:ext cx="121932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990720" y="2742840"/>
            <a:ext cx="68580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761760" y="1828440"/>
            <a:ext cx="22860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80880" y="1523880"/>
            <a:ext cx="8305920" cy="5029200"/>
            <a:chOff x="380880" y="1523880"/>
            <a:chExt cx="8305920" cy="5029200"/>
          </a:xfrm>
        </p:grpSpPr>
        <p:sp>
          <p:nvSpPr>
            <p:cNvPr id="139" name=""/>
            <p:cNvSpPr/>
            <p:nvPr/>
          </p:nvSpPr>
          <p:spPr>
            <a:xfrm>
              <a:off x="380880" y="4648320"/>
              <a:ext cx="1905120" cy="1904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57200" y="1523880"/>
              <a:ext cx="8229600" cy="4953240"/>
              <a:chOff x="457200" y="1523880"/>
              <a:chExt cx="8229600" cy="4953240"/>
            </a:xfrm>
          </p:grpSpPr>
          <p:sp>
            <p:nvSpPr>
              <p:cNvPr id="141" name=""/>
              <p:cNvSpPr/>
              <p:nvPr/>
            </p:nvSpPr>
            <p:spPr>
              <a:xfrm>
                <a:off x="3962520" y="2286000"/>
                <a:ext cx="4572000" cy="3276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42" name=""/>
              <p:cNvGraphicFramePr/>
              <p:nvPr/>
            </p:nvGraphicFramePr>
            <p:xfrm>
              <a:off x="4038480" y="2362320"/>
              <a:ext cx="4419720" cy="30970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43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038480" y="2362320"/>
                        <a:ext cx="4419720" cy="3097080"/>
                      </a:xfrm>
                      <a:prstGeom prst="rect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44" name=""/>
              <p:cNvGraphicFramePr/>
              <p:nvPr/>
            </p:nvGraphicFramePr>
            <p:xfrm>
              <a:off x="457200" y="4724280"/>
              <a:ext cx="1752480" cy="175284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45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457200" y="4724280"/>
                        <a:ext cx="1752480" cy="175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46" name=""/>
              <p:cNvSpPr/>
              <p:nvPr/>
            </p:nvSpPr>
            <p:spPr>
              <a:xfrm>
                <a:off x="5791320" y="1523880"/>
                <a:ext cx="289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2400" spc="-1" strike="noStrike">
                    <a:solidFill>
                      <a:srgbClr val="000000"/>
                    </a:solidFill>
                    <a:latin typeface="Times New Roman"/>
                  </a:rPr>
                  <a:t>Outside Cas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590920" y="3276720"/>
                <a:ext cx="167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2400" spc="-1" strike="noStrike">
                    <a:solidFill>
                      <a:srgbClr val="000000"/>
                    </a:solidFill>
                    <a:latin typeface="Times New Roman"/>
                  </a:rPr>
                  <a:t>Stato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590920" y="4038480"/>
                <a:ext cx="167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2400" spc="-1" strike="noStrike">
                    <a:solidFill>
                      <a:srgbClr val="000000"/>
                    </a:solidFill>
                    <a:latin typeface="Times New Roman"/>
                  </a:rPr>
                  <a:t>Roto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7238880" y="1981080"/>
                <a:ext cx="533520" cy="990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200400" y="3657600"/>
                <a:ext cx="1981080" cy="380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124080" y="4419720"/>
                <a:ext cx="1067040" cy="53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1295280" y="3733920"/>
                <a:ext cx="1828800" cy="1218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1447920" y="4419720"/>
                <a:ext cx="1676160" cy="990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590920" y="5867280"/>
                <a:ext cx="552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2400" spc="-1" strike="noStrike">
                    <a:solidFill>
                      <a:srgbClr val="ff0000"/>
                    </a:solidFill>
                    <a:latin typeface="Times New Roman"/>
                  </a:rPr>
                  <a:t>Internal components of a Stepper Moto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981080" y="1523880"/>
            <a:ext cx="4876920" cy="4496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057400" y="1676520"/>
          <a:ext cx="4724280" cy="41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1676520"/>
                    <a:ext cx="472428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7029360" y="167652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St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541008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R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790960" y="22096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371600" y="3276720"/>
            <a:ext cx="2895480" cy="2133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6920" y="257040"/>
            <a:ext cx="66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Cross Section of a Stepper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057400" y="1219320"/>
            <a:ext cx="4952880" cy="419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133720" y="1295280"/>
            <a:ext cx="4800600" cy="4054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238880" y="1371600"/>
            <a:ext cx="1676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58672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Four Steps per revolution i.e. 90 deg.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2160" y="246240"/>
            <a:ext cx="39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Full Step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057400" y="1219320"/>
            <a:ext cx="4952880" cy="419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133720" y="1295280"/>
            <a:ext cx="4800600" cy="4038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676520" y="57150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Eight steps per. revolution i.e. 45 deg.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5791320"/>
            <a:ext cx="556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74360" y="222120"/>
            <a:ext cx="39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Half Step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2280" y="4876920"/>
            <a:ext cx="26672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990720"/>
            <a:ext cx="26672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1371600"/>
            <a:ext cx="3962160" cy="411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581280" y="1447920"/>
          <a:ext cx="3757680" cy="395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1447920"/>
                    <a:ext cx="375768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28600" y="1066680"/>
          <a:ext cx="2514600" cy="87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1066680"/>
                    <a:ext cx="251460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15228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Winding numb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685800"/>
            <a:ext cx="2438280" cy="121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28600" y="4952880"/>
          <a:ext cx="2514600" cy="838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" y="4952880"/>
                    <a:ext cx="25146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152280" y="4267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Winding numbe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743200" y="3428640"/>
            <a:ext cx="137160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477120" y="159984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0" y="31240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3658800">
            <a:off x="7505280" y="2133360"/>
            <a:ext cx="1295280" cy="6858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785" y="12432"/>
                </a:moveTo>
                <a:arcTo wR="-9162" hR="-9162" stAng="10184393" swAng="-7464128"/>
                <a:lnTo>
                  <a:pt x="3208" y="3118"/>
                </a:lnTo>
                <a:arcTo wR="10800" hR="10800" stAng="-8079735" swAng="7464128"/>
                <a:lnTo>
                  <a:pt x="24084" y="8395"/>
                </a:lnTo>
                <a:lnTo>
                  <a:pt x="21248" y="12485"/>
                </a:lnTo>
                <a:lnTo>
                  <a:pt x="17159" y="964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89880" y="21495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One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2514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6 pole r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2819520"/>
            <a:ext cx="190476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475000" y="1128600"/>
            <a:ext cx="3787560" cy="320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716200" y="1298520"/>
            <a:ext cx="3397320" cy="28605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20880" y="4976640"/>
            <a:ext cx="73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 many steps are required for one complete revolu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1240" y="233280"/>
            <a:ext cx="722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Six pole rotor, two electro magn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20560" y="10825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20560" y="4660560"/>
            <a:ext cx="3784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top electromagnet (1) is turned on, attracting the nearest teeth of a gear-shaped iron rotor. With the teeth aligned to electromagnet 1, they will be slightly offset from electromagnet 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608360" y="1109520"/>
            <a:ext cx="3476880" cy="4710600"/>
            <a:chOff x="4608360" y="1109520"/>
            <a:chExt cx="3476880" cy="4710600"/>
          </a:xfrm>
        </p:grpSpPr>
        <p:pic>
          <p:nvPicPr>
            <p:cNvPr id="199" name="" descr=""/>
            <p:cNvPicPr/>
            <p:nvPr/>
          </p:nvPicPr>
          <p:blipFill>
            <a:blip r:embed="rId3"/>
            <a:stretch/>
          </p:blipFill>
          <p:spPr>
            <a:xfrm>
              <a:off x="4608360" y="1109520"/>
              <a:ext cx="3173400" cy="31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4608360" y="4660560"/>
              <a:ext cx="34768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 top electromagnet (1) is turned off, and the right electromagnet (2) is energized, pulling the nearest teeth slightly to the right. This results in a rotation of 3.6° in this exampl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789120" y="252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Practical Stepper motor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0:11:05Z</dcterms:created>
  <dc:creator>Elizabeth Davis</dc:creator>
  <dc:description/>
  <dc:language>en-US</dc:language>
  <cp:lastModifiedBy>mlohan</cp:lastModifiedBy>
  <dcterms:modified xsi:type="dcterms:W3CDTF">2008-11-04T13:35:50Z</dcterms:modified>
  <cp:revision>248</cp:revision>
  <dc:subject/>
  <dc:title>Slide 1</dc:title>
</cp:coreProperties>
</file>