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media/image2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118-D4B9-41D1-BEFE-21E1D18B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AAD-B6DB-4DDA-A2B5-6BFE1BB2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715-BD44-4B13-B3B5-DA08E500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401-BBBE-4A8F-8436-623FFE26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0405-46F1-4285-8810-AECB8C37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7CCE-026C-4708-BDE2-F0954D9A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F332-0065-41DA-B0EE-F6233EE0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95D0-3FC6-4809-B509-FC7DCBFB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D4D3-1F30-4100-8A1E-56CAB088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5693-81FF-4C6F-9B09-3CEF01B3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3BF9-6940-416F-AD71-DF1136B0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121-2ADB-45FC-A197-8D47AEB9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832C-14A2-44BD-81A5-ADD8004A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52DA-C6C0-4004-A932-C970C3F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5CA7-3226-4600-BAD8-F884CB8F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B3F4-4891-4693-9642-BBBCE9AA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457A-ECE4-4E47-8E50-45490A9E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F996-F049-4862-BCD2-C00D6A87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0E8B-44E1-4548-B857-7AD56E99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835F-A2F9-4B4F-A274-7E429675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BAF7-0BD3-47CA-97CE-E25ACDC8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B84C-AFB8-4480-8A34-E7A3207F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9CC-DEA8-4E7F-9ED2-FEF360E9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5BFA-FAEC-4A52-93EA-292F085A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AE39-7492-4C67-9FC3-29A0EE1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5F49-D71C-45EE-948A-37BF9BB6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1AD5-0C29-41D8-B374-D7DDFDEC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8D07-6EA1-43ED-8C60-734692C9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8F0D-F92B-4F52-9E9F-94EA0872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CCE5-92B7-4E42-80E3-FFD6DAA8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B58-7E5C-44D4-9E94-357069C3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AFD-822F-4C10-95D8-92657F61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5EC-5962-4816-8F50-D5CD56D3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86F-0A3A-4943-8F2A-0CEE3251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E3F-8B3B-4CCC-812D-EA0983AE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ABB-B8D9-459D-9A63-1C8328DF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920" y="6402240"/>
            <a:ext cx="1441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0EBF-0C24-4DBA-BCD7-8F21C0A3D7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79280" y="6400800"/>
            <a:ext cx="504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80360" y="6402240"/>
            <a:ext cx="1341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F2AA-5529-4541-A0F8-3393BECFE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BAB-85D4-4B6E-BC53-1E13D716F3FA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1523-209E-413A-BEC9-6588FF12B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5663-68A1-4C1F-81C8-F7E42667B576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F31A-CCA5-4E05-962E-199AF4B40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Rd 6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2D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5040" y="114768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r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10200" y="5394240"/>
            <a:ext cx="43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ised engraving on a curv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2496960"/>
            <a:ext cx="3216240" cy="241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4186" r="12159" b="0"/>
          <a:stretch/>
        </p:blipFill>
        <p:spPr>
          <a:xfrm>
            <a:off x="4421160" y="2082960"/>
            <a:ext cx="3529080" cy="2830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600" y="5415120"/>
            <a:ext cx="30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00800" y="21276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7560" y="2103480"/>
            <a:ext cx="3529080" cy="3335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616280" y="2055960"/>
            <a:ext cx="3517920" cy="3355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43120" y="1117440"/>
            <a:ext cx="57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hopane Mach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41680" y="5749920"/>
            <a:ext cx="33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ght Box Monochrom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251000" y="1677960"/>
            <a:ext cx="5869080" cy="407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 rot="7763400">
            <a:off x="5821200" y="4508640"/>
            <a:ext cx="1863720" cy="1390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60360" y="243000"/>
            <a:ext cx="45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three axis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3400" y="5769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xis ori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Using a CNC Rout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4040" y="1378080"/>
            <a:ext cx="6283080" cy="39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spects: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ett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Datum point &amp;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 of the mach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09640" y="274680"/>
            <a:ext cx="5324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2-D Machining princip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4160" y="1023840"/>
            <a:ext cx="7067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ool offsets and dep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879640" y="911160"/>
            <a:ext cx="4878360" cy="3643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52440" y="4168800"/>
            <a:ext cx="4210200" cy="2189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166760" y="4068720"/>
            <a:ext cx="4473720" cy="2384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170000" y="4068720"/>
            <a:ext cx="4473720" cy="238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1300320"/>
            <a:ext cx="2422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 / Machin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hine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ove h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grav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through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43720" y="4734000"/>
            <a:ext cx="27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mm Dia. Slot Cu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00480" y="5580000"/>
            <a:ext cx="3394080" cy="996840"/>
            <a:chOff x="5100480" y="5580000"/>
            <a:chExt cx="3394080" cy="996840"/>
          </a:xfrm>
        </p:grpSpPr>
        <p:sp>
          <p:nvSpPr>
            <p:cNvPr id="182" name=""/>
            <p:cNvSpPr/>
            <p:nvPr/>
          </p:nvSpPr>
          <p:spPr>
            <a:xfrm>
              <a:off x="5433840" y="558000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0160" y="558000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0480" y="635796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509800" y="635796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6280" y="6107040"/>
              <a:ext cx="27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 mm contour 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32000" y="1463760"/>
            <a:ext cx="4130640" cy="4844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90560" y="550800"/>
            <a:ext cx="4116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echSoft Exerci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icture 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4043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echSoft Exerci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4800" y="1248840"/>
            <a:ext cx="894096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se setup file ‘Frame Template.CFG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44520" y="1838160"/>
            <a:ext cx="8104320" cy="4799160"/>
            <a:chOff x="344520" y="1838160"/>
            <a:chExt cx="8104320" cy="479916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6114960" y="2914560"/>
              <a:ext cx="1687680" cy="37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44520" y="1838160"/>
              <a:ext cx="810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IE" sz="2800" spc="-1" strike="noStrike">
                  <a:solidFill>
                    <a:srgbClr val="000000"/>
                  </a:solidFill>
                  <a:latin typeface="Arial"/>
                </a:rPr>
                <a:t>Use Template file ‘Frame TEMPLATE.dtd</a:t>
              </a:r>
              <a:r>
                <a:rPr b="0" lang="en-IE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44520" y="407988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chine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4520" y="23954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d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" y="2914560"/>
            <a:ext cx="561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dit to incorporate text in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170760" y="2933640"/>
            <a:ext cx="1687320" cy="37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423200" y="2430360"/>
            <a:ext cx="876240" cy="968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7264080" y="2914560"/>
            <a:ext cx="5382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4520" y="3503520"/>
            <a:ext cx="47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too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58960" y="274680"/>
            <a:ext cx="586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PCB Manuf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03240" y="1917720"/>
            <a:ext cx="2946600" cy="3095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856040" y="1935000"/>
            <a:ext cx="3189240" cy="2954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41360" y="5167440"/>
            <a:ext cx="40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46840" y="5176800"/>
            <a:ext cx="25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B layout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6920" y="3105000"/>
            <a:ext cx="1006200" cy="235080"/>
          </a:xfrm>
          <a:prstGeom prst="rightArrow">
            <a:avLst>
              <a:gd name="adj1" fmla="val 50000"/>
              <a:gd name="adj2" fmla="val 1070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" y="981000"/>
            <a:ext cx="45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tor Contro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11080" y="274680"/>
            <a:ext cx="4314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PCB Manuf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8720" y="915840"/>
            <a:ext cx="50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mportant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1160" y="319716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latness of PCB on machine table -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8560" y="2759040"/>
            <a:ext cx="75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cks etc should be adjusted before export to CAD/CAM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2080" y="19242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lacement of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82720" y="1495440"/>
            <a:ext cx="4006800" cy="4964040"/>
            <a:chOff x="882720" y="1495440"/>
            <a:chExt cx="4006800" cy="496404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1114560" y="3784680"/>
              <a:ext cx="2887560" cy="26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82720" y="1495440"/>
              <a:ext cx="40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Track Width and Isolation G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898560" y="2313000"/>
            <a:ext cx="6918120" cy="3965400"/>
            <a:chOff x="898560" y="2313000"/>
            <a:chExt cx="6918120" cy="3965400"/>
          </a:xfrm>
        </p:grpSpPr>
        <p:sp>
          <p:nvSpPr>
            <p:cNvPr id="218" name=""/>
            <p:cNvSpPr/>
            <p:nvPr/>
          </p:nvSpPr>
          <p:spPr>
            <a:xfrm>
              <a:off x="898560" y="2313000"/>
              <a:ext cx="28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Full copper rem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4751280" y="4059360"/>
              <a:ext cx="3065400" cy="22190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23960" y="1100160"/>
            <a:ext cx="78915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troduce simple CNC routing techniques &amp;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perience CAD / CAM desig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perience the use of CNC routing to: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i) Carry out a simple 2-D machining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ii) Manufacture a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3880" y="19836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AD/CAM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3960" y="3314880"/>
            <a:ext cx="6800760" cy="893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3600" y="274680"/>
            <a:ext cx="6746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PCB Manufacture Denfor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4080" y="1960560"/>
            <a:ext cx="647064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: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CAM 2D Desig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2D profil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R Milling V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trol software, PCB 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CAM Pr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3D &amp; Lithopane Machin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3600" y="274680"/>
            <a:ext cx="6746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PCB Manufacture Denfor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9280" y="342252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 hazardous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22280" y="1036800"/>
            <a:ext cx="7953480" cy="3295440"/>
            <a:chOff x="422280" y="1036800"/>
            <a:chExt cx="7953480" cy="3295440"/>
          </a:xfrm>
        </p:grpSpPr>
        <p:sp>
          <p:nvSpPr>
            <p:cNvPr id="226" name=""/>
            <p:cNvSpPr/>
            <p:nvPr/>
          </p:nvSpPr>
          <p:spPr>
            <a:xfrm>
              <a:off x="422280" y="1036800"/>
              <a:ext cx="758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IE" sz="2800" spc="-1" strike="noStrike">
                  <a:solidFill>
                    <a:srgbClr val="000000"/>
                  </a:solidFill>
                  <a:latin typeface="Arial"/>
                </a:rPr>
                <a:t>Dry machine tracks using Vee engraving to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rcRect l="4667" t="0" r="11332" b="8584"/>
            <a:stretch/>
          </p:blipFill>
          <p:spPr>
            <a:xfrm>
              <a:off x="6318360" y="2046240"/>
              <a:ext cx="205740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654280" y="4078440"/>
            <a:ext cx="2873520" cy="254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420840" y="181620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rill holes using PCB dr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pot with vee tool and drill by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Specific Neutral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360000"/>
            <a:ext cx="8424720" cy="29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Gerb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quired by VR Milling for PCB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reated as a set – one layer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ed to identify which file contains item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638360" y="3440160"/>
            <a:ext cx="4951440" cy="2300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9360" y="3440160"/>
            <a:ext cx="690480" cy="507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28960" y="4359240"/>
            <a:ext cx="690480" cy="507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95880" y="3255840"/>
            <a:ext cx="11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il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19440" y="3439800"/>
            <a:ext cx="67644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9720" y="39337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de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643280" y="4300560"/>
            <a:ext cx="8352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echSoft Exerci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3760" y="1573200"/>
            <a:ext cx="82296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oftware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chSoft 2D Design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- 2D Mach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chsoft PCB Design &amp; Mak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– PCB 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isual Tool Path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- 3D mach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9200" y="1100160"/>
            <a:ext cx="75992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Resource Material :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lications of CAD / CAM i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haracteristics of TechSoft / Denford CNC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-D Machining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CB Manufactur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endix to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tting up the Machine &amp;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mporting a CAD Drawing in DXF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le transfer betwee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3880" y="19836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AD/CAM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8200" y="4332240"/>
            <a:ext cx="8385120" cy="1319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0280" y="274680"/>
            <a:ext cx="4541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AD/CAM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ypes of CNC machine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NC Lathes  -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ylinders, Tapers, Threads, Flat su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ser Technology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– Accurate 2D profiles from Wood &amp; 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NC Routers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– Versatile; 2D, 3D, Scan in 3D  &amp;  PCB 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24400" y="23184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9280" y="1320840"/>
            <a:ext cx="59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-D profile cu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33560" y="2077920"/>
            <a:ext cx="662292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32480" y="23184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9280" y="1320840"/>
            <a:ext cx="59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B Manufa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3383" t="3463" r="8766" b="6447"/>
          <a:stretch/>
        </p:blipFill>
        <p:spPr>
          <a:xfrm>
            <a:off x="787320" y="2190600"/>
            <a:ext cx="3024360" cy="30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892080" y="54658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B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3480" y="5465880"/>
            <a:ext cx="25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hined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0" t="0" r="56324" b="0"/>
          <a:stretch/>
        </p:blipFill>
        <p:spPr>
          <a:xfrm>
            <a:off x="4854600" y="2190600"/>
            <a:ext cx="3041640" cy="297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916440" y="3749760"/>
            <a:ext cx="807840" cy="171360"/>
          </a:xfrm>
          <a:prstGeom prst="rightArrow">
            <a:avLst>
              <a:gd name="adj1" fmla="val 50000"/>
              <a:gd name="adj2" fmla="val 1178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2764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040" y="1969920"/>
            <a:ext cx="3587760" cy="275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546440" y="2114640"/>
            <a:ext cx="3559320" cy="266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965160" y="110808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-D Mach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4040" y="541800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D 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45160" y="5418000"/>
            <a:ext cx="332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81360" y="541800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hine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02160" y="3292560"/>
            <a:ext cx="807840" cy="171360"/>
          </a:xfrm>
          <a:prstGeom prst="rightArrow">
            <a:avLst>
              <a:gd name="adj1" fmla="val 50000"/>
              <a:gd name="adj2" fmla="val 1178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Self Centering 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31760" y="1363680"/>
            <a:ext cx="6726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06920" y="18108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63560" y="2081160"/>
            <a:ext cx="5150160" cy="4002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008000" y="1087560"/>
            <a:ext cx="23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D 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0:11:05Z</dcterms:created>
  <dc:creator>Elizabeth Davis</dc:creator>
  <dc:description/>
  <dc:language>en-US</dc:language>
  <cp:lastModifiedBy>Elizabeth Davis</cp:lastModifiedBy>
  <dcterms:modified xsi:type="dcterms:W3CDTF">2008-02-18T13:00:45Z</dcterms:modified>
  <cp:revision>318</cp:revision>
  <dc:subject/>
  <dc:title>Slide 1</dc:title>
</cp:coreProperties>
</file>