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18.wmf" ContentType="image/x-wmf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20.wmf" ContentType="image/x-wmf"/>
  <Override PartName="/ppt/media/image17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media/image28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138A-6374-43F5-8410-A7127749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AAF-BFA0-49FA-BF3B-C0EFD1F5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C0E1-9AD7-4089-8027-A5C0B965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378A-146A-450E-B344-B9D824443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40FA6-2069-4843-AEB1-D6C71C05B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93588-EB08-40C4-9DB6-BD0C2DFA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A5ED7-B672-43AB-B234-974C9798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02E99-E78B-4391-84A1-F0C39749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2E9F2-A3E1-42F1-BA89-243BC5CA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300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CF0E9-2199-49DD-9DD9-23B743E0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2C6B-836D-4A69-810F-D5EB72B7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CBE-0EEE-4CDE-ACA2-32883AD8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81F6-11CF-476C-A487-65E06D83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9917-B022-45A4-BC65-B8B7F27A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5FF6-660D-41BF-AF2B-C902F95F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2303-38A1-408A-BB1E-E6C71A6B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AF593-9DD4-4960-A1EB-2820A229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85E11-F789-47FB-884C-BBB8C688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4C724-D3CA-4F7C-9A7B-0F3458E6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19E57-561E-439C-AFDB-CBC9FEF61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AA9D1-DB2D-4EE3-837E-AD45FF76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FE89C-1D99-432F-93F7-8037D4DB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5272-F3BC-4F99-8214-370B4186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300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B1DB3-A4B1-48EB-9F15-B4CBA729D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01D4F-B881-4825-B6F8-A1C3CA98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0B5AE-E36F-479E-AE4A-F5AE8909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E9D2D-94C0-4EB2-A887-18F16B2F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C2734-C2B1-4EBD-96C4-02FE2561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9632B-9F64-4FBE-B0A2-03AE29B7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8366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9504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2A393-82CE-46CC-B93F-62FBD5511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022-A627-44F9-995B-74D74970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754-EDDF-44C3-A806-CE6FDB0E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300800" cy="234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3473-3746-4188-9F87-663D9D6B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1F9-D3CC-4163-94A3-7253A311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950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D822-1134-42C1-B1C9-79B522C2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7300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83664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9504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9B63-13FA-4F82-9F3E-38CABA60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→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250920" y="6402240"/>
            <a:ext cx="14414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9B73-C437-4FA6-A832-97C59F7D9E6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1979280" y="6400800"/>
            <a:ext cx="504036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380360" y="6402240"/>
            <a:ext cx="1341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11F7-1A0B-41C0-A6A3-48C32F4E2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8E08-8CA0-4FE1-B47F-8DE8E6B935E8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CF42-18D5-4417-89F7-C24DF1627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B92DA-57AA-457D-9ABE-CF303DA16542}" type="datetime">
              <a:rPr b="0" lang="en-GB" sz="14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F92D-1BDE-4FC0-91C9-D024B2692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5400" spc="-1" strike="noStrike">
                <a:solidFill>
                  <a:srgbClr val="000000"/>
                </a:solidFill>
                <a:latin typeface="Arial"/>
              </a:rPr>
              <a:t>Manufacturing System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Arial"/>
              </a:rPr>
              <a:t>Rd 6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D/C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2D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05040" y="1147680"/>
            <a:ext cx="22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grav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10200" y="5394240"/>
            <a:ext cx="430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ised engraving on a curved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" y="2496960"/>
            <a:ext cx="3216240" cy="241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rcRect l="0" t="4186" r="12159" b="0"/>
          <a:stretch/>
        </p:blipFill>
        <p:spPr>
          <a:xfrm>
            <a:off x="4421160" y="2082960"/>
            <a:ext cx="3529080" cy="2830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79600" y="5415120"/>
            <a:ext cx="30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00800" y="212760"/>
            <a:ext cx="27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NC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47560" y="2103480"/>
            <a:ext cx="3529080" cy="33354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4616280" y="2055960"/>
            <a:ext cx="3517920" cy="33559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43120" y="1117440"/>
            <a:ext cx="575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hopane Mach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41680" y="5749920"/>
            <a:ext cx="33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ght Box Monochrome 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grees of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251000" y="1677960"/>
            <a:ext cx="5869080" cy="40798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 rot="7763400">
            <a:off x="5821200" y="4508640"/>
            <a:ext cx="1863720" cy="1390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260360" y="243000"/>
            <a:ext cx="45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NC three axis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3400" y="5769000"/>
            <a:ext cx="501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xis ori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Using a CNC Routing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4040" y="1378080"/>
            <a:ext cx="6283080" cy="39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 aspects: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ing h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olsetting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Datum point &amp;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amming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eration of the machin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09640" y="274680"/>
            <a:ext cx="53244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2-D Machining princip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4160" y="1023840"/>
            <a:ext cx="70675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Tool offsets and dep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2879640" y="911160"/>
            <a:ext cx="4878360" cy="36432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252440" y="4168800"/>
            <a:ext cx="4210200" cy="21891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166760" y="4068720"/>
            <a:ext cx="4473720" cy="2384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5"/>
          <a:stretch/>
        </p:blipFill>
        <p:spPr>
          <a:xfrm>
            <a:off x="1170000" y="4068720"/>
            <a:ext cx="4473720" cy="2384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57200" y="1300320"/>
            <a:ext cx="242244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der / Machine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hine Po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move h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grav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ut through pro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43720" y="4734000"/>
            <a:ext cx="27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 mm Dia. Slot Cu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100480" y="5580000"/>
            <a:ext cx="3394080" cy="996840"/>
            <a:chOff x="5100480" y="5580000"/>
            <a:chExt cx="3394080" cy="996840"/>
          </a:xfrm>
        </p:grpSpPr>
        <p:sp>
          <p:nvSpPr>
            <p:cNvPr id="182" name=""/>
            <p:cNvSpPr/>
            <p:nvPr/>
          </p:nvSpPr>
          <p:spPr>
            <a:xfrm>
              <a:off x="5433840" y="558000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10160" y="5580000"/>
              <a:ext cx="0" cy="9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00480" y="635796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509800" y="635796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86280" y="6107040"/>
              <a:ext cx="270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 mm contour 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232000" y="1463760"/>
            <a:ext cx="4130640" cy="484488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90560" y="550800"/>
            <a:ext cx="4116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TechSoft Exerci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icture H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40435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TechSoft Exerci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34800" y="1248840"/>
            <a:ext cx="8940960" cy="7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Use setup file ‘Frame Template.CFG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44520" y="1838160"/>
            <a:ext cx="8104320" cy="4799160"/>
            <a:chOff x="344520" y="1838160"/>
            <a:chExt cx="8104320" cy="479916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6114960" y="2914560"/>
              <a:ext cx="1687680" cy="372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344520" y="1838160"/>
              <a:ext cx="810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IE" sz="2800" spc="-1" strike="noStrike">
                  <a:solidFill>
                    <a:srgbClr val="000000"/>
                  </a:solidFill>
                  <a:latin typeface="Arial"/>
                </a:rPr>
                <a:t>Use Template file ‘Frame TEMPLATE.dtd</a:t>
              </a:r>
              <a:r>
                <a:rPr b="0" lang="en-IE" sz="24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44520" y="4079880"/>
            <a:ext cx="367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chine p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44520" y="2395440"/>
            <a:ext cx="34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dd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4800" y="2914560"/>
            <a:ext cx="56199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Edit to incorporate text in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170760" y="2933640"/>
            <a:ext cx="1687320" cy="37227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423200" y="2430360"/>
            <a:ext cx="876240" cy="968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flipH="1">
            <a:off x="7264080" y="2914560"/>
            <a:ext cx="538200" cy="48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4520" y="3503520"/>
            <a:ext cx="474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d tool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58960" y="274680"/>
            <a:ext cx="58672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PCB Manuf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903240" y="1917720"/>
            <a:ext cx="2946600" cy="30956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856040" y="1935000"/>
            <a:ext cx="3189240" cy="295452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441360" y="5167440"/>
            <a:ext cx="401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ircuit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46840" y="5176800"/>
            <a:ext cx="25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B layout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6920" y="3105000"/>
            <a:ext cx="1006200" cy="235080"/>
          </a:xfrm>
          <a:prstGeom prst="rightArrow">
            <a:avLst>
              <a:gd name="adj1" fmla="val 50000"/>
              <a:gd name="adj2" fmla="val 10700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200" y="981000"/>
            <a:ext cx="454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tor Control Circ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11080" y="274680"/>
            <a:ext cx="43149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PCB Manufa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28720" y="915840"/>
            <a:ext cx="502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mportant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1160" y="3197160"/>
            <a:ext cx="639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latness of PCB on machine table -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98560" y="2759040"/>
            <a:ext cx="75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racks etc should be adjusted before export to CAD/CAM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92080" y="19242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lacement of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82720" y="1495440"/>
            <a:ext cx="4006800" cy="4964040"/>
            <a:chOff x="882720" y="1495440"/>
            <a:chExt cx="4006800" cy="4964040"/>
          </a:xfrm>
        </p:grpSpPr>
        <p:pic>
          <p:nvPicPr>
            <p:cNvPr id="215" name="" descr=""/>
            <p:cNvPicPr/>
            <p:nvPr/>
          </p:nvPicPr>
          <p:blipFill>
            <a:blip r:embed="rId2"/>
            <a:stretch/>
          </p:blipFill>
          <p:spPr>
            <a:xfrm>
              <a:off x="1114560" y="3784680"/>
              <a:ext cx="2887560" cy="267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882720" y="1495440"/>
              <a:ext cx="400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Track Width and Isolation G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898560" y="2313000"/>
            <a:ext cx="6918120" cy="3965400"/>
            <a:chOff x="898560" y="2313000"/>
            <a:chExt cx="6918120" cy="3965400"/>
          </a:xfrm>
        </p:grpSpPr>
        <p:sp>
          <p:nvSpPr>
            <p:cNvPr id="218" name=""/>
            <p:cNvSpPr/>
            <p:nvPr/>
          </p:nvSpPr>
          <p:spPr>
            <a:xfrm>
              <a:off x="898560" y="2313000"/>
              <a:ext cx="28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Full copper remov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3"/>
            <a:stretch/>
          </p:blipFill>
          <p:spPr>
            <a:xfrm>
              <a:off x="4751280" y="4059360"/>
              <a:ext cx="3065400" cy="2219040"/>
            </a:xfrm>
            <a:prstGeom prst="rect">
              <a:avLst/>
            </a:prstGeom>
            <a:ln w="1908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23960" y="1100160"/>
            <a:ext cx="789156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ntroduce simple CNC routing techniques &amp; princi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xperience CAD / CAM desig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xperience the use of CNC routing to: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i) Carry out a simple 2-D machining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ii) Manufacture a PC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03880" y="198360"/>
            <a:ext cx="44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AD/CAM 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23960" y="3314880"/>
            <a:ext cx="6800760" cy="8935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23600" y="274680"/>
            <a:ext cx="6746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PCB Manufacture Denford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054080" y="1960560"/>
            <a:ext cx="647064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: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CAM 2D Design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2D profil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R Milling V5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- Control software, PCB manufa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ickCAM Pro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3D &amp; Lithopane Machini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23600" y="274680"/>
            <a:ext cx="6746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PCB Manufacture Denford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9280" y="3422520"/>
            <a:ext cx="64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o hazardous chemic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22280" y="1036800"/>
            <a:ext cx="7953480" cy="3295440"/>
            <a:chOff x="422280" y="1036800"/>
            <a:chExt cx="7953480" cy="3295440"/>
          </a:xfrm>
        </p:grpSpPr>
        <p:sp>
          <p:nvSpPr>
            <p:cNvPr id="226" name=""/>
            <p:cNvSpPr/>
            <p:nvPr/>
          </p:nvSpPr>
          <p:spPr>
            <a:xfrm>
              <a:off x="422280" y="1036800"/>
              <a:ext cx="7580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2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IE" sz="2800" spc="-1" strike="noStrike">
                  <a:solidFill>
                    <a:srgbClr val="000000"/>
                  </a:solidFill>
                  <a:latin typeface="Arial"/>
                </a:rPr>
                <a:t>Dry machine tracks using Vee engraving too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" descr=""/>
            <p:cNvPicPr/>
            <p:nvPr/>
          </p:nvPicPr>
          <p:blipFill>
            <a:blip r:embed="rId2"/>
            <a:srcRect l="4667" t="0" r="11332" b="8584"/>
            <a:stretch/>
          </p:blipFill>
          <p:spPr>
            <a:xfrm>
              <a:off x="6318360" y="2046240"/>
              <a:ext cx="2057400" cy="228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2654280" y="4078440"/>
            <a:ext cx="2873520" cy="2547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420840" y="1816200"/>
            <a:ext cx="6151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rill holes using PCB dri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pot with vee tool and drill by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Specific Neutral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360000"/>
            <a:ext cx="8424720" cy="29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Gerb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quired by VR Milling for PCB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reated as a set – one layer to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eed to identify which file contains items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638360" y="3440160"/>
            <a:ext cx="4951440" cy="23004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789360" y="3440160"/>
            <a:ext cx="690480" cy="507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28960" y="4359240"/>
            <a:ext cx="690480" cy="5079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95880" y="3255840"/>
            <a:ext cx="11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rill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519440" y="3439800"/>
            <a:ext cx="67644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049720" y="393372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lder Si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643280" y="4300560"/>
            <a:ext cx="83520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TechSoft Exercis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93760" y="1573200"/>
            <a:ext cx="822960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oftware: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echSoft 2D Design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- 2D Mach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echsoft PCB Design &amp; Make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– PCB manufa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Visual Tool Path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- 3D mach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19200" y="1100160"/>
            <a:ext cx="7599240" cy="50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Resource Material :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pplications of CAD / CAM in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haracteristics of TechSoft / Denford CNC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2-D Machining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CB Manufacture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ppendix to inclu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etting up the Machine &amp;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mporting a CAD Drawing in DXF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ile transfer betwee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3880" y="198360"/>
            <a:ext cx="44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AD/CAM 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68200" y="4332240"/>
            <a:ext cx="8385120" cy="13194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00280" y="274680"/>
            <a:ext cx="45417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AD/CAM 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ypes of CNC machine: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NC Lathes  -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ylinders, Tapers, Threads, Flat su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aser Technology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– Accurate 2D profiles from Wood &amp; Pla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NC Routers 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– Versatile; 2D, 3D, Scan in 3D  &amp;  PCB manufa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24400" y="231840"/>
            <a:ext cx="27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NC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19280" y="1320840"/>
            <a:ext cx="59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-D profile cu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033560" y="2077920"/>
            <a:ext cx="6622920" cy="38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032480" y="231840"/>
            <a:ext cx="27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NC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19280" y="1320840"/>
            <a:ext cx="598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CB Manufa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rcRect l="3383" t="3463" r="8766" b="6447"/>
          <a:stretch/>
        </p:blipFill>
        <p:spPr>
          <a:xfrm>
            <a:off x="787320" y="2190600"/>
            <a:ext cx="3024360" cy="3024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892080" y="546588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CB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73480" y="5465880"/>
            <a:ext cx="254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hined PC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rcRect l="0" t="0" r="56324" b="0"/>
          <a:stretch/>
        </p:blipFill>
        <p:spPr>
          <a:xfrm>
            <a:off x="4854600" y="2190600"/>
            <a:ext cx="3041640" cy="2975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40" name=""/>
          <p:cNvSpPr/>
          <p:nvPr/>
        </p:nvSpPr>
        <p:spPr>
          <a:xfrm>
            <a:off x="3916440" y="3749760"/>
            <a:ext cx="807840" cy="171360"/>
          </a:xfrm>
          <a:prstGeom prst="rightArrow">
            <a:avLst>
              <a:gd name="adj1" fmla="val 50000"/>
              <a:gd name="adj2" fmla="val 1178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274680"/>
            <a:ext cx="276408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NC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5040" y="1969920"/>
            <a:ext cx="3587760" cy="2756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546440" y="2114640"/>
            <a:ext cx="3559320" cy="2662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965160" y="1108080"/>
            <a:ext cx="45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-D Mach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4040" y="541800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D 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45160" y="5418000"/>
            <a:ext cx="3322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81360" y="541800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chined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02160" y="3292560"/>
            <a:ext cx="807840" cy="171360"/>
          </a:xfrm>
          <a:prstGeom prst="rightArrow">
            <a:avLst>
              <a:gd name="adj1" fmla="val 50000"/>
              <a:gd name="adj2" fmla="val 11785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3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Self Centering 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031760" y="1363680"/>
            <a:ext cx="67262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06920" y="181080"/>
            <a:ext cx="27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ff6600"/>
                </a:solidFill>
                <a:latin typeface="Arial"/>
              </a:rPr>
              <a:t>CNC Rou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63560" y="2081160"/>
            <a:ext cx="5150160" cy="40021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1008000" y="1087560"/>
            <a:ext cx="23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D Sc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0:11:05Z</dcterms:created>
  <dc:creator>Elizabeth Davis</dc:creator>
  <dc:description/>
  <dc:language>en-US</dc:language>
  <cp:lastModifiedBy>Elizabeth Davis</cp:lastModifiedBy>
  <dcterms:modified xsi:type="dcterms:W3CDTF">2008-02-18T13:00:45Z</dcterms:modified>
  <cp:revision>318</cp:revision>
  <dc:subject/>
  <dc:title>Slide 1</dc:title>
</cp:coreProperties>
</file>