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802-BA5B-4943-B00D-5751A7D8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5F7-AE3D-45BB-803A-327D2A8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FC3-8BE8-473C-A9AC-42974199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A67-1F42-4D67-8943-B0FB29F1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0F1-6954-4034-9953-2222E3C2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83E-B3B4-412A-93A8-4D8BE27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B81-25F1-480C-91FD-23857821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F61-934C-4B07-B057-A55456FC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EE6-E265-42CF-AEBC-0A5C6C4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AF9-2AF3-4801-AD2F-61EB514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4CA-05C6-4F26-9525-F64A6AE9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D90-0955-46B2-B743-054EF05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ECF-F85B-4649-9A86-D3295278E30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8320" y="1123920"/>
          <a:ext cx="414828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123920"/>
                    <a:ext cx="414828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54120" y="509760"/>
          <a:ext cx="6529320" cy="59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509760"/>
                    <a:ext cx="652932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54120" y="509760"/>
          <a:ext cx="6529320" cy="59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509760"/>
                    <a:ext cx="652932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68320" y="1123920"/>
          <a:ext cx="414828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123920"/>
                    <a:ext cx="414828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68320" y="1123920"/>
          <a:ext cx="41482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123920"/>
                    <a:ext cx="41482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68320" y="1123920"/>
          <a:ext cx="41482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123920"/>
                    <a:ext cx="41482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68320" y="1123920"/>
          <a:ext cx="41482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123920"/>
                    <a:ext cx="41482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68320" y="1123920"/>
          <a:ext cx="41482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123920"/>
                    <a:ext cx="41482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68320" y="357120"/>
          <a:ext cx="41482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57120"/>
                    <a:ext cx="4148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54120" y="509760"/>
          <a:ext cx="5262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509760"/>
                    <a:ext cx="5262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4120" y="509760"/>
          <a:ext cx="6529320" cy="59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509760"/>
                    <a:ext cx="652932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9:47:47Z</dcterms:created>
  <dc:creator>mary o'hanlon</dc:creator>
  <dc:description/>
  <dc:language>en-US</dc:language>
  <cp:lastModifiedBy>mary o'hanlon</cp:lastModifiedBy>
  <dcterms:modified xsi:type="dcterms:W3CDTF">2007-11-14T19:48:25Z</dcterms:modified>
  <cp:revision>1</cp:revision>
  <dc:subject/>
  <dc:title>Slide 1</dc:title>
</cp:coreProperties>
</file>