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0660-2719-4DC9-91C5-3FDD8C87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59DF-11A9-4E28-A117-6A19F99D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64EE-8924-4049-83FE-920AA4D8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B984-7133-4C48-81C0-FCA34B9E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2917-84ED-4FED-A6EE-39460D80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4980-91A0-4FEA-B63C-89246C03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3E3C-389B-40AF-B147-8F13B972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BA8A-6EFC-4F9C-86FE-69340D8C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D37-82F6-468E-946C-D3CD956E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7F69-A14E-49D8-80AE-A3368F29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AB5A-2D76-41B5-8594-C73D8E19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642-21A2-45F6-841E-BB285237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306C-2181-40D4-9F4A-AA2712C970C0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15960" y="971640"/>
          <a:ext cx="484020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971640"/>
                    <a:ext cx="48402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15960" y="971640"/>
          <a:ext cx="484020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971640"/>
                    <a:ext cx="48402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15960" y="971640"/>
          <a:ext cx="484020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971640"/>
                    <a:ext cx="48402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15960" y="971640"/>
          <a:ext cx="484020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971640"/>
                    <a:ext cx="48402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15960" y="971640"/>
          <a:ext cx="484020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971640"/>
                    <a:ext cx="48402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15960" y="971640"/>
          <a:ext cx="484020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971640"/>
                    <a:ext cx="48402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15960" y="971640"/>
          <a:ext cx="484020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971640"/>
                    <a:ext cx="48402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15960" y="971640"/>
          <a:ext cx="484020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971640"/>
                    <a:ext cx="48402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5960" y="971640"/>
          <a:ext cx="484020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971640"/>
                    <a:ext cx="48402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5960" y="971640"/>
          <a:ext cx="484020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971640"/>
                    <a:ext cx="48402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9:06:47Z</dcterms:created>
  <dc:creator>mary o'hanlon</dc:creator>
  <dc:description/>
  <dc:language>en-US</dc:language>
  <cp:lastModifiedBy>mary o'hanlon</cp:lastModifiedBy>
  <dcterms:modified xsi:type="dcterms:W3CDTF">2007-11-14T19:07:18Z</dcterms:modified>
  <cp:revision>1</cp:revision>
  <dc:subject/>
  <dc:title>Slide 1</dc:title>
</cp:coreProperties>
</file>