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ED0A-6360-47B8-9244-39A05D6A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E838-699E-4728-BC4B-635383BA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6AEB-D18A-4871-A274-F991DD90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65EB-4A2D-419E-A228-00E3FF5D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CB2E-00E3-4048-B75C-1414ADF7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EEEF-C5BF-4300-A12A-C41781BF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83F6-1CA5-43FF-A297-D81587BA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DBBC-25E3-4D1D-A757-D11C04A5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3254-FD7A-4C3F-898B-F1799ADD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AA77-BEFD-4DC9-92A9-AE5CA71D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EDEC-09C3-45CC-8C05-872AE9EA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120C-B196-4FE3-8C53-689F997F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EB1E-8661-48C5-91C6-4CAE0BE00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23840" y="909720"/>
          <a:ext cx="8896320" cy="50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909720"/>
                    <a:ext cx="8896320" cy="50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the cutting plane through points A2,B2 and C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92280" y="1600200"/>
          <a:ext cx="77594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600200"/>
                    <a:ext cx="7759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points which the cutting plane pass through project back up to the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92280" y="1600200"/>
          <a:ext cx="77594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600200"/>
                    <a:ext cx="7759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 lines from the auxiliary touch the plan project these up to the ele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92280" y="1600200"/>
          <a:ext cx="77594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600200"/>
                    <a:ext cx="7759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d lined area is the section which is cut by the plane this is set up by joining all the projected lines from the auxiliary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92280" y="1600200"/>
          <a:ext cx="77594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600200"/>
                    <a:ext cx="7759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now heavy in the final shape as shown bel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92280" y="1600200"/>
          <a:ext cx="77594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600200"/>
                    <a:ext cx="7759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lly draw in sectioning into the cut area, question is now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92280" y="1600200"/>
          <a:ext cx="77594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600200"/>
                    <a:ext cx="7759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construct the given elevation, be sure to label points A,B,C which oblique plane cuts throug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76360" y="1600200"/>
          <a:ext cx="79912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600200"/>
                    <a:ext cx="79912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down all key points in construction to set up the 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76360" y="1600200"/>
          <a:ext cx="79912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600200"/>
                    <a:ext cx="79912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in a plan as given in the question, again mark in A,B,C as these are key points of the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76360" y="1600200"/>
          <a:ext cx="79912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600200"/>
                    <a:ext cx="79912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 points A,B,C in both elevation and plan to create a common triangula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92280" y="1600200"/>
          <a:ext cx="77594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600200"/>
                    <a:ext cx="7759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 the triangular plane as you would a triangle in a planes question and find a true line coming from B by drawing a horizontal line from B in the elevation and then find it in the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92280" y="1600200"/>
          <a:ext cx="77594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600200"/>
                    <a:ext cx="7759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the construction looking in, in the direction of the arrow and set up a X1,Y1 line perpendicular to the projected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92280" y="1600200"/>
          <a:ext cx="77594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600200"/>
                    <a:ext cx="7759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lways for a auxiliary take critical heights from two views back to mark off  in this case H1,H2 and H3. X1,Y1 is the ground l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92280" y="1600200"/>
          <a:ext cx="77594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600200"/>
                    <a:ext cx="7759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in the auxiliary view and show all hidden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92280" y="1600200"/>
          <a:ext cx="77594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600200"/>
                    <a:ext cx="7759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19:17:27Z</dcterms:created>
  <dc:creator>AUDREY WALSH</dc:creator>
  <dc:description/>
  <dc:language>en-US</dc:language>
  <cp:lastModifiedBy>AUDREY WALSH</cp:lastModifiedBy>
  <dcterms:modified xsi:type="dcterms:W3CDTF">2005-04-24T21:47:58Z</dcterms:modified>
  <cp:revision>5</cp:revision>
  <dc:subject/>
  <dc:title>Slide 1</dc:title>
</cp:coreProperties>
</file>