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030-26A2-439A-8B7B-31D32E1A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BC6-F095-4148-BC74-227FAC6D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ADB-CFE5-412E-89B3-CC356438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E75-F9F2-4B0A-BFD6-577B0058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D0B8-D231-4DDC-B258-E71F8190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DB11-82B4-4CEF-A139-37685F1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041-2D70-4D8B-B8FC-E1BEC76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928-0466-4FD1-8A1B-B525E9A3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7907-AB81-43C1-92B0-5FDE32C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ECF-B33B-4C56-98EA-C7B87CD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C3F-C8E0-413C-AAF0-9619A1E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5EC-8A9B-4A96-9E4C-9659B615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16F2-E7D8-49F0-B773-D5338F5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C02-9BF2-49FA-97CC-A1CFF28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60D6-59E5-4BFA-866F-F60F724B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707-434F-4F6A-ADB5-1124BEE3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0C00-5E8B-4799-BBFD-CDF64EF5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F78-5914-4CAD-A19A-C43F27F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89A-8E66-4173-83AE-87494ED3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118-EB8C-490E-9E50-464C7B4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0A7-9CC7-425D-BB5A-D03975F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1FE-CBE7-423B-B04B-75A07C9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573-E5ED-4751-BEED-3DFD7C5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1B0-E4F5-4F50-B563-29E4771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30E3-C93F-47F5-9861-3E2B1DAC44E0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7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9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57" name="Picture 30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1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Rectangle 52"/>
          <p:cNvSpPr/>
          <p:nvPr/>
        </p:nvSpPr>
        <p:spPr>
          <a:xfrm>
            <a:off x="5508720" y="0"/>
            <a:ext cx="3635280" cy="278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" name="Group 53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2" name="Line 54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0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63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5"/>
          <a:stretch/>
        </p:blipFill>
        <p:spPr>
          <a:xfrm>
            <a:off x="3708360" y="5445000"/>
            <a:ext cx="18716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MPj04117520000[1]"/>
          <p:cNvPicPr/>
          <p:nvPr/>
        </p:nvPicPr>
        <p:blipFill>
          <a:blip r:embed="rId6"/>
          <a:stretch/>
        </p:blipFill>
        <p:spPr>
          <a:xfrm>
            <a:off x="0" y="0"/>
            <a:ext cx="185580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MPj04278250000[1]"/>
          <p:cNvPicPr/>
          <p:nvPr/>
        </p:nvPicPr>
        <p:blipFill>
          <a:blip r:embed="rId7"/>
          <a:srcRect l="23404" t="0" r="8673" b="0"/>
          <a:stretch/>
        </p:blipFill>
        <p:spPr>
          <a:xfrm>
            <a:off x="1835280" y="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MPj04225890000[1]"/>
          <p:cNvPicPr/>
          <p:nvPr/>
        </p:nvPicPr>
        <p:blipFill>
          <a:blip r:embed="rId8"/>
          <a:srcRect l="32721" t="0" r="9067" b="0"/>
          <a:stretch/>
        </p:blipFill>
        <p:spPr>
          <a:xfrm>
            <a:off x="3924360" y="0"/>
            <a:ext cx="2430360" cy="2781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A4D-9302-4EB3-AF71-9E51CD4AC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85228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 new Leaving Certificate Subject for 2</a:t>
            </a:r>
            <a:r>
              <a:rPr b="0" lang="en-GB" sz="32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Level School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5" name="Perfect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A practical, design based subject helping to contribute to a balanced educational curriculum.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294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9" name="Picture 52" descr="Insect"/>
          <p:cNvPicPr/>
          <p:nvPr/>
        </p:nvPicPr>
        <p:blipFill>
          <a:blip r:embed="rId1"/>
          <a:stretch/>
        </p:blipFill>
        <p:spPr>
          <a:xfrm>
            <a:off x="755640" y="2924280"/>
            <a:ext cx="3672000" cy="2793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3" descr="Vent"/>
          <p:cNvPicPr/>
          <p:nvPr/>
        </p:nvPicPr>
        <p:blipFill>
          <a:blip r:embed="rId2"/>
          <a:stretch/>
        </p:blipFill>
        <p:spPr>
          <a:xfrm>
            <a:off x="4716360" y="2930400"/>
            <a:ext cx="3384720" cy="2813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 Integrated Learning Experienc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755640" y="2492280"/>
            <a:ext cx="8000640" cy="3932280"/>
            <a:chOff x="755640" y="2492280"/>
            <a:chExt cx="8000640" cy="3932280"/>
          </a:xfrm>
        </p:grpSpPr>
        <p:graphicFrame>
          <p:nvGraphicFramePr>
            <p:cNvPr id="124" name="Object 24"/>
            <p:cNvGraphicFramePr/>
            <p:nvPr/>
          </p:nvGraphicFramePr>
          <p:xfrm>
            <a:off x="755640" y="2720880"/>
            <a:ext cx="153360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720880"/>
                      <a:ext cx="153360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" name="Group 25"/>
            <p:cNvGrpSpPr/>
            <p:nvPr/>
          </p:nvGrpSpPr>
          <p:grpSpPr>
            <a:xfrm>
              <a:off x="4962600" y="2720880"/>
              <a:ext cx="3793680" cy="2971800"/>
              <a:chOff x="4962600" y="2720880"/>
              <a:chExt cx="3793680" cy="2971800"/>
            </a:xfrm>
          </p:grpSpPr>
          <p:grpSp>
            <p:nvGrpSpPr>
              <p:cNvPr id="127" name="Group 26"/>
              <p:cNvGrpSpPr/>
              <p:nvPr/>
            </p:nvGrpSpPr>
            <p:grpSpPr>
              <a:xfrm>
                <a:off x="4962600" y="2918520"/>
                <a:ext cx="3683880" cy="2774160"/>
                <a:chOff x="4962600" y="2918520"/>
                <a:chExt cx="3683880" cy="2774160"/>
              </a:xfrm>
            </p:grpSpPr>
            <p:pic>
              <p:nvPicPr>
                <p:cNvPr id="128" name="Picture 27" descr=""/>
                <p:cNvPicPr/>
                <p:nvPr/>
              </p:nvPicPr>
              <p:blipFill>
                <a:blip r:embed="rId3"/>
                <a:stretch/>
              </p:blipFill>
              <p:spPr>
                <a:xfrm rot="16200000">
                  <a:off x="5417280" y="2463480"/>
                  <a:ext cx="2774160" cy="3683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Text Box 28"/>
                <p:cNvSpPr/>
                <p:nvPr/>
              </p:nvSpPr>
              <p:spPr>
                <a:xfrm>
                  <a:off x="7004160" y="5174640"/>
                  <a:ext cx="621360" cy="311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5640" rIns="3564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29"/>
              <p:cNvSpPr/>
              <p:nvPr/>
            </p:nvSpPr>
            <p:spPr>
              <a:xfrm>
                <a:off x="7491600" y="2720880"/>
                <a:ext cx="1264680" cy="39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131" name="Picture 30" descr=""/>
            <p:cNvPicPr/>
            <p:nvPr/>
          </p:nvPicPr>
          <p:blipFill>
            <a:blip r:embed="rId4"/>
            <a:srcRect l="23816" t="12025" r="21867" b="7803"/>
            <a:stretch/>
          </p:blipFill>
          <p:spPr>
            <a:xfrm>
              <a:off x="2538360" y="3681360"/>
              <a:ext cx="2147760" cy="198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31"/>
            <p:cNvGrpSpPr/>
            <p:nvPr/>
          </p:nvGrpSpPr>
          <p:grpSpPr>
            <a:xfrm>
              <a:off x="4641480" y="2492280"/>
              <a:ext cx="2196000" cy="2422440"/>
              <a:chOff x="4641480" y="2492280"/>
              <a:chExt cx="2196000" cy="2422440"/>
            </a:xfrm>
          </p:grpSpPr>
          <p:sp>
            <p:nvSpPr>
              <p:cNvPr id="133" name="Oval 32"/>
              <p:cNvSpPr/>
              <p:nvPr/>
            </p:nvSpPr>
            <p:spPr>
              <a:xfrm>
                <a:off x="5877000" y="3360600"/>
                <a:ext cx="274680" cy="136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4" name="Oval 33"/>
              <p:cNvSpPr/>
              <p:nvPr/>
            </p:nvSpPr>
            <p:spPr>
              <a:xfrm>
                <a:off x="6562800" y="2995560"/>
                <a:ext cx="274680" cy="1364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Line 34"/>
              <p:cNvSpPr/>
              <p:nvPr/>
            </p:nvSpPr>
            <p:spPr>
              <a:xfrm>
                <a:off x="6013440" y="2903400"/>
                <a:ext cx="0" cy="503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Line 35"/>
              <p:cNvSpPr/>
              <p:nvPr/>
            </p:nvSpPr>
            <p:spPr>
              <a:xfrm>
                <a:off x="6699240" y="2492280"/>
                <a:ext cx="0" cy="503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7" name="Line 36"/>
              <p:cNvSpPr/>
              <p:nvPr/>
            </p:nvSpPr>
            <p:spPr>
              <a:xfrm flipH="1">
                <a:off x="5145120" y="2903400"/>
                <a:ext cx="8683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8" name="Line 37"/>
              <p:cNvSpPr/>
              <p:nvPr/>
            </p:nvSpPr>
            <p:spPr>
              <a:xfrm>
                <a:off x="5145120" y="2903400"/>
                <a:ext cx="0" cy="201132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9" name="Line 38"/>
              <p:cNvSpPr/>
              <p:nvPr/>
            </p:nvSpPr>
            <p:spPr>
              <a:xfrm flipH="1">
                <a:off x="4641840" y="4914720"/>
                <a:ext cx="5032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0" name="Line 39"/>
              <p:cNvSpPr/>
              <p:nvPr/>
            </p:nvSpPr>
            <p:spPr>
              <a:xfrm flipH="1">
                <a:off x="4824360" y="2492280"/>
                <a:ext cx="18748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1" name="Line 40"/>
              <p:cNvSpPr/>
              <p:nvPr/>
            </p:nvSpPr>
            <p:spPr>
              <a:xfrm>
                <a:off x="4824360" y="2492280"/>
                <a:ext cx="0" cy="214776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Line 41"/>
              <p:cNvSpPr/>
              <p:nvPr/>
            </p:nvSpPr>
            <p:spPr>
              <a:xfrm flipH="1">
                <a:off x="4641480" y="4640040"/>
                <a:ext cx="1825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3" name="Line 42"/>
            <p:cNvSpPr/>
            <p:nvPr/>
          </p:nvSpPr>
          <p:spPr>
            <a:xfrm>
              <a:off x="1944720" y="3771720"/>
              <a:ext cx="1096920" cy="7779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4" name="Group 43"/>
            <p:cNvGrpSpPr/>
            <p:nvPr/>
          </p:nvGrpSpPr>
          <p:grpSpPr>
            <a:xfrm>
              <a:off x="1120680" y="5784840"/>
              <a:ext cx="5213520" cy="320760"/>
              <a:chOff x="1120680" y="5784840"/>
              <a:chExt cx="5213520" cy="320760"/>
            </a:xfrm>
          </p:grpSpPr>
          <p:sp>
            <p:nvSpPr>
              <p:cNvPr id="145" name="Rectangle 44"/>
              <p:cNvSpPr/>
              <p:nvPr/>
            </p:nvSpPr>
            <p:spPr>
              <a:xfrm>
                <a:off x="1120680" y="5818320"/>
                <a:ext cx="1052640" cy="2872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1d528d"/>
                </a:solidFill>
                <a:miter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Text Box 45"/>
              <p:cNvSpPr/>
              <p:nvPr/>
            </p:nvSpPr>
            <p:spPr>
              <a:xfrm>
                <a:off x="1258920" y="5784840"/>
                <a:ext cx="73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1d528d"/>
                    </a:solidFill>
                    <a:latin typeface="Arial"/>
                  </a:rPr>
                  <a:t>INPU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47" name="Group 46"/>
              <p:cNvGrpSpPr/>
              <p:nvPr/>
            </p:nvGrpSpPr>
            <p:grpSpPr>
              <a:xfrm>
                <a:off x="3133800" y="5784840"/>
                <a:ext cx="1143000" cy="320760"/>
                <a:chOff x="3133800" y="5784840"/>
                <a:chExt cx="1143000" cy="320760"/>
              </a:xfrm>
            </p:grpSpPr>
            <p:sp>
              <p:nvSpPr>
                <p:cNvPr id="148" name="Rectangle 47"/>
                <p:cNvSpPr/>
                <p:nvPr/>
              </p:nvSpPr>
              <p:spPr>
                <a:xfrm>
                  <a:off x="3133800" y="5818320"/>
                  <a:ext cx="1050840" cy="28728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1d528d"/>
                  </a:solidFill>
                  <a:miter/>
                </a:ln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48"/>
                <p:cNvSpPr/>
                <p:nvPr/>
              </p:nvSpPr>
              <p:spPr>
                <a:xfrm>
                  <a:off x="3133800" y="5784840"/>
                  <a:ext cx="1143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1d528d"/>
                      </a:solidFill>
                      <a:latin typeface="Arial"/>
                    </a:rPr>
                    <a:t>PROCESS</a:t>
                  </a:r>
                  <a:endParaRPr b="0" lang="en-US" sz="1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9"/>
              <p:cNvGrpSpPr/>
              <p:nvPr/>
            </p:nvGrpSpPr>
            <p:grpSpPr>
              <a:xfrm>
                <a:off x="5145120" y="5784840"/>
                <a:ext cx="1189080" cy="320760"/>
                <a:chOff x="5145120" y="5784840"/>
                <a:chExt cx="1189080" cy="320760"/>
              </a:xfrm>
            </p:grpSpPr>
            <p:sp>
              <p:nvSpPr>
                <p:cNvPr id="151" name="Rectangle 50"/>
                <p:cNvSpPr/>
                <p:nvPr/>
              </p:nvSpPr>
              <p:spPr>
                <a:xfrm>
                  <a:off x="5145120" y="5818320"/>
                  <a:ext cx="1189080" cy="287280"/>
                </a:xfrm>
                <a:prstGeom prst="rect">
                  <a:avLst/>
                </a:prstGeom>
                <a:solidFill>
                  <a:srgbClr val="00ff00"/>
                </a:solidFill>
                <a:ln w="28440">
                  <a:solidFill>
                    <a:srgbClr val="1d528d"/>
                  </a:solidFill>
                  <a:miter/>
                </a:ln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285160" y="5784840"/>
                  <a:ext cx="910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1d528d"/>
                      </a:solidFill>
                      <a:latin typeface="Arial"/>
                    </a:rPr>
                    <a:t>OUTPUT</a:t>
                  </a:r>
                  <a:endParaRPr b="0" lang="en-US" sz="1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Line 52"/>
              <p:cNvSpPr/>
              <p:nvPr/>
            </p:nvSpPr>
            <p:spPr>
              <a:xfrm>
                <a:off x="2173320" y="5967360"/>
                <a:ext cx="9604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Line 53"/>
              <p:cNvSpPr/>
              <p:nvPr/>
            </p:nvSpPr>
            <p:spPr>
              <a:xfrm>
                <a:off x="4184640" y="5967360"/>
                <a:ext cx="9604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5" name="Oval 54"/>
            <p:cNvSpPr/>
            <p:nvPr/>
          </p:nvSpPr>
          <p:spPr>
            <a:xfrm>
              <a:off x="2905200" y="5556240"/>
              <a:ext cx="1509480" cy="868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6" name="Group 55"/>
            <p:cNvGrpSpPr/>
            <p:nvPr/>
          </p:nvGrpSpPr>
          <p:grpSpPr>
            <a:xfrm>
              <a:off x="1120680" y="3863880"/>
              <a:ext cx="1371600" cy="1592280"/>
              <a:chOff x="1120680" y="3863880"/>
              <a:chExt cx="1371600" cy="1592280"/>
            </a:xfrm>
          </p:grpSpPr>
          <p:grpSp>
            <p:nvGrpSpPr>
              <p:cNvPr id="157" name="Group 56"/>
              <p:cNvGrpSpPr/>
              <p:nvPr/>
            </p:nvGrpSpPr>
            <p:grpSpPr>
              <a:xfrm>
                <a:off x="1120680" y="3863880"/>
                <a:ext cx="799920" cy="1592280"/>
                <a:chOff x="1120680" y="3863880"/>
                <a:chExt cx="799920" cy="1592280"/>
              </a:xfrm>
            </p:grpSpPr>
            <p:graphicFrame>
              <p:nvGraphicFramePr>
                <p:cNvPr id="158" name="Object 57"/>
                <p:cNvGraphicFramePr/>
                <p:nvPr/>
              </p:nvGraphicFramePr>
              <p:xfrm>
                <a:off x="1166760" y="4960800"/>
                <a:ext cx="495360" cy="495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59" name="Object 5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66760" y="4960800"/>
                          <a:ext cx="495360" cy="49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60" name="Picture 58" descr=""/>
                <p:cNvPicPr/>
                <p:nvPr/>
              </p:nvPicPr>
              <p:blipFill>
                <a:blip r:embed="rId7"/>
                <a:srcRect l="57246" t="35414" r="28136" b="34530"/>
                <a:stretch/>
              </p:blipFill>
              <p:spPr>
                <a:xfrm>
                  <a:off x="1120680" y="3863880"/>
                  <a:ext cx="799920" cy="102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1" name="AutoShape 59"/>
              <p:cNvSpPr/>
              <p:nvPr/>
            </p:nvSpPr>
            <p:spPr>
              <a:xfrm>
                <a:off x="1716120" y="4962600"/>
                <a:ext cx="776160" cy="136440"/>
              </a:xfrm>
              <a:prstGeom prst="rightArrow">
                <a:avLst>
                  <a:gd name="adj1" fmla="val 50000"/>
                  <a:gd name="adj2" fmla="val 142216"/>
                </a:avLst>
              </a:prstGeom>
              <a:solidFill>
                <a:srgbClr val="ffff00"/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AutoShape 60"/>
              <p:cNvSpPr/>
              <p:nvPr/>
            </p:nvSpPr>
            <p:spPr>
              <a:xfrm>
                <a:off x="1716120" y="4184640"/>
                <a:ext cx="776160" cy="136440"/>
              </a:xfrm>
              <a:prstGeom prst="rightArrow">
                <a:avLst>
                  <a:gd name="adj1" fmla="val 50000"/>
                  <a:gd name="adj2" fmla="val 142216"/>
                </a:avLst>
              </a:prstGeom>
              <a:solidFill>
                <a:srgbClr val="ffff00"/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3" name="Text Box 61"/>
            <p:cNvSpPr/>
            <p:nvPr/>
          </p:nvSpPr>
          <p:spPr>
            <a:xfrm>
              <a:off x="2081160" y="285912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PIC LOGICATO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 spd="med" advTm="7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esign &amp; Make Philosophy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66" name="Picture 4" descr="Drag-Car"/>
          <p:cNvPicPr/>
          <p:nvPr/>
        </p:nvPicPr>
        <p:blipFill>
          <a:blip r:embed="rId1"/>
          <a:stretch/>
        </p:blipFill>
        <p:spPr>
          <a:xfrm>
            <a:off x="1547640" y="2060640"/>
            <a:ext cx="5935680" cy="4241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Working with a Variety of Material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69" name="Picture 4" descr="Waste_Bin"/>
          <p:cNvPicPr/>
          <p:nvPr/>
        </p:nvPicPr>
        <p:blipFill>
          <a:blip r:embed="rId1"/>
          <a:stretch/>
        </p:blipFill>
        <p:spPr>
          <a:xfrm>
            <a:off x="3995640" y="2060640"/>
            <a:ext cx="4537080" cy="407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MAterials"/>
          <p:cNvPicPr/>
          <p:nvPr/>
        </p:nvPicPr>
        <p:blipFill>
          <a:blip r:embed="rId2"/>
          <a:stretch/>
        </p:blipFill>
        <p:spPr>
          <a:xfrm>
            <a:off x="611280" y="2133720"/>
            <a:ext cx="3336840" cy="4019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5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 Exciting &amp; Challenging Curriculum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3" name="Picture 7" descr="Mobile_Holders"/>
          <p:cNvPicPr/>
          <p:nvPr/>
        </p:nvPicPr>
        <p:blipFill>
          <a:blip r:embed="rId1"/>
          <a:stretch/>
        </p:blipFill>
        <p:spPr>
          <a:xfrm>
            <a:off x="1835280" y="2349360"/>
            <a:ext cx="5591160" cy="4194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6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692316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€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40,000 Grant from the D.E.S. provided for Phase 1 School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832" t="35420" r="78270" b="37868"/>
          <a:stretch/>
        </p:blipFill>
        <p:spPr>
          <a:xfrm>
            <a:off x="5364000" y="3573360"/>
            <a:ext cx="2103480" cy="168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7677818e6b57_Main400"/>
          <p:cNvPicPr/>
          <p:nvPr/>
        </p:nvPicPr>
        <p:blipFill>
          <a:blip r:embed="rId2"/>
          <a:stretch/>
        </p:blipFill>
        <p:spPr>
          <a:xfrm>
            <a:off x="2050920" y="3645000"/>
            <a:ext cx="1722600" cy="1722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4:18:04Z</dcterms:created>
  <dc:creator>Pat Lynch</dc:creator>
  <dc:description/>
  <cp:keywords/>
  <dc:language>en-US</dc:language>
  <cp:lastModifiedBy>Pat Lynch</cp:lastModifiedBy>
  <dcterms:modified xsi:type="dcterms:W3CDTF">2008-04-08T11:09:29Z</dcterms:modified>
  <cp:revision>1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381033</vt:lpwstr>
  </property>
</Properties>
</file>