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28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5.png" ContentType="image/png"/>
  <Override PartName="/ppt/media/image5.jpeg" ContentType="image/jpeg"/>
  <Override PartName="/ppt/media/image39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1.jpeg" ContentType="image/jpeg"/>
  <Override PartName="/ppt/media/image7.png" ContentType="image/png"/>
  <Override PartName="/ppt/media/image6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9.jpeg" ContentType="image/jpeg"/>
  <Override PartName="/ppt/media/image9.jpeg" ContentType="image/jpeg"/>
  <Override PartName="/ppt/media/image11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</p:sld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754F-D1FD-4FAD-96D6-583EA8926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9BB-5D7B-4E8C-AF85-6DFA887F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DAA39-F9F0-4FA1-B7DE-D96B4488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7E0B57-2B1D-4694-9CE9-AA5E9F98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5517C-0CFC-4866-9C6C-641969ECF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FA3D1-C682-45FA-AE20-D1DED30E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9715B5-0214-424C-BA8A-68153EC1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A47EE-6C4B-4789-AA75-D1751009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A4503-3E56-48CE-8A24-771B1FCA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2883A3-B4A7-45F5-A786-206005FE4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C215FB-4B47-4C63-B927-4A6CEEEF9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F377CB-A695-4E83-9AB8-BD388753F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953-A299-4008-80CB-13A83C839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CE9786-CD26-4D55-B6A0-A10C53F6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12D77-A37C-4FA8-8EB4-1D533885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AE8BC-F7DF-44FF-8817-800BA68F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BC797-1D4B-46FD-B2E6-3BD9C2469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DF716-44DF-4414-B4CB-A5B475A7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89F77-B3FD-44B4-A8CE-13FD3BDA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F9EB1-C070-4E21-A4EC-13B87BA6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DED81-ABA3-488D-ADC2-5EEB74B9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39BB7-98C2-4410-83EB-DD3D4655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D32442-A220-4393-A200-293781130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6508-2254-42D9-B259-91A381271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67FFFF-B9A2-4A3B-B2C7-01FA582D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F3DDE-7B67-4B28-8865-1EC9C17ED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82517-B69D-44A2-9404-B447147C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528CA-74B3-433A-B15A-622EF222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2DF6B5-ED75-4C47-A177-FB2FFA2C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14B81-8014-4FC0-BB95-BEBF8E610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BE585-064C-48B7-B021-F4D08839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A7E67-3FB6-41B4-A07E-000F3B4D2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5F4BA-DF35-4C8E-98C6-DDC82508F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CD6B0-9AAE-46EA-99D0-A26C5CCE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A64B7-5E0F-41FA-8612-A8C84425C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5374A-F42F-430D-8C2D-2BEEFCC8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6D3B7-A151-44EA-B67B-A1C9D070F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A9D173-F7EB-4472-B8CD-6F623D3C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CA210A-C361-4274-8880-AA341DAD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FA7C5-8C6A-4E36-897F-5359467E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1818F-792C-4FCC-B1AF-8FE54D195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BDF8E-3569-4D71-9567-FE7AE699C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53452-959D-45FF-9A60-4B3BE439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89FCD9-4038-420F-9850-95845297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8CE3A-BAFC-4ADE-AC57-848BEC2E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26F2-44E4-4578-A694-AA72DC1A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CC0B0-DD17-4DD7-B7CB-90BFEBF8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AF329-28F9-467C-BEA9-E557C7FE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125C65-47F2-4E84-AF85-BEDA3F90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F0B54-4626-4FBA-809F-98DE3472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3788C-95FF-4E05-BCEF-143A3A6E4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F22931-E99A-4F92-8078-6F78FEBD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31CD9F-EDC4-493E-A1B6-566F4840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C453F-F183-43B0-A0EA-6DD21220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A7DE67-A4CE-40EA-8D58-5FC84C8C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830511-ACEE-4984-817B-2F604371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5F9E-0385-4BD7-B2E8-B3375802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1D4C2A-4E35-4EF1-A2AB-F378505C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102660-B87A-4684-9013-40435719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CF3A1-BC90-4C9A-A4A4-3400FC93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A5B458-0659-4CCC-814F-D947A81C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CDAAC2-FC71-4D22-8031-CC7AF2FC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2635E-299C-4117-8E2E-292995A8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C401BB-06D6-4760-9AD0-900B2B6D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36A25F-C8BA-4FEA-BEE4-3189A2F23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49C63-2F30-489D-BFF8-5E6258324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9A8ABF-4EA9-410C-B735-2FB14035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F8862-80EA-456C-9BCE-F618369B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B1A17B-ABD0-4EE4-95CE-82E2945B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7290C1-C9EB-4691-A0D9-5EA900D9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82EF3-8A37-4722-B9F4-EF5E05C8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9F8380-7A6B-42E8-8F21-BFF0A612A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556982-4ECE-4AA7-949F-3882B5FB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24D7A4-7D6A-4AC1-B08E-8A72A00B6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93AA60-88FD-449E-BCF4-7389AB17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F0722F-CD7A-43C2-A61B-149F18596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BA77C-04E2-48CF-89A6-658542A22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DD5717-1FBD-4B9B-B8DA-7C767CDC8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1795E-51DC-4ACF-A80C-73567B34B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34D39E-DA48-4471-8C18-E6E977E7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D5D774-821C-44A3-B7D9-1FC07F57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6D7D44-E6F5-4858-8B49-78A79B9B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469E95-FC30-4DCE-9555-84A34CF5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37C7C0-32AC-4DB6-AD19-420FA0B7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74C7C7-FD37-4AEA-A895-A24989E5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59CFD8-120D-43C5-BEEE-E9C7CF32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ED5283-C013-4410-9633-D1EDD8D6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3BF017-5286-4C60-99AA-1D08AF34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004043-3AA2-47D7-980D-BB8D62D0F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9655-9A4D-4DB9-98F4-689C2621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EA04A9-E551-4D04-93E8-B3305B375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551A5-81DF-4880-B83D-18DFDB4C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8C9DF3-870C-44BD-9132-29EFFC50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4B38A4-4129-48FE-BFA6-66A64C11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00C570-D032-49C5-B7CA-D87E7C714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DB291F-57BF-48D8-B630-BBBEEC3B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060D2-45DE-4002-9EB5-05E1B173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5ADF77-C0B1-4EA1-AC2D-307A16A2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42FB4C-F49D-4415-AB9E-3BCC687ED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D3D99-8C23-4737-8544-4218CF51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5439-7A55-4854-B961-2292E273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BD140F-03E9-4FDF-B067-504F52CF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F8C9E-B43D-4A3D-A4C3-07516B56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5E7D0C-236C-4D0D-9078-75C4CFDEE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2FB95F-076E-46F6-9D5F-E32306026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4DE731-BB69-48F2-8C16-19A29244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A78D9-F21A-4AE5-B1A3-506C1501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6322E-C216-49A2-872F-F6CF98B4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33C47D-6DB7-4D34-B7CD-6FFDEA66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C0AE42-562B-4488-9507-8C1DC27A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4D0F1C-8AE8-4864-9282-E1CE8CD5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56D3-BCA6-4C10-BF9F-68D2A9E57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14B6D-4865-4872-B010-DBB6660B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B0B1B5-2265-4A09-A9D8-39D201E4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98DB9B-FE09-45ED-90F9-81CA8B43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EDECB2-518A-4557-8A61-578F86A4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588EF-24CD-4139-8D6D-1B24499D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C68446-ADDC-4DE7-8CCC-E123A9A1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93624-EF22-4851-8EA2-FAB6FBBC0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5C086B-1BD5-4B0D-B33A-77157223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11C20-A050-4FA6-B39D-E1D80BAF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3462C-CBB8-4270-B3AF-FD09BED6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E508FC-9180-4C25-A072-42A7E8B4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CC98-9E58-4D59-B6E8-61B10E5E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36162-AE90-4033-941B-8776C5D7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F51C6C-5C23-4B5D-91F8-0DEF9C98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115B60-C3B5-4486-84CD-9A60EEDC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941AD9-F174-473E-8DFD-5829C96AE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3D4997F-8637-4C61-BD44-E73E29FA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9876A9-7E9B-4B7F-8C0E-0F8AFEA94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5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A457BF-82D8-44F5-A9C3-159959CD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0BA8E7-B720-4247-9C07-82A27040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C61909-981F-46F9-8319-5D012070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041155-F917-45FA-8263-CAF36B7C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99A7-CFC3-4BBD-AB3F-0C1F6056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797CBF-1AB8-4562-8FB3-03D4C634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4B3AAE-FE27-455E-89BC-11DCF321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CAA62-8631-49F8-979B-67C84C37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6979A4-8981-4F32-BD20-74B9C545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61F5CD-0422-444A-9C0D-20E214E8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64DF2D-3CC5-4A1B-9A19-DA434CC7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E7BECF-F5C6-4A9F-955E-13D2F7A5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C9265-AC70-426C-99DF-824B89E2E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28FCA1-721C-4682-BBE3-608316414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28ACC4-537B-4613-8BD6-1E7EC39D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1C71-0F25-423A-BC38-B31F3FDDB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C9C123-1919-4B84-96C2-79D0369B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D9E8F4-824E-4D8F-92E3-F9AA6CED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DF3E1F-42AB-48B2-A918-23949065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552285-EA7C-4E97-99B5-AE3FACD8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E97D76-B11E-4C7D-A8B8-BC4C0B08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314D21-9E73-4ED4-923A-21784A10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C7000D-90B1-4E2F-BB3A-E25A4AF6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F791B4-EB37-4742-AC22-6CB4977F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F0291D-B05B-4536-9A78-59738B46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501477-75D2-44B8-AECC-3021415EF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DC937-0919-4020-ACCA-2D86956B0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3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34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D4DB84-690E-410C-AAEC-C2E77FE0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E9F9CA-04A9-4710-83B2-BF0C04F40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288241-ED02-49A1-B197-3D2CBE1E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8F55A7-B664-425C-8CD3-92C9648D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59C66D-D2F6-4B81-9E2C-0D724F8E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4A0C27-60F9-4A11-AEC6-88183689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5E661D-CBF2-411E-AD10-DA176340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C36943-0383-4BFF-9282-2A7C0EE9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038E6E-6A3F-41EF-A711-1B78FDB7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0323CA-51B8-4819-95EA-416FFE3E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B7C84-FFC5-4678-A8DA-FA2CE2D1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F27E05-4ECA-4A6F-8946-3A236BC2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E44C28-6EAC-47B0-9286-3A34F86F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FBEE0F-59E3-4ED1-8B02-D105A2D34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DC9CF2-19FC-4CFC-9AB4-93D1E0EC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F94774-0147-4D25-B9EF-B77D0511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36A482-2984-46E8-9A5E-893A06EB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12B5DC-D21C-4BD5-ABBF-8E268059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C8A5E3-9261-4CDE-8903-5659D897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B2664C-AABF-490F-B2D4-9704EF5B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F76D7AB-A8D0-4C0F-8FDE-7D3F85B50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96922-2C65-4E29-A4EF-F73D79CF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DC0150-C78F-4F7D-8C1C-4DF735F5B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131559A-603E-4447-84E1-2569D413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E8FB78-D309-4E4E-993B-38A7A593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0EEC6A-F318-4D21-AB98-F83133DD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5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16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24B031-33D1-41AE-9C58-4EA475806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C02167-5342-470B-B78F-A860E90D0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C906BC-AC53-444B-BD29-5FE53C32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9893BD-FD84-4D76-A407-A5064B94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CCB23C-1467-407E-A0B2-B197BD86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EFD4F2-CA76-4201-8A76-1CF5FEACD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A391-6BCE-498C-992C-F9E108A0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7B5BCC8-47DE-48B8-968D-380827D5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12EBC3-BBC8-4A90-BD87-522BEC63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07B7F3-B479-4B48-8BC5-111D876D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18D0B6-7B00-473B-9C1F-8ECB502E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29E0E5-B011-454A-853A-1E9588FB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1647A0-CA4D-4F08-B931-30BBA52D7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8843EE-D678-4F00-A066-FD87D300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23CBEB-4B74-4E8D-9D09-0A797E4F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31130F0-D014-47E7-8652-1CA3BE98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AB7562-3538-4A58-95ED-3B79B655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7CFA4-CA3B-4411-B424-F8406FE3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8A02C5-1EE0-4801-8D81-468762D4C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6ECC58-CE88-4B60-BAA1-B511B80BC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F672B2-CF24-4439-8E14-F828D742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814C5F-A549-47C9-AE62-59CA1CB1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865003-6879-4EB7-B1C9-549F762C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0A51AB-A82D-47EE-9718-F3AFAFC7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0A9F0C-A7E5-4682-9EB6-912FB3F9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80E7CF-A075-4E5E-8824-92F16F9F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3E7116-7029-48F9-BAE2-2EE01D245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1E5A21-D12D-4BE9-84BF-779E0A150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B735-53EB-48D8-A079-5875DE1B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7C6E0E-556F-4AFA-B4B3-D4F6D22A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03B400-0BD8-4FFA-81CD-18951DDA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E8A9CC-7988-46D2-A9FF-A731C841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94CA24-4E9B-4E4E-8C63-01613DFF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873269-DC1D-4BC2-98CC-D2A3E164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D9E782-01C3-46D8-B02E-E3D24331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75E77C-375E-47FA-8AD4-8A43F55C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8A121C-61DC-459E-AA8C-16F800D6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FC1174-A2FF-4AC4-B9FC-567F6C5C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7F898F1-E77D-410A-9A0D-57595288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354-B203-4B3F-A2AD-62AA78BA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F08DB-930C-45D6-A38A-3E9D6787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DD74B3-D7C3-442C-BB94-26F22B84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4C8B334-5EE1-4836-9017-908DCE2E6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E31B01-3DB1-43AE-80F0-4B2E0E2C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B297EE-D1D6-4F86-BB1F-0555A80A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F4BDCF-53C7-467A-9F56-9C45BEAD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82A9AE-A719-43CA-91AE-FD2D0300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F7B13C-C9DB-4426-AC25-7703B6C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AF1E7C-5088-4179-8900-E5F046FF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D20910D-A320-4F9D-BB3B-13B7A2E95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960C37-45B7-452B-9AF3-C52F01AA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7E632-2394-4A32-9BEA-833EEDFA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DCB80A-F658-4E22-8B87-1EA89D4F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361965-CA74-4B41-9649-62297898A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1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4A1305-DA67-435F-9A12-18311C1D3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F346304-DE54-475D-9B00-D582C9E5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A9B62A-45C9-4CAF-B712-271376CD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387CDB-BFDF-4C2E-9328-F078F70C4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39E30F-A0BB-42BE-8FF6-087F8B33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A9021C-4527-45F3-AE22-8DC57E8D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7F5807-6BA9-463F-B563-1B95E12CF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CBF843-2CCA-463B-971B-E343D88F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FA83A-BE82-4A02-97CA-C4BD22AD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A85834-2B01-4D54-AB87-7BA4E3B0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434490-80D1-49E2-9218-BD22B646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BA3FAA-DD10-474B-A1C3-2C7097F4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C11783-8F54-4BB6-BDCA-E27BE20B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3B33E2-D86C-416E-B151-BFCAC19A6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19FAE43-ED64-461E-B83C-7E582D057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8EE420-6BBF-4D4A-B2E7-928FC901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583446-D1B0-475C-9448-87E63C31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6D784A-D804-4C5F-8453-BCA661D2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7CC53F-3DAB-452E-83E6-F48C2E93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2D624-F506-427A-A55E-B792ACD0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8B7805-0ECF-4456-A0C2-3AEE59A4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67E54B-16A9-461A-A89D-F4788B42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8A5E21-41FE-4657-A1C7-36B904E0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0D8DB8-D179-4287-A5B3-C9FB459D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1AC1BE-872A-4D5C-9F36-7C5624EB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0850D0-0AF3-463A-A79A-7DBC25E0E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8324B80-F4A6-49D4-8C71-0A8772BD5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51959F-C71B-40EA-BC98-7DE6659C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B66545-AC4E-495C-A641-79D57771D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5C654CD-DCDF-4C60-819A-D2D17C1C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78CFC-5A8A-4617-8053-37E03CF5C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0647C7-4A22-4D57-811C-6D1995FA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9F03327-9145-4987-9008-F1F10323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780245-BFC8-4412-A889-5E3F9A3D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A2DA33-9763-45D5-87EB-45D807A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3B419F-1955-47BF-A3BD-4595A3D1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277E75-1B4C-4F77-95E6-AF307C7F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28049C-8D41-46CD-8438-5A3214F5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6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82C1D7-D70C-4A8B-B430-47008DC97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2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3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FDCB36-DCE6-4C26-9368-CD928060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70C92F-9F51-4C04-A693-6F2A02472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7952-B828-41E0-B53A-3D2C7A4E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224AE6-D082-4715-AEF8-203729A2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98EA6B-4E70-41F4-99A5-BA09FE15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155A99-B383-4115-85B5-CDC46E1F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C1D64E-6E0C-40F9-8061-2B77828F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C9EBDD-669B-4A15-90B5-2316486A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17BA16-3BB7-4AE8-BA4E-E0B20AE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E5FFD1-868D-4A27-9846-A54C062A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F110B6-7B93-449D-BEC1-A691CC49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9B9CF8-7EFB-46F4-81B7-3261C7CA1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C0356D-32CA-4BC3-BAC6-F650E29B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5D9A0-0CA1-4487-ADB3-21571831F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7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8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39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0A8C3F-A88D-4ACB-9701-1DE2C2651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357737-848D-48CF-9922-D131635F7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649E51-4E13-4D30-9FF6-B1D03CBC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17308F-3EE0-4107-8120-C799DC50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33BB95-2AE2-4544-B93A-EB7B17B2D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FFD921-BEE1-4F07-82C7-94EBA7B8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843814-08D0-4A24-8D20-3040C5D6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6CA7B1-9CAE-49B2-9144-EF1C9D75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15FEE1-CFC8-4349-9EB8-66E44316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1A1B9F-57DC-40DE-87A5-90F0CCE8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6D48-489C-4566-A4DC-AD328E51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E0EC5F-46BB-4978-B450-B25D79DA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A14861-2CAF-4A0E-AEBC-8B384604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1E22D0-E9BC-495B-B1B1-84349ECE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FF0DAAB-A4E5-40E4-AC68-59BD7376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E15A831-7820-4C55-9DF1-87C70186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056C0E-FA76-4004-BD6F-84D0B5444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4861F92-E29E-4424-BE54-0F996CF0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A829E3D-7FCD-46F3-9280-717B346A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104808-1FFE-4869-B4D5-66D55710D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A246E7F-FA52-4957-AE14-16EA553B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7F681-2BC8-44C9-ACCD-180230CE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4DDBF75-78EA-441F-8FBB-D4981F2F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56E453-3C61-4D32-81E9-9F6B4E63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E7CDED-4B24-4271-9A05-ACDD47BF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B82D4D-12E0-4504-8F4A-8D68B3015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0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51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037272-3012-49CB-9DAF-B09223B3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00D4B42-404A-49DF-A813-B2594423B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B8FDA8-E1EA-408A-AD5D-2F6FC2CE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79F2B71-071A-433F-A3C0-6192BDDE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1363BE-AFCB-4CAA-A712-DC1DB070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7A609A-EDF0-42CF-9C83-C64833CF4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E4EA4-7388-469F-A372-6DAAA710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E51EA3-6ED4-44D6-9E41-91F0995D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A5AA33-8F8F-4F7C-B8F0-2970FC7D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B80181-944D-40A1-BEA9-9EE27AEA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A1E8CA-2A84-4AF2-8AC6-D95BAFB3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0C91E6-E08E-4EE3-9D0C-51B269BE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E026B67-48A4-41D9-A006-8498B32BE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27FF496-0FFB-44A1-941A-79942A031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CE57A49-BD0D-4A45-A886-8816C334C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76B8A0-35BE-4FEB-AAE4-DF168CB0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C57566B-BAA5-472F-AF17-602919DF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A9C4-A953-4EB9-B6FA-A0456D70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6992-569D-4FB6-A9A6-13FDAE99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2892E2-EB98-4E64-8B38-A4A0B8E8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B3D97B-7197-48D6-83B5-7DED40A9D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726CA69-07D2-4001-8418-F06171C2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AADA6A-E4D0-4336-B4FC-5F6C962E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CDB252D-8449-4011-96FC-6B2E4270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C225D1-0BEE-4FBC-8FD7-80B9079E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CD4A24E-4858-4BD3-B008-414B4E7B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C57F65-AD59-471D-B5C5-C36A4492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2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63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5DFB5CB-98B5-46A9-8711-9CCE5322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676954-F0E4-4C4D-BB9C-20BF758E4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EBCDB-75B7-43E6-8A75-82240252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3DBC1D-FB49-4CBB-AF1B-5AEE07ED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473A2B2-6601-43EB-B01C-2B4E9562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3721F1-75A8-4A36-B42E-19B61DF58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28C4CE-4F30-4856-B22C-61D53875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553B1A-7260-4845-B2AD-73DD805A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503FF8-8D0E-45DD-AAE4-FC3BE190C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B66EB72-DFB9-4CD3-B03C-B2206409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2F2159-6A47-4F6E-82E4-4B8AF859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CAB2B10-E5F4-451D-A1AB-D704D549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2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C9B7F2-A5B1-4D15-8489-F67EB8D6F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6F37C-587E-41E1-9776-D4CBE2AF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8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19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26F7E6F-229B-4AA0-8DA7-665BB0296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9C2B4DE-DCE8-465D-843C-DCDC9250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91150A-B16A-4F13-AD3C-0C16D83C8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26F222-6440-44DD-B92D-917F7554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F169D1-F32B-40B2-9A87-0E16CAC8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5F4D099-A584-4CF0-9EEC-FE29BFF55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301F97A-A94A-4F3F-99AC-E13AA3E29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D3AD63-8A2B-4304-B1F5-B731CBFB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F283F5-B5F3-4DC8-8C70-B78D24A2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6F17BDE-B1F2-4E56-B775-4073DD86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1088F-0FCC-417D-9CD8-CF271910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93F388F-C11B-44EE-B5B5-D2A154E4B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8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B689362-BCE7-4CAC-873C-091339E9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4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75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4839ED8-663E-4753-8294-14E48023A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95E500B-54DA-489B-868B-82EC45B59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5569362-166D-49FD-A2AA-3D20D25B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6BA6797-F5FB-44D8-91FB-E159ECB1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68950C6-0678-45F8-A64A-DF1E2A50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00FDDB-533F-4890-AAB0-6AA174FB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646B04-646A-43A1-8067-416D0562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7B85CD-303E-45D3-B93B-A6F27915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A715B-DD65-4C44-A12D-E497A390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46754E4-F604-4369-8C64-9F0919AF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D370714-D866-4C76-B114-A2D1B197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5B3FDD0-B1D9-43BC-AD54-E5B1470F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B6260D-8F85-4FBB-B8CF-9E77D36A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29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0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31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69E198-77B3-40BA-AF55-651C94E8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D194C5-40EA-4B16-8DB0-9AE7F9569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13F8F8-6FB0-458B-BC19-5F204CA8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16D23F3-A2A8-4979-A7B9-3930E0779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C4F917-CD29-488A-BC03-695477D2B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47A401-74BB-4E21-BEE3-9EAC5AF3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FB7C-920C-4E24-B2E3-1E317BE8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740A4F-AFD0-4C52-A84A-A4009194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5063B0-12C1-4D94-9C6D-45AB11314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8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18B4C4B-EA2B-4D6D-A241-814E88EF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F24959F-0DFF-45BC-B933-22FCD9DA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FDEB98-ACA8-4EB9-B656-6685B26E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0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2A0E1B3-D355-4E81-8176-BDF1425C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5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6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7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8D96778-4119-44A2-83EA-38F93F39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ED185-4902-4721-8DA0-F86CFB66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3A37C-B7A8-4362-A43F-7D1CECA4D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8FE07-785F-476C-990C-D57750245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AD09E-BA0D-41D1-9C5D-C674F8511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6E4B-18A7-4190-BBB1-88D5261D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4027C-0531-492E-B478-F31FEC9A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F60F9-6C87-46AD-9806-5F65BC2A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7F101-522C-440A-8DEE-A9D01E0A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F251A-3112-43D7-A802-27CECD95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18ECF-B964-4272-BC92-D5428B5F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B2580-CF33-4491-8C2D-8E3C3262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73028-78AF-4180-8651-16C912D6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DA23E-C5FA-4C7C-AF61-81D48D65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7C4C8-964E-4A64-9AFF-206056FD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BE1A8-FEA5-42A6-B09D-6B9E60933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DD5A-006D-4045-B037-020E4847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6EA3B-23F1-4706-961D-683FEF7F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73910-1FD1-434F-8807-4F6E0690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8F43E-EE11-4359-92EC-D1DCED396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418C8-E143-412F-AE99-656F97C8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3E923-40B4-450A-AFDD-71671C9E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55E5E-C18A-4310-BC6E-DC895C4B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464A9E-4685-4381-B00E-A14BDE565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AC07F-1C1D-4733-9BB8-24287745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BB042-6A2B-49DC-8D76-630D4053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A5738-BABB-4B4E-9BC3-DEAEE1E9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9BD-69BB-4F04-ABE9-3F59D7A1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F2E83-B137-4AAF-A458-AFB8D04D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4FC4F-9ABA-4D61-849D-677B5CC21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D09E0-43C0-4018-9853-C6436F6E7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3C8C0-9369-44AE-A615-B80B3318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63B28E-DBFB-46C9-84B6-80ADDB2E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CF601-CAA5-452F-8577-413E295C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639A5-E1AA-41E5-A724-13E4A7E8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AC35E-FF7F-44B5-8D3A-43C3C276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45CF39-73F2-48E4-9A8D-66BBF083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B846E-69C2-4022-A195-67CF8003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415-5A2A-4513-A44A-24015099E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D82E4-ECA2-4659-8558-B700F59F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B1190-CC79-459E-97F5-679D25D5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42811-B2DC-4E12-8779-61AC93F0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92DF4-3FBC-4329-B520-78C85A2A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955C4-92F1-4C69-A5E7-25874AD4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35D14-C55F-4739-8511-F7DB0ACE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B2851-BA79-4DCF-BB55-E859F21F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34C57-9C16-4DC3-BD42-2B35F4BF7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6ABEE-BBB3-409A-ABEE-6E5B62F0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250D2-AAD8-4455-B13E-2ADDBF04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48BB-9D7A-4EB8-86B0-E690F56A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2514600" y="228600"/>
            <a:ext cx="63244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CD5FC-AE7B-41D1-A028-988DFC12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187F71-1A4D-48F2-8652-16BB5881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D4883-78A0-4083-A970-A9F195071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C860F-1B3F-4C7A-8F44-9A262D52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91A79-D11E-43DC-941F-90E2BA96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A3EA0-4E47-40BA-A396-5001A41E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0B3F0-5C53-49E4-A6DA-6D6BF77BB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438378-2079-4329-A18B-487DB4924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409C72-2B9D-4FC9-A07C-2FD3BEF08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0D374-0162-4836-8EAE-595D8E21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7.pn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image" Target="../media/image10.jpe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301.xml"/><Relationship Id="rId16" Type="http://schemas.openxmlformats.org/officeDocument/2006/relationships/slideLayout" Target="../slideLayouts/slideLayout302.xml"/><Relationship Id="rId17" Type="http://schemas.openxmlformats.org/officeDocument/2006/relationships/slideLayout" Target="../slideLayouts/slideLayout303.xml"/><Relationship Id="rId18" Type="http://schemas.openxmlformats.org/officeDocument/2006/relationships/slideLayout" Target="../slideLayouts/slideLayout304.xml"/><Relationship Id="rId19" Type="http://schemas.openxmlformats.org/officeDocument/2006/relationships/slideLayout" Target="../slideLayouts/slideLayout305.xml"/><Relationship Id="rId20" Type="http://schemas.openxmlformats.org/officeDocument/2006/relationships/slideLayout" Target="../slideLayouts/slideLayout306.xml"/><Relationship Id="rId21" Type="http://schemas.openxmlformats.org/officeDocument/2006/relationships/slideLayout" Target="../slideLayouts/slideLayout307.xml"/><Relationship Id="rId22" Type="http://schemas.openxmlformats.org/officeDocument/2006/relationships/slideLayout" Target="../slideLayouts/slideLayout308.xml"/><Relationship Id="rId23" Type="http://schemas.openxmlformats.org/officeDocument/2006/relationships/slideLayout" Target="../slideLayouts/slideLayout309.xml"/><Relationship Id="rId24" Type="http://schemas.openxmlformats.org/officeDocument/2006/relationships/slideLayout" Target="../slideLayouts/slideLayout310.xml"/><Relationship Id="rId25" Type="http://schemas.openxmlformats.org/officeDocument/2006/relationships/slideLayout" Target="../slideLayouts/slideLayout311.xml"/><Relationship Id="rId2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image" Target="../media/image12.jpe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13.xml"/><Relationship Id="rId12" Type="http://schemas.openxmlformats.org/officeDocument/2006/relationships/slideLayout" Target="../slideLayouts/slideLayout314.xml"/><Relationship Id="rId13" Type="http://schemas.openxmlformats.org/officeDocument/2006/relationships/slideLayout" Target="../slideLayouts/slideLayout315.xml"/><Relationship Id="rId14" Type="http://schemas.openxmlformats.org/officeDocument/2006/relationships/slideLayout" Target="../slideLayouts/slideLayout316.xml"/><Relationship Id="rId15" Type="http://schemas.openxmlformats.org/officeDocument/2006/relationships/slideLayout" Target="../slideLayouts/slideLayout317.xml"/><Relationship Id="rId16" Type="http://schemas.openxmlformats.org/officeDocument/2006/relationships/slideLayout" Target="../slideLayouts/slideLayout318.xml"/><Relationship Id="rId17" Type="http://schemas.openxmlformats.org/officeDocument/2006/relationships/slideLayout" Target="../slideLayouts/slideLayout319.xml"/><Relationship Id="rId18" Type="http://schemas.openxmlformats.org/officeDocument/2006/relationships/slideLayout" Target="../slideLayouts/slideLayout320.xml"/><Relationship Id="rId19" Type="http://schemas.openxmlformats.org/officeDocument/2006/relationships/slideLayout" Target="../slideLayouts/slideLayout321.xml"/><Relationship Id="rId20" Type="http://schemas.openxmlformats.org/officeDocument/2006/relationships/slideLayout" Target="../slideLayouts/slideLayout322.xml"/><Relationship Id="rId21" Type="http://schemas.openxmlformats.org/officeDocument/2006/relationships/slideLayout" Target="../slideLayouts/slideLayout323.xml"/><Relationship Id="rId22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25.xml"/><Relationship Id="rId9" Type="http://schemas.openxmlformats.org/officeDocument/2006/relationships/slideLayout" Target="../slideLayouts/slideLayout326.xml"/><Relationship Id="rId10" Type="http://schemas.openxmlformats.org/officeDocument/2006/relationships/slideLayout" Target="../slideLayouts/slideLayout327.xml"/><Relationship Id="rId11" Type="http://schemas.openxmlformats.org/officeDocument/2006/relationships/slideLayout" Target="../slideLayouts/slideLayout328.xml"/><Relationship Id="rId12" Type="http://schemas.openxmlformats.org/officeDocument/2006/relationships/slideLayout" Target="../slideLayouts/slideLayout329.xml"/><Relationship Id="rId13" Type="http://schemas.openxmlformats.org/officeDocument/2006/relationships/slideLayout" Target="../slideLayouts/slideLayout330.xml"/><Relationship Id="rId14" Type="http://schemas.openxmlformats.org/officeDocument/2006/relationships/slideLayout" Target="../slideLayouts/slideLayout331.xml"/><Relationship Id="rId15" Type="http://schemas.openxmlformats.org/officeDocument/2006/relationships/slideLayout" Target="../slideLayouts/slideLayout332.xml"/><Relationship Id="rId16" Type="http://schemas.openxmlformats.org/officeDocument/2006/relationships/slideLayout" Target="../slideLayouts/slideLayout333.xml"/><Relationship Id="rId17" Type="http://schemas.openxmlformats.org/officeDocument/2006/relationships/slideLayout" Target="../slideLayouts/slideLayout334.xml"/><Relationship Id="rId18" Type="http://schemas.openxmlformats.org/officeDocument/2006/relationships/slideLayout" Target="../slideLayouts/slideLayout335.xml"/><Relationship Id="rId19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37.xml"/><Relationship Id="rId9" Type="http://schemas.openxmlformats.org/officeDocument/2006/relationships/slideLayout" Target="../slideLayouts/slideLayout338.xml"/><Relationship Id="rId10" Type="http://schemas.openxmlformats.org/officeDocument/2006/relationships/slideLayout" Target="../slideLayouts/slideLayout339.xml"/><Relationship Id="rId11" Type="http://schemas.openxmlformats.org/officeDocument/2006/relationships/slideLayout" Target="../slideLayouts/slideLayout340.xml"/><Relationship Id="rId12" Type="http://schemas.openxmlformats.org/officeDocument/2006/relationships/slideLayout" Target="../slideLayouts/slideLayout341.xml"/><Relationship Id="rId13" Type="http://schemas.openxmlformats.org/officeDocument/2006/relationships/slideLayout" Target="../slideLayouts/slideLayout342.xml"/><Relationship Id="rId14" Type="http://schemas.openxmlformats.org/officeDocument/2006/relationships/slideLayout" Target="../slideLayouts/slideLayout343.xml"/><Relationship Id="rId15" Type="http://schemas.openxmlformats.org/officeDocument/2006/relationships/slideLayout" Target="../slideLayouts/slideLayout344.xml"/><Relationship Id="rId16" Type="http://schemas.openxmlformats.org/officeDocument/2006/relationships/slideLayout" Target="../slideLayouts/slideLayout345.xml"/><Relationship Id="rId17" Type="http://schemas.openxmlformats.org/officeDocument/2006/relationships/slideLayout" Target="../slideLayouts/slideLayout346.xml"/><Relationship Id="rId18" Type="http://schemas.openxmlformats.org/officeDocument/2006/relationships/slideLayout" Target="../slideLayouts/slideLayout347.xml"/><Relationship Id="rId19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49.xml"/><Relationship Id="rId9" Type="http://schemas.openxmlformats.org/officeDocument/2006/relationships/slideLayout" Target="../slideLayouts/slideLayout350.xml"/><Relationship Id="rId10" Type="http://schemas.openxmlformats.org/officeDocument/2006/relationships/slideLayout" Target="../slideLayouts/slideLayout351.xml"/><Relationship Id="rId11" Type="http://schemas.openxmlformats.org/officeDocument/2006/relationships/slideLayout" Target="../slideLayouts/slideLayout352.xml"/><Relationship Id="rId12" Type="http://schemas.openxmlformats.org/officeDocument/2006/relationships/slideLayout" Target="../slideLayouts/slideLayout353.xml"/><Relationship Id="rId13" Type="http://schemas.openxmlformats.org/officeDocument/2006/relationships/slideLayout" Target="../slideLayouts/slideLayout354.xml"/><Relationship Id="rId14" Type="http://schemas.openxmlformats.org/officeDocument/2006/relationships/slideLayout" Target="../slideLayouts/slideLayout355.xml"/><Relationship Id="rId15" Type="http://schemas.openxmlformats.org/officeDocument/2006/relationships/slideLayout" Target="../slideLayouts/slideLayout356.xml"/><Relationship Id="rId16" Type="http://schemas.openxmlformats.org/officeDocument/2006/relationships/slideLayout" Target="../slideLayouts/slideLayout357.xml"/><Relationship Id="rId17" Type="http://schemas.openxmlformats.org/officeDocument/2006/relationships/slideLayout" Target="../slideLayouts/slideLayout358.xml"/><Relationship Id="rId18" Type="http://schemas.openxmlformats.org/officeDocument/2006/relationships/slideLayout" Target="../slideLayouts/slideLayout359.xml"/><Relationship Id="rId19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61.xml"/><Relationship Id="rId9" Type="http://schemas.openxmlformats.org/officeDocument/2006/relationships/slideLayout" Target="../slideLayouts/slideLayout362.xml"/><Relationship Id="rId10" Type="http://schemas.openxmlformats.org/officeDocument/2006/relationships/slideLayout" Target="../slideLayouts/slideLayout363.xml"/><Relationship Id="rId11" Type="http://schemas.openxmlformats.org/officeDocument/2006/relationships/slideLayout" Target="../slideLayouts/slideLayout364.xml"/><Relationship Id="rId12" Type="http://schemas.openxmlformats.org/officeDocument/2006/relationships/slideLayout" Target="../slideLayouts/slideLayout365.xml"/><Relationship Id="rId13" Type="http://schemas.openxmlformats.org/officeDocument/2006/relationships/slideLayout" Target="../slideLayouts/slideLayout366.xml"/><Relationship Id="rId14" Type="http://schemas.openxmlformats.org/officeDocument/2006/relationships/slideLayout" Target="../slideLayouts/slideLayout367.xml"/><Relationship Id="rId15" Type="http://schemas.openxmlformats.org/officeDocument/2006/relationships/slideLayout" Target="../slideLayouts/slideLayout368.xml"/><Relationship Id="rId16" Type="http://schemas.openxmlformats.org/officeDocument/2006/relationships/slideLayout" Target="../slideLayouts/slideLayout369.xml"/><Relationship Id="rId17" Type="http://schemas.openxmlformats.org/officeDocument/2006/relationships/slideLayout" Target="../slideLayouts/slideLayout370.xml"/><Relationship Id="rId18" Type="http://schemas.openxmlformats.org/officeDocument/2006/relationships/slideLayout" Target="../slideLayouts/slideLayout371.xml"/><Relationship Id="rId19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73.xml"/><Relationship Id="rId9" Type="http://schemas.openxmlformats.org/officeDocument/2006/relationships/slideLayout" Target="../slideLayouts/slideLayout374.xml"/><Relationship Id="rId10" Type="http://schemas.openxmlformats.org/officeDocument/2006/relationships/slideLayout" Target="../slideLayouts/slideLayout375.xml"/><Relationship Id="rId11" Type="http://schemas.openxmlformats.org/officeDocument/2006/relationships/slideLayout" Target="../slideLayouts/slideLayout376.xml"/><Relationship Id="rId12" Type="http://schemas.openxmlformats.org/officeDocument/2006/relationships/slideLayout" Target="../slideLayouts/slideLayout377.xml"/><Relationship Id="rId13" Type="http://schemas.openxmlformats.org/officeDocument/2006/relationships/slideLayout" Target="../slideLayouts/slideLayout378.xml"/><Relationship Id="rId14" Type="http://schemas.openxmlformats.org/officeDocument/2006/relationships/slideLayout" Target="../slideLayouts/slideLayout379.xml"/><Relationship Id="rId15" Type="http://schemas.openxmlformats.org/officeDocument/2006/relationships/slideLayout" Target="../slideLayouts/slideLayout380.xml"/><Relationship Id="rId16" Type="http://schemas.openxmlformats.org/officeDocument/2006/relationships/slideLayout" Target="../slideLayouts/slideLayout381.xml"/><Relationship Id="rId17" Type="http://schemas.openxmlformats.org/officeDocument/2006/relationships/slideLayout" Target="../slideLayouts/slideLayout382.xml"/><Relationship Id="rId18" Type="http://schemas.openxmlformats.org/officeDocument/2006/relationships/slideLayout" Target="../slideLayouts/slideLayout383.xml"/><Relationship Id="rId19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85.xml"/><Relationship Id="rId9" Type="http://schemas.openxmlformats.org/officeDocument/2006/relationships/slideLayout" Target="../slideLayouts/slideLayout386.xml"/><Relationship Id="rId10" Type="http://schemas.openxmlformats.org/officeDocument/2006/relationships/slideLayout" Target="../slideLayouts/slideLayout387.xml"/><Relationship Id="rId11" Type="http://schemas.openxmlformats.org/officeDocument/2006/relationships/slideLayout" Target="../slideLayouts/slideLayout388.xml"/><Relationship Id="rId12" Type="http://schemas.openxmlformats.org/officeDocument/2006/relationships/slideLayout" Target="../slideLayouts/slideLayout389.xml"/><Relationship Id="rId13" Type="http://schemas.openxmlformats.org/officeDocument/2006/relationships/slideLayout" Target="../slideLayouts/slideLayout390.xml"/><Relationship Id="rId14" Type="http://schemas.openxmlformats.org/officeDocument/2006/relationships/slideLayout" Target="../slideLayouts/slideLayout391.xml"/><Relationship Id="rId15" Type="http://schemas.openxmlformats.org/officeDocument/2006/relationships/slideLayout" Target="../slideLayouts/slideLayout392.xml"/><Relationship Id="rId16" Type="http://schemas.openxmlformats.org/officeDocument/2006/relationships/slideLayout" Target="../slideLayouts/slideLayout393.xml"/><Relationship Id="rId17" Type="http://schemas.openxmlformats.org/officeDocument/2006/relationships/slideLayout" Target="../slideLayouts/slideLayout394.xml"/><Relationship Id="rId18" Type="http://schemas.openxmlformats.org/officeDocument/2006/relationships/slideLayout" Target="../slideLayouts/slideLayout395.xml"/><Relationship Id="rId19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97.xml"/><Relationship Id="rId9" Type="http://schemas.openxmlformats.org/officeDocument/2006/relationships/slideLayout" Target="../slideLayouts/slideLayout398.xml"/><Relationship Id="rId10" Type="http://schemas.openxmlformats.org/officeDocument/2006/relationships/slideLayout" Target="../slideLayouts/slideLayout399.xml"/><Relationship Id="rId11" Type="http://schemas.openxmlformats.org/officeDocument/2006/relationships/slideLayout" Target="../slideLayouts/slideLayout400.xml"/><Relationship Id="rId12" Type="http://schemas.openxmlformats.org/officeDocument/2006/relationships/slideLayout" Target="../slideLayouts/slideLayout401.xml"/><Relationship Id="rId13" Type="http://schemas.openxmlformats.org/officeDocument/2006/relationships/slideLayout" Target="../slideLayouts/slideLayout402.xml"/><Relationship Id="rId14" Type="http://schemas.openxmlformats.org/officeDocument/2006/relationships/slideLayout" Target="../slideLayouts/slideLayout403.xml"/><Relationship Id="rId15" Type="http://schemas.openxmlformats.org/officeDocument/2006/relationships/slideLayout" Target="../slideLayouts/slideLayout404.xml"/><Relationship Id="rId16" Type="http://schemas.openxmlformats.org/officeDocument/2006/relationships/slideLayout" Target="../slideLayouts/slideLayout405.xml"/><Relationship Id="rId17" Type="http://schemas.openxmlformats.org/officeDocument/2006/relationships/slideLayout" Target="../slideLayouts/slideLayout406.xml"/><Relationship Id="rId18" Type="http://schemas.openxmlformats.org/officeDocument/2006/relationships/slideLayout" Target="../slideLayouts/slideLayout407.xml"/><Relationship Id="rId19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409.xml"/><Relationship Id="rId9" Type="http://schemas.openxmlformats.org/officeDocument/2006/relationships/slideLayout" Target="../slideLayouts/slideLayout410.xml"/><Relationship Id="rId10" Type="http://schemas.openxmlformats.org/officeDocument/2006/relationships/slideLayout" Target="../slideLayouts/slideLayout411.xml"/><Relationship Id="rId11" Type="http://schemas.openxmlformats.org/officeDocument/2006/relationships/slideLayout" Target="../slideLayouts/slideLayout412.xml"/><Relationship Id="rId12" Type="http://schemas.openxmlformats.org/officeDocument/2006/relationships/slideLayout" Target="../slideLayouts/slideLayout413.xml"/><Relationship Id="rId13" Type="http://schemas.openxmlformats.org/officeDocument/2006/relationships/slideLayout" Target="../slideLayouts/slideLayout414.xml"/><Relationship Id="rId14" Type="http://schemas.openxmlformats.org/officeDocument/2006/relationships/slideLayout" Target="../slideLayouts/slideLayout415.xml"/><Relationship Id="rId15" Type="http://schemas.openxmlformats.org/officeDocument/2006/relationships/slideLayout" Target="../slideLayouts/slideLayout416.xml"/><Relationship Id="rId16" Type="http://schemas.openxmlformats.org/officeDocument/2006/relationships/slideLayout" Target="../slideLayouts/slideLayout417.xml"/><Relationship Id="rId17" Type="http://schemas.openxmlformats.org/officeDocument/2006/relationships/slideLayout" Target="../slideLayouts/slideLayout418.xml"/><Relationship Id="rId18" Type="http://schemas.openxmlformats.org/officeDocument/2006/relationships/slideLayout" Target="../slideLayouts/slideLayout419.xml"/><Relationship Id="rId19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421.xml"/><Relationship Id="rId9" Type="http://schemas.openxmlformats.org/officeDocument/2006/relationships/slideLayout" Target="../slideLayouts/slideLayout422.xml"/><Relationship Id="rId10" Type="http://schemas.openxmlformats.org/officeDocument/2006/relationships/slideLayout" Target="../slideLayouts/slideLayout423.xml"/><Relationship Id="rId11" Type="http://schemas.openxmlformats.org/officeDocument/2006/relationships/slideLayout" Target="../slideLayouts/slideLayout424.xml"/><Relationship Id="rId12" Type="http://schemas.openxmlformats.org/officeDocument/2006/relationships/slideLayout" Target="../slideLayouts/slideLayout425.xml"/><Relationship Id="rId13" Type="http://schemas.openxmlformats.org/officeDocument/2006/relationships/slideLayout" Target="../slideLayouts/slideLayout426.xml"/><Relationship Id="rId14" Type="http://schemas.openxmlformats.org/officeDocument/2006/relationships/slideLayout" Target="../slideLayouts/slideLayout427.xml"/><Relationship Id="rId15" Type="http://schemas.openxmlformats.org/officeDocument/2006/relationships/slideLayout" Target="../slideLayouts/slideLayout428.xml"/><Relationship Id="rId16" Type="http://schemas.openxmlformats.org/officeDocument/2006/relationships/slideLayout" Target="../slideLayouts/slideLayout429.xml"/><Relationship Id="rId17" Type="http://schemas.openxmlformats.org/officeDocument/2006/relationships/slideLayout" Target="../slideLayouts/slideLayout430.xml"/><Relationship Id="rId18" Type="http://schemas.openxmlformats.org/officeDocument/2006/relationships/slideLayout" Target="../slideLayouts/slideLayout431.xml"/><Relationship Id="rId19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433.xml"/><Relationship Id="rId9" Type="http://schemas.openxmlformats.org/officeDocument/2006/relationships/slideLayout" Target="../slideLayouts/slideLayout434.xml"/><Relationship Id="rId10" Type="http://schemas.openxmlformats.org/officeDocument/2006/relationships/slideLayout" Target="../slideLayouts/slideLayout435.xml"/><Relationship Id="rId11" Type="http://schemas.openxmlformats.org/officeDocument/2006/relationships/slideLayout" Target="../slideLayouts/slideLayout436.xml"/><Relationship Id="rId12" Type="http://schemas.openxmlformats.org/officeDocument/2006/relationships/slideLayout" Target="../slideLayouts/slideLayout437.xml"/><Relationship Id="rId13" Type="http://schemas.openxmlformats.org/officeDocument/2006/relationships/slideLayout" Target="../slideLayouts/slideLayout438.xml"/><Relationship Id="rId14" Type="http://schemas.openxmlformats.org/officeDocument/2006/relationships/slideLayout" Target="../slideLayouts/slideLayout439.xml"/><Relationship Id="rId15" Type="http://schemas.openxmlformats.org/officeDocument/2006/relationships/slideLayout" Target="../slideLayouts/slideLayout440.xml"/><Relationship Id="rId16" Type="http://schemas.openxmlformats.org/officeDocument/2006/relationships/slideLayout" Target="../slideLayouts/slideLayout441.xml"/><Relationship Id="rId17" Type="http://schemas.openxmlformats.org/officeDocument/2006/relationships/slideLayout" Target="../slideLayouts/slideLayout442.xml"/><Relationship Id="rId18" Type="http://schemas.openxmlformats.org/officeDocument/2006/relationships/slideLayout" Target="../slideLayouts/slideLayout443.xml"/><Relationship Id="rId19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445.xml"/><Relationship Id="rId9" Type="http://schemas.openxmlformats.org/officeDocument/2006/relationships/slideLayout" Target="../slideLayouts/slideLayout446.xml"/><Relationship Id="rId10" Type="http://schemas.openxmlformats.org/officeDocument/2006/relationships/slideLayout" Target="../slideLayouts/slideLayout447.xml"/><Relationship Id="rId11" Type="http://schemas.openxmlformats.org/officeDocument/2006/relationships/slideLayout" Target="../slideLayouts/slideLayout448.xml"/><Relationship Id="rId12" Type="http://schemas.openxmlformats.org/officeDocument/2006/relationships/slideLayout" Target="../slideLayouts/slideLayout449.xml"/><Relationship Id="rId13" Type="http://schemas.openxmlformats.org/officeDocument/2006/relationships/slideLayout" Target="../slideLayouts/slideLayout450.xml"/><Relationship Id="rId14" Type="http://schemas.openxmlformats.org/officeDocument/2006/relationships/slideLayout" Target="../slideLayouts/slideLayout451.xml"/><Relationship Id="rId15" Type="http://schemas.openxmlformats.org/officeDocument/2006/relationships/slideLayout" Target="../slideLayouts/slideLayout452.xml"/><Relationship Id="rId16" Type="http://schemas.openxmlformats.org/officeDocument/2006/relationships/slideLayout" Target="../slideLayouts/slideLayout453.xml"/><Relationship Id="rId17" Type="http://schemas.openxmlformats.org/officeDocument/2006/relationships/slideLayout" Target="../slideLayouts/slideLayout454.xml"/><Relationship Id="rId18" Type="http://schemas.openxmlformats.org/officeDocument/2006/relationships/slideLayout" Target="../slideLayouts/slideLayout455.xml"/><Relationship Id="rId19" Type="http://schemas.openxmlformats.org/officeDocument/2006/relationships/slideLayout" Target="../slideLayouts/slideLayout45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B80D-C0BE-4807-B6B1-305CDEC91A59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4DF2-4F6F-4296-A82C-A812D4729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BC55-405B-4944-93A1-3BAAFD10A32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1658-8B52-4632-8584-D0362186E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69692-30EE-4B71-AC85-9AD583011AC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5B1E-ACAA-42E7-AC4F-2E617394ED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B409-D115-43AD-898C-AAE24B980BE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D2409-44D3-4E1B-8B5D-1F9BD62CE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B167-4BC5-4ED7-8AAF-0022736C024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6BDC7-EFF0-457C-A982-B400BE0A9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CB2A9-0858-416C-A725-FF1C615A8C6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0193-28E6-41F7-B91F-C500F5CE6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2DB26-CF3B-46F0-8E87-07036D37D91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C3D6-F0C2-4825-AE01-2F7FB1BAF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0E14-C094-405A-8773-722A29D10028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37A94-4979-4AED-B436-AA2709A163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19C7-9BC9-49D7-8970-93B6E4FC660C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BE03-31B7-4B9C-A7B3-19EC3BEBB0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341D-45DD-43A1-BAA1-0C201351E98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E0E8B-86D1-4BDF-87EE-ACDA8BD45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69DF-0A5D-45E6-AB91-A4F3F9DE783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099E-63CB-4395-9D66-7F95B4923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CEB9-A068-42BA-8B12-CBFD5CE6A2CA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AF6E-165B-4F3C-B02A-E96EDB8B2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5679-B30D-4F62-AA8B-AD4ED24F0667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F97D-3210-484D-B667-5C55169F3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2601-8D42-4C0E-85E0-A90F903BEE2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0CE3-3D60-408A-8B8F-8FAF85A7D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F5AD-CE51-4D92-BC4D-B563795438B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26AE-EC5A-4AD2-8C36-7CF49CFF1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62B8-BCB9-4FF1-910F-2ED9A059959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A4DA-D97A-46F3-8A60-DA35AE043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44ED-8D6C-4DF4-B475-1728E1C7C3A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79A4-3F0A-4AF0-BDC1-32F6E8A43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4D48-EFC4-4F0F-8141-21EB2715121B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C791-4B5E-47D1-B438-12F217E3D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0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041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2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3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4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045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8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049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052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3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4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5" name="Group 29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056" name="Picture 30" descr="MPj03828470000[1]"/>
            <p:cNvPicPr/>
            <p:nvPr/>
          </p:nvPicPr>
          <p:blipFill>
            <a:blip r:embed="rId8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7" name="Picture 31" descr=""/>
            <p:cNvPicPr/>
            <p:nvPr/>
          </p:nvPicPr>
          <p:blipFill>
            <a:blip r:embed="rId9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8" name="Rectangle 37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52"/>
          <p:cNvSpPr/>
          <p:nvPr/>
        </p:nvSpPr>
        <p:spPr>
          <a:xfrm>
            <a:off x="5508720" y="0"/>
            <a:ext cx="3635280" cy="2781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0" name="Group 53"/>
          <p:cNvGrpSpPr/>
          <p:nvPr/>
        </p:nvGrpSpPr>
        <p:grpSpPr>
          <a:xfrm>
            <a:off x="19080" y="2330280"/>
            <a:ext cx="9114840" cy="358920"/>
            <a:chOff x="19080" y="2330280"/>
            <a:chExt cx="9114840" cy="358920"/>
          </a:xfrm>
        </p:grpSpPr>
        <p:sp>
          <p:nvSpPr>
            <p:cNvPr id="1061" name="Line 54"/>
            <p:cNvSpPr/>
            <p:nvPr/>
          </p:nvSpPr>
          <p:spPr>
            <a:xfrm>
              <a:off x="19080" y="233028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55"/>
            <p:cNvSpPr/>
            <p:nvPr/>
          </p:nvSpPr>
          <p:spPr>
            <a:xfrm>
              <a:off x="19080" y="24447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56"/>
            <p:cNvSpPr/>
            <p:nvPr/>
          </p:nvSpPr>
          <p:spPr>
            <a:xfrm>
              <a:off x="19080" y="256536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57"/>
            <p:cNvSpPr/>
            <p:nvPr/>
          </p:nvSpPr>
          <p:spPr>
            <a:xfrm>
              <a:off x="19080" y="2689200"/>
              <a:ext cx="9114840" cy="0"/>
            </a:xfrm>
            <a:prstGeom prst="line">
              <a:avLst/>
            </a:prstGeom>
            <a:ln cap="rnd" w="1908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Rectangle 60"/>
          <p:cNvSpPr/>
          <p:nvPr/>
        </p:nvSpPr>
        <p:spPr>
          <a:xfrm>
            <a:off x="0" y="2787480"/>
            <a:ext cx="9144000" cy="7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63"/>
          <p:cNvSpPr/>
          <p:nvPr/>
        </p:nvSpPr>
        <p:spPr>
          <a:xfrm>
            <a:off x="2895480" y="2819520"/>
            <a:ext cx="6248520" cy="6858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21" descr=""/>
          <p:cNvPicPr/>
          <p:nvPr/>
        </p:nvPicPr>
        <p:blipFill>
          <a:blip r:embed="rId10"/>
          <a:srcRect l="0" t="0" r="57690" b="0"/>
          <a:stretch/>
        </p:blipFill>
        <p:spPr>
          <a:xfrm>
            <a:off x="1547640" y="3933720"/>
            <a:ext cx="1008360" cy="11746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22" descr="MPj04117520000[1]"/>
          <p:cNvPicPr/>
          <p:nvPr/>
        </p:nvPicPr>
        <p:blipFill>
          <a:blip r:embed="rId11"/>
          <a:stretch/>
        </p:blipFill>
        <p:spPr>
          <a:xfrm>
            <a:off x="0" y="0"/>
            <a:ext cx="1855800" cy="27813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27" descr="MPj04278250000[1]"/>
          <p:cNvPicPr/>
          <p:nvPr/>
        </p:nvPicPr>
        <p:blipFill>
          <a:blip r:embed="rId12"/>
          <a:srcRect l="23404" t="0" r="8673" b="0"/>
          <a:stretch/>
        </p:blipFill>
        <p:spPr>
          <a:xfrm>
            <a:off x="1835280" y="0"/>
            <a:ext cx="2103480" cy="27813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28" descr="MPj04225890000[1]"/>
          <p:cNvPicPr/>
          <p:nvPr/>
        </p:nvPicPr>
        <p:blipFill>
          <a:blip r:embed="rId13"/>
          <a:srcRect l="32721" t="0" r="9067" b="0"/>
          <a:stretch/>
        </p:blipFill>
        <p:spPr>
          <a:xfrm>
            <a:off x="3924360" y="0"/>
            <a:ext cx="2430360" cy="278136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2" descr=""/>
          <p:cNvPicPr/>
          <p:nvPr/>
        </p:nvPicPr>
        <p:blipFill>
          <a:blip r:embed="rId14"/>
          <a:stretch/>
        </p:blipFill>
        <p:spPr>
          <a:xfrm>
            <a:off x="4500720" y="5732640"/>
            <a:ext cx="909360" cy="720720"/>
          </a:xfrm>
          <a:prstGeom prst="rect">
            <a:avLst/>
          </a:prstGeom>
          <a:ln w="0">
            <a:noFill/>
          </a:ln>
        </p:spPr>
      </p:pic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 type="dt" idx="76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A045-7E8D-428D-96D2-BEA43EEAECA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 type="ftr" idx="77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5"/>
          <p:cNvSpPr>
            <a:spLocks noGrp="1"/>
          </p:cNvSpPr>
          <p:nvPr>
            <p:ph type="sldNum" idx="78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E09E-7E52-4640-BA40-C9252F5C21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15"/>
    <p:sldLayoutId id="2147483975" r:id="rId16"/>
    <p:sldLayoutId id="2147483976" r:id="rId17"/>
    <p:sldLayoutId id="2147483977" r:id="rId18"/>
    <p:sldLayoutId id="2147483978" r:id="rId19"/>
    <p:sldLayoutId id="2147483979" r:id="rId20"/>
    <p:sldLayoutId id="2147483980" r:id="rId21"/>
    <p:sldLayoutId id="2147483981" r:id="rId22"/>
    <p:sldLayoutId id="2147483982" r:id="rId23"/>
    <p:sldLayoutId id="2147483983" r:id="rId24"/>
    <p:sldLayoutId id="2147483984" r:id="rId25"/>
    <p:sldLayoutId id="2147483985" r:id="rId2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3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114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5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6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118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122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4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125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6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7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28" name="Picture 21" descr="Slide_Background.jpg"/>
          <p:cNvPicPr/>
          <p:nvPr/>
        </p:nvPicPr>
        <p:blipFill>
          <a:blip r:embed="rId8"/>
          <a:stretch/>
        </p:blipFill>
        <p:spPr>
          <a:xfrm>
            <a:off x="0" y="0"/>
            <a:ext cx="9144000" cy="12682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21" descr=""/>
          <p:cNvPicPr/>
          <p:nvPr/>
        </p:nvPicPr>
        <p:blipFill>
          <a:blip r:embed="rId9"/>
          <a:srcRect l="0" t="0" r="57705" b="0"/>
          <a:stretch/>
        </p:blipFill>
        <p:spPr>
          <a:xfrm>
            <a:off x="395280" y="6093000"/>
            <a:ext cx="422280" cy="4921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2" descr=""/>
          <p:cNvPicPr/>
          <p:nvPr/>
        </p:nvPicPr>
        <p:blipFill>
          <a:blip r:embed="rId10"/>
          <a:stretch/>
        </p:blipFill>
        <p:spPr>
          <a:xfrm>
            <a:off x="826920" y="6165720"/>
            <a:ext cx="486000" cy="38268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79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1D73-FB9A-452A-85D0-ABFE5191F44E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80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81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25427-F821-4C19-9729-2CA2073942C2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11"/>
    <p:sldLayoutId id="2147483988" r:id="rId12"/>
    <p:sldLayoutId id="2147483989" r:id="rId13"/>
    <p:sldLayoutId id="2147483990" r:id="rId14"/>
    <p:sldLayoutId id="2147483991" r:id="rId15"/>
    <p:sldLayoutId id="2147483992" r:id="rId16"/>
    <p:sldLayoutId id="2147483993" r:id="rId17"/>
    <p:sldLayoutId id="2147483994" r:id="rId18"/>
    <p:sldLayoutId id="2147483995" r:id="rId19"/>
    <p:sldLayoutId id="2147483996" r:id="rId20"/>
    <p:sldLayoutId id="2147483997" r:id="rId21"/>
    <p:sldLayoutId id="2147483998" r:id="rId22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2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173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4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5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6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177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181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184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5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6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2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80B2-17AA-445C-8150-1C6D13294395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3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4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F410-0FE3-4597-9440-556EFB39F85F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8"/>
    <p:sldLayoutId id="2147484001" r:id="rId9"/>
    <p:sldLayoutId id="2147484002" r:id="rId10"/>
    <p:sldLayoutId id="2147484003" r:id="rId11"/>
    <p:sldLayoutId id="2147484004" r:id="rId12"/>
    <p:sldLayoutId id="2147484005" r:id="rId13"/>
    <p:sldLayoutId id="2147484006" r:id="rId14"/>
    <p:sldLayoutId id="2147484007" r:id="rId15"/>
    <p:sldLayoutId id="2147484008" r:id="rId16"/>
    <p:sldLayoutId id="2147484009" r:id="rId17"/>
    <p:sldLayoutId id="2147484010" r:id="rId18"/>
    <p:sldLayoutId id="2147484011" r:id="rId19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8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229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0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1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233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6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237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9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240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1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2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 type="dt" idx="85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D76C-4DFA-4D9C-98BC-33D18202A264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 type="ftr" idx="86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 type="sldNum" idx="87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7C24-785F-4C54-B55A-7165921FD4D4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8"/>
    <p:sldLayoutId id="2147484014" r:id="rId9"/>
    <p:sldLayoutId id="2147484015" r:id="rId10"/>
    <p:sldLayoutId id="2147484016" r:id="rId11"/>
    <p:sldLayoutId id="2147484017" r:id="rId12"/>
    <p:sldLayoutId id="2147484018" r:id="rId13"/>
    <p:sldLayoutId id="2147484019" r:id="rId14"/>
    <p:sldLayoutId id="2147484020" r:id="rId15"/>
    <p:sldLayoutId id="2147484021" r:id="rId16"/>
    <p:sldLayoutId id="2147484022" r:id="rId17"/>
    <p:sldLayoutId id="2147484023" r:id="rId18"/>
    <p:sldLayoutId id="2147484024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83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87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D40F-44C4-4888-8D1D-1C1573B1A3E9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093C-8674-4243-96B8-8088109379A6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96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99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4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285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7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8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289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293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5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296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7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8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 type="dt" idx="88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FE3A-9740-4FB5-986F-20AD61C89B08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 type="ftr" idx="89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5"/>
          <p:cNvSpPr>
            <a:spLocks noGrp="1"/>
          </p:cNvSpPr>
          <p:nvPr>
            <p:ph type="sldNum" idx="90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A1A46-1D69-437E-BE33-386DBC0CF050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8"/>
    <p:sldLayoutId id="2147484027" r:id="rId9"/>
    <p:sldLayoutId id="2147484028" r:id="rId10"/>
    <p:sldLayoutId id="2147484029" r:id="rId11"/>
    <p:sldLayoutId id="2147484030" r:id="rId12"/>
    <p:sldLayoutId id="2147484031" r:id="rId13"/>
    <p:sldLayoutId id="2147484032" r:id="rId14"/>
    <p:sldLayoutId id="2147484033" r:id="rId15"/>
    <p:sldLayoutId id="2147484034" r:id="rId16"/>
    <p:sldLayoutId id="2147484035" r:id="rId17"/>
    <p:sldLayoutId id="2147484036" r:id="rId18"/>
    <p:sldLayoutId id="2147484037" r:id="rId19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0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341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2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3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4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345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8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349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1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352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3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4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1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C380-B322-4E34-8BB3-5A8591A5822D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92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3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BCAF1-2D9D-4174-BD94-A4D3273E87F5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8"/>
    <p:sldLayoutId id="2147484040" r:id="rId9"/>
    <p:sldLayoutId id="2147484041" r:id="rId10"/>
    <p:sldLayoutId id="2147484042" r:id="rId11"/>
    <p:sldLayoutId id="2147484043" r:id="rId12"/>
    <p:sldLayoutId id="2147484044" r:id="rId13"/>
    <p:sldLayoutId id="2147484045" r:id="rId14"/>
    <p:sldLayoutId id="2147484046" r:id="rId15"/>
    <p:sldLayoutId id="2147484047" r:id="rId16"/>
    <p:sldLayoutId id="2147484048" r:id="rId17"/>
    <p:sldLayoutId id="2147484049" r:id="rId18"/>
    <p:sldLayoutId id="2147484050" r:id="rId19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6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397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8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9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0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401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4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405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408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9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0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 type="dt" idx="94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643B-EBD1-4C3A-A87A-7137E215C78C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 type="ftr" idx="95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 type="sldNum" idx="96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1351-CF88-4095-835A-8BCEE6E3653D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8"/>
    <p:sldLayoutId id="2147484053" r:id="rId9"/>
    <p:sldLayoutId id="2147484054" r:id="rId10"/>
    <p:sldLayoutId id="2147484055" r:id="rId11"/>
    <p:sldLayoutId id="2147484056" r:id="rId12"/>
    <p:sldLayoutId id="2147484057" r:id="rId13"/>
    <p:sldLayoutId id="2147484058" r:id="rId14"/>
    <p:sldLayoutId id="2147484059" r:id="rId15"/>
    <p:sldLayoutId id="2147484060" r:id="rId16"/>
    <p:sldLayoutId id="2147484061" r:id="rId17"/>
    <p:sldLayoutId id="2147484062" r:id="rId18"/>
    <p:sldLayoutId id="2147484063" r:id="rId19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2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453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4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5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6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457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0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461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3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464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5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6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97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BF301-65EB-436F-853A-28AF7F631194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98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99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9420-33DA-4646-A2B1-C48123803B6E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8"/>
    <p:sldLayoutId id="2147484066" r:id="rId9"/>
    <p:sldLayoutId id="2147484067" r:id="rId10"/>
    <p:sldLayoutId id="2147484068" r:id="rId11"/>
    <p:sldLayoutId id="2147484069" r:id="rId12"/>
    <p:sldLayoutId id="2147484070" r:id="rId13"/>
    <p:sldLayoutId id="2147484071" r:id="rId14"/>
    <p:sldLayoutId id="2147484072" r:id="rId15"/>
    <p:sldLayoutId id="2147484073" r:id="rId16"/>
    <p:sldLayoutId id="2147484074" r:id="rId17"/>
    <p:sldLayoutId id="2147484075" r:id="rId18"/>
    <p:sldLayoutId id="2147484076" r:id="rId19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8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509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0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1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2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513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6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517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9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520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1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2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 type="dt" idx="100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082D-88A3-4E8D-8A78-0A2291E7036F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 type="ftr" idx="101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46FB-F236-40BB-81D5-88616A86C9F6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8"/>
    <p:sldLayoutId id="2147484079" r:id="rId9"/>
    <p:sldLayoutId id="2147484080" r:id="rId10"/>
    <p:sldLayoutId id="2147484081" r:id="rId11"/>
    <p:sldLayoutId id="2147484082" r:id="rId12"/>
    <p:sldLayoutId id="2147484083" r:id="rId13"/>
    <p:sldLayoutId id="2147484084" r:id="rId14"/>
    <p:sldLayoutId id="2147484085" r:id="rId15"/>
    <p:sldLayoutId id="2147484086" r:id="rId16"/>
    <p:sldLayoutId id="2147484087" r:id="rId17"/>
    <p:sldLayoutId id="2147484088" r:id="rId18"/>
    <p:sldLayoutId id="2147484089" r:id="rId19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4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565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6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7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8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569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573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5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576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7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8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 type="dt" idx="103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ECBE-4E0B-40EB-BE3D-A814927DA9C5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 type="ftr" idx="104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5"/>
          <p:cNvSpPr>
            <a:spLocks noGrp="1"/>
          </p:cNvSpPr>
          <p:nvPr>
            <p:ph type="sldNum" idx="105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9C15-E9A4-4DD1-8742-8278CC8456AF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8"/>
    <p:sldLayoutId id="2147484092" r:id="rId9"/>
    <p:sldLayoutId id="2147484093" r:id="rId10"/>
    <p:sldLayoutId id="2147484094" r:id="rId11"/>
    <p:sldLayoutId id="2147484095" r:id="rId12"/>
    <p:sldLayoutId id="2147484096" r:id="rId13"/>
    <p:sldLayoutId id="2147484097" r:id="rId14"/>
    <p:sldLayoutId id="2147484098" r:id="rId15"/>
    <p:sldLayoutId id="2147484099" r:id="rId16"/>
    <p:sldLayoutId id="2147484100" r:id="rId17"/>
    <p:sldLayoutId id="2147484101" r:id="rId18"/>
    <p:sldLayoutId id="2147484102" r:id="rId19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0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621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3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4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625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8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29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1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632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3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4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dt" idx="106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8752-D58D-42E3-A920-248466B4A83F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ftr" idx="107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B24D-CE0D-4ED5-B72D-D61494BE6498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8"/>
    <p:sldLayoutId id="2147484105" r:id="rId9"/>
    <p:sldLayoutId id="2147484106" r:id="rId10"/>
    <p:sldLayoutId id="2147484107" r:id="rId11"/>
    <p:sldLayoutId id="2147484108" r:id="rId12"/>
    <p:sldLayoutId id="2147484109" r:id="rId13"/>
    <p:sldLayoutId id="2147484110" r:id="rId14"/>
    <p:sldLayoutId id="2147484111" r:id="rId15"/>
    <p:sldLayoutId id="2147484112" r:id="rId16"/>
    <p:sldLayoutId id="2147484113" r:id="rId17"/>
    <p:sldLayoutId id="2147484114" r:id="rId18"/>
    <p:sldLayoutId id="2147484115" r:id="rId19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6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677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8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9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0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681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4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685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688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9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0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 type="dt" idx="109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AFAF-7BCC-43B5-B943-E68C6D47903A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 type="ftr" idx="110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 type="sldNum" idx="111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E973-0313-41F1-BBDD-14112F3135E3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8"/>
    <p:sldLayoutId id="2147484118" r:id="rId9"/>
    <p:sldLayoutId id="2147484119" r:id="rId10"/>
    <p:sldLayoutId id="2147484120" r:id="rId11"/>
    <p:sldLayoutId id="2147484121" r:id="rId12"/>
    <p:sldLayoutId id="2147484122" r:id="rId13"/>
    <p:sldLayoutId id="2147484123" r:id="rId14"/>
    <p:sldLayoutId id="2147484124" r:id="rId15"/>
    <p:sldLayoutId id="2147484125" r:id="rId16"/>
    <p:sldLayoutId id="2147484126" r:id="rId17"/>
    <p:sldLayoutId id="2147484127" r:id="rId18"/>
    <p:sldLayoutId id="2147484128" r:id="rId19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2" name="Group 67"/>
          <p:cNvGrpSpPr/>
          <p:nvPr/>
        </p:nvGrpSpPr>
        <p:grpSpPr>
          <a:xfrm>
            <a:off x="468360" y="1268280"/>
            <a:ext cx="8205840" cy="5070600"/>
            <a:chOff x="468360" y="1268280"/>
            <a:chExt cx="8205840" cy="5070600"/>
          </a:xfrm>
        </p:grpSpPr>
        <p:pic>
          <p:nvPicPr>
            <p:cNvPr id="1733" name="Picture 66" descr="MPj03828470000[1]"/>
            <p:cNvPicPr/>
            <p:nvPr/>
          </p:nvPicPr>
          <p:blipFill>
            <a:blip r:embed="rId3"/>
            <a:stretch/>
          </p:blipFill>
          <p:spPr>
            <a:xfrm>
              <a:off x="468360" y="1268280"/>
              <a:ext cx="4103640" cy="504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4" name="Picture 64" descr=""/>
            <p:cNvPicPr/>
            <p:nvPr/>
          </p:nvPicPr>
          <p:blipFill>
            <a:blip r:embed="rId4"/>
            <a:stretch/>
          </p:blipFill>
          <p:spPr>
            <a:xfrm>
              <a:off x="4572000" y="1268280"/>
              <a:ext cx="4102200" cy="507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5" name="Rectangle 32"/>
          <p:cNvSpPr/>
          <p:nvPr/>
        </p:nvSpPr>
        <p:spPr>
          <a:xfrm>
            <a:off x="11160" y="0"/>
            <a:ext cx="9132840" cy="1177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6" name="Group 33"/>
          <p:cNvGrpSpPr/>
          <p:nvPr/>
        </p:nvGrpSpPr>
        <p:grpSpPr>
          <a:xfrm>
            <a:off x="0" y="879480"/>
            <a:ext cx="9143640" cy="144360"/>
            <a:chOff x="0" y="879480"/>
            <a:chExt cx="9143640" cy="144360"/>
          </a:xfrm>
        </p:grpSpPr>
        <p:sp>
          <p:nvSpPr>
            <p:cNvPr id="1737" name="Line 34"/>
            <p:cNvSpPr/>
            <p:nvPr/>
          </p:nvSpPr>
          <p:spPr>
            <a:xfrm>
              <a:off x="0" y="87948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Line 35"/>
            <p:cNvSpPr/>
            <p:nvPr/>
          </p:nvSpPr>
          <p:spPr>
            <a:xfrm>
              <a:off x="0" y="95076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Line 36"/>
            <p:cNvSpPr/>
            <p:nvPr/>
          </p:nvSpPr>
          <p:spPr>
            <a:xfrm>
              <a:off x="0" y="1023840"/>
              <a:ext cx="91436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44"/>
          <p:cNvGrpSpPr/>
          <p:nvPr/>
        </p:nvGrpSpPr>
        <p:grpSpPr>
          <a:xfrm>
            <a:off x="0" y="1109520"/>
            <a:ext cx="9144000" cy="169920"/>
            <a:chOff x="0" y="1109520"/>
            <a:chExt cx="9144000" cy="169920"/>
          </a:xfrm>
        </p:grpSpPr>
        <p:sp>
          <p:nvSpPr>
            <p:cNvPr id="1741" name="Rectangle 40"/>
            <p:cNvSpPr/>
            <p:nvPr/>
          </p:nvSpPr>
          <p:spPr>
            <a:xfrm>
              <a:off x="0" y="1109520"/>
              <a:ext cx="9144000" cy="7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42"/>
            <p:cNvSpPr/>
            <p:nvPr/>
          </p:nvSpPr>
          <p:spPr>
            <a:xfrm>
              <a:off x="2343240" y="1131840"/>
              <a:ext cx="680076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Group 58"/>
          <p:cNvGrpSpPr/>
          <p:nvPr/>
        </p:nvGrpSpPr>
        <p:grpSpPr>
          <a:xfrm>
            <a:off x="0" y="0"/>
            <a:ext cx="2916360" cy="1125360"/>
            <a:chOff x="0" y="0"/>
            <a:chExt cx="2916360" cy="1125360"/>
          </a:xfrm>
        </p:grpSpPr>
        <p:pic>
          <p:nvPicPr>
            <p:cNvPr id="1744" name="Picture 55" descr="MPj04117520000[1]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85140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5" name="Picture 56" descr="MPj04278250000[1]"/>
            <p:cNvPicPr/>
            <p:nvPr/>
          </p:nvPicPr>
          <p:blipFill>
            <a:blip r:embed="rId6"/>
            <a:srcRect l="23398" t="0" r="8660" b="0"/>
            <a:stretch/>
          </p:blipFill>
          <p:spPr>
            <a:xfrm>
              <a:off x="842040" y="0"/>
              <a:ext cx="965160" cy="11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6" name="Picture 57" descr="MPj04225890000[1]"/>
            <p:cNvPicPr/>
            <p:nvPr/>
          </p:nvPicPr>
          <p:blipFill>
            <a:blip r:embed="rId7"/>
            <a:srcRect l="32732" t="0" r="9057" b="0"/>
            <a:stretch/>
          </p:blipFill>
          <p:spPr>
            <a:xfrm>
              <a:off x="1801080" y="0"/>
              <a:ext cx="1115280" cy="11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9900"/>
              </a:buClr>
              <a:buSzPct val="5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749" name="PlaceHolder 3"/>
          <p:cNvSpPr>
            <a:spLocks noGrp="1"/>
          </p:cNvSpPr>
          <p:nvPr>
            <p:ph type="dt" idx="112"/>
          </p:nvPr>
        </p:nvSpPr>
        <p:spPr>
          <a:xfrm>
            <a:off x="45684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4231-2537-414E-BC27-352ADCA8EA64}" type="datetime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4"/>
          <p:cNvSpPr>
            <a:spLocks noGrp="1"/>
          </p:cNvSpPr>
          <p:nvPr>
            <p:ph type="ftr" idx="113"/>
          </p:nvPr>
        </p:nvSpPr>
        <p:spPr>
          <a:xfrm>
            <a:off x="3124080" y="652104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5"/>
          <p:cNvSpPr>
            <a:spLocks noGrp="1"/>
          </p:cNvSpPr>
          <p:nvPr>
            <p:ph type="sldNum" idx="114"/>
          </p:nvPr>
        </p:nvSpPr>
        <p:spPr>
          <a:xfrm>
            <a:off x="6552720" y="652104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2d6b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6684-7E1F-47CD-B6AE-490EFE434F1D}" type="slidenum">
              <a:rPr b="0" lang="en-GB" sz="1400" spc="-1" strike="noStrike">
                <a:solidFill>
                  <a:srgbClr val="2d6bc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8"/>
    <p:sldLayoutId id="2147484131" r:id="rId9"/>
    <p:sldLayoutId id="2147484132" r:id="rId10"/>
    <p:sldLayoutId id="2147484133" r:id="rId11"/>
    <p:sldLayoutId id="2147484134" r:id="rId12"/>
    <p:sldLayoutId id="2147484135" r:id="rId13"/>
    <p:sldLayoutId id="2147484136" r:id="rId14"/>
    <p:sldLayoutId id="2147484137" r:id="rId15"/>
    <p:sldLayoutId id="2147484138" r:id="rId16"/>
    <p:sldLayoutId id="2147484139" r:id="rId17"/>
    <p:sldLayoutId id="2147484140" r:id="rId18"/>
    <p:sldLayoutId id="2147484141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E4DAC-70A7-4333-8ED6-0A0E85BA3A7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DCBC-EF35-430D-A3A1-B37B0980F0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9FA0-8EFF-4581-83FD-1FC3AC1F0602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CC0C-9ECF-41FE-AC62-987E5572C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D330-1704-411A-9223-573CE9E13A62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215B-8AF8-492C-BC31-66A822174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BF44-0B0D-4FD6-908E-B13ABE771A63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B649-2B1A-4E5A-9536-D358EC3D96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522-A125-4AFC-9541-66C2A6FB33FE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86CE-28F9-42E1-B840-AE174C233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A59F-561E-4BCB-96BA-8C336DF73290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03FF-23BD-4ABD-8B91-889A4F7F4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1.jpeg"/><Relationship Id="rId4" Type="http://schemas.openxmlformats.org/officeDocument/2006/relationships/image" Target="../media/image41.jpeg"/><Relationship Id="rId5" Type="http://schemas.openxmlformats.org/officeDocument/2006/relationships/image" Target="../media/image41.jpeg"/><Relationship Id="rId6" Type="http://schemas.openxmlformats.org/officeDocument/2006/relationships/image" Target="../media/image41.jpeg"/><Relationship Id="rId7" Type="http://schemas.openxmlformats.org/officeDocument/2006/relationships/slideLayout" Target="../slideLayouts/slideLayout3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3059280" y="2852280"/>
            <a:ext cx="579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L.C. Techn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 type="subTitle"/>
          </p:nvPr>
        </p:nvSpPr>
        <p:spPr>
          <a:xfrm>
            <a:off x="2895480" y="4038480"/>
            <a:ext cx="6019920" cy="97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Arial"/>
              </a:rPr>
              <a:t>Professional Development for Teachers</a:t>
            </a: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</p:txBody>
      </p:sp>
    </p:spTree>
  </p:cSld>
  <p:transition spd="med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Picture 3" descr="7.jpg"/>
          <p:cNvPicPr/>
          <p:nvPr/>
        </p:nvPicPr>
        <p:blipFill>
          <a:blip r:embed="rId1"/>
          <a:stretch/>
        </p:blipFill>
        <p:spPr>
          <a:xfrm>
            <a:off x="7343640" y="2565360"/>
            <a:ext cx="1800360" cy="1251000"/>
          </a:xfrm>
          <a:prstGeom prst="rect">
            <a:avLst/>
          </a:prstGeom>
          <a:ln w="0">
            <a:noFill/>
          </a:ln>
        </p:spPr>
      </p:pic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3924360" y="260280"/>
            <a:ext cx="3906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Health &amp; Safe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TextBox 3"/>
          <p:cNvSpPr/>
          <p:nvPr/>
        </p:nvSpPr>
        <p:spPr>
          <a:xfrm>
            <a:off x="900000" y="1628640"/>
            <a:ext cx="7128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technology room Health and safety rules and regulations ap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 u="sng">
                <a:solidFill>
                  <a:srgbClr val="000000"/>
                </a:solidFill>
                <a:uFillTx/>
                <a:latin typeface="Arial"/>
              </a:rPr>
              <a:t>Hazards specific to this project include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Drilling acrylic and the risk of crack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Potential bonding of body tissue due to the use of 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adhesives. The attention of students should be drawn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o this hazard and proper precautions should be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taken to minimise this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Possible cutting from metal swarf on the end of mild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teel rod. Students attention should be drawn to this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hazard and the mitigation of the risk by removing the 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  <a:ea typeface="Arial"/>
              </a:rPr>
              <a:t>swarf with a file after cut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8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8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7" name="Content Placeholder 3" descr="np9047.jpg"/>
          <p:cNvPicPr/>
          <p:nvPr/>
        </p:nvPicPr>
        <p:blipFill>
          <a:blip r:embed="rId1"/>
          <a:stretch/>
        </p:blipFill>
        <p:spPr>
          <a:xfrm>
            <a:off x="2700360" y="162864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2411280" y="260280"/>
            <a:ext cx="6228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End Effectors for Rob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9" name="Picture 5" descr="D1SCF0942.JPG"/>
          <p:cNvPicPr/>
          <p:nvPr/>
        </p:nvPicPr>
        <p:blipFill>
          <a:blip r:embed="rId2"/>
          <a:stretch/>
        </p:blipFill>
        <p:spPr>
          <a:xfrm>
            <a:off x="-325440" y="3357720"/>
            <a:ext cx="2951280" cy="2214360"/>
          </a:xfrm>
          <a:prstGeom prst="rect">
            <a:avLst/>
          </a:prstGeom>
          <a:ln w="0">
            <a:noFill/>
          </a:ln>
        </p:spPr>
      </p:pic>
      <p:grpSp>
        <p:nvGrpSpPr>
          <p:cNvPr id="1830" name="Group 12"/>
          <p:cNvGrpSpPr/>
          <p:nvPr/>
        </p:nvGrpSpPr>
        <p:grpSpPr>
          <a:xfrm>
            <a:off x="0" y="1197000"/>
            <a:ext cx="3203640" cy="2442960"/>
            <a:chOff x="0" y="1197000"/>
            <a:chExt cx="3203640" cy="2442960"/>
          </a:xfrm>
        </p:grpSpPr>
        <p:pic>
          <p:nvPicPr>
            <p:cNvPr id="1831" name="Picture 4" descr="imagesCAIGX3VS.jpg"/>
            <p:cNvPicPr/>
            <p:nvPr/>
          </p:nvPicPr>
          <p:blipFill>
            <a:blip r:embed="rId3"/>
            <a:stretch/>
          </p:blipFill>
          <p:spPr>
            <a:xfrm>
              <a:off x="0" y="1197000"/>
              <a:ext cx="2729160" cy="187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TextBox 8"/>
            <p:cNvSpPr/>
            <p:nvPr/>
          </p:nvSpPr>
          <p:spPr>
            <a:xfrm>
              <a:off x="1187640" y="2997360"/>
              <a:ext cx="20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Mechanical Grip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Group 11"/>
          <p:cNvGrpSpPr/>
          <p:nvPr/>
        </p:nvGrpSpPr>
        <p:grpSpPr>
          <a:xfrm>
            <a:off x="1908000" y="4221000"/>
            <a:ext cx="3311280" cy="1880280"/>
            <a:chOff x="1908000" y="4221000"/>
            <a:chExt cx="3311280" cy="1880280"/>
          </a:xfrm>
        </p:grpSpPr>
        <p:pic>
          <p:nvPicPr>
            <p:cNvPr id="1834" name="Picture 7" descr="untitled.bmp"/>
            <p:cNvPicPr/>
            <p:nvPr/>
          </p:nvPicPr>
          <p:blipFill>
            <a:blip r:embed="rId4"/>
            <a:stretch/>
          </p:blipFill>
          <p:spPr>
            <a:xfrm>
              <a:off x="3275640" y="4221000"/>
              <a:ext cx="1943640" cy="168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5" name="TextBox 9"/>
            <p:cNvSpPr/>
            <p:nvPr/>
          </p:nvSpPr>
          <p:spPr>
            <a:xfrm>
              <a:off x="1908000" y="5733000"/>
              <a:ext cx="21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Magnetic Grip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Group 12"/>
          <p:cNvGrpSpPr/>
          <p:nvPr/>
        </p:nvGrpSpPr>
        <p:grpSpPr>
          <a:xfrm>
            <a:off x="5651640" y="3573360"/>
            <a:ext cx="2016000" cy="2888640"/>
            <a:chOff x="5651640" y="3573360"/>
            <a:chExt cx="2016000" cy="2888640"/>
          </a:xfrm>
        </p:grpSpPr>
        <p:pic>
          <p:nvPicPr>
            <p:cNvPr id="1837" name="Picture 6" descr="43956vac0100jpg_00000020096.jpg"/>
            <p:cNvPicPr/>
            <p:nvPr/>
          </p:nvPicPr>
          <p:blipFill>
            <a:blip r:embed="rId5"/>
            <a:stretch/>
          </p:blipFill>
          <p:spPr>
            <a:xfrm>
              <a:off x="5723640" y="3573360"/>
              <a:ext cx="1377720" cy="224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TextBox 10"/>
            <p:cNvSpPr/>
            <p:nvPr/>
          </p:nvSpPr>
          <p:spPr>
            <a:xfrm>
              <a:off x="5651640" y="609372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Vacuum Gripp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Group 16"/>
          <p:cNvGrpSpPr/>
          <p:nvPr/>
        </p:nvGrpSpPr>
        <p:grpSpPr>
          <a:xfrm>
            <a:off x="6516720" y="1628640"/>
            <a:ext cx="2448000" cy="1939320"/>
            <a:chOff x="6516720" y="1628640"/>
            <a:chExt cx="2448000" cy="1939320"/>
          </a:xfrm>
        </p:grpSpPr>
        <p:pic>
          <p:nvPicPr>
            <p:cNvPr id="1840" name="Picture 14" descr="gripper_1.jpg"/>
            <p:cNvPicPr/>
            <p:nvPr/>
          </p:nvPicPr>
          <p:blipFill>
            <a:blip r:embed="rId6"/>
            <a:stretch/>
          </p:blipFill>
          <p:spPr>
            <a:xfrm>
              <a:off x="6516720" y="1628640"/>
              <a:ext cx="2235960" cy="12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TextBox 15"/>
            <p:cNvSpPr/>
            <p:nvPr/>
          </p:nvSpPr>
          <p:spPr>
            <a:xfrm>
              <a:off x="6660720" y="2925360"/>
              <a:ext cx="230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800" spc="-1" strike="noStrike">
                  <a:solidFill>
                    <a:srgbClr val="000000"/>
                  </a:solidFill>
                  <a:latin typeface="Arial"/>
                </a:rPr>
                <a:t>Electro-Magnetic Gri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2123640" y="54900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ample Calcul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3" name="Content Placeholder 3" descr="mom1.jpg"/>
          <p:cNvPicPr/>
          <p:nvPr/>
        </p:nvPicPr>
        <p:blipFill>
          <a:blip r:embed="rId1"/>
          <a:stretch/>
        </p:blipFill>
        <p:spPr>
          <a:xfrm>
            <a:off x="1870200" y="2637000"/>
            <a:ext cx="6121440" cy="3863880"/>
          </a:xfrm>
          <a:prstGeom prst="rect">
            <a:avLst/>
          </a:prstGeom>
          <a:ln w="0">
            <a:noFill/>
          </a:ln>
        </p:spPr>
      </p:pic>
      <p:sp>
        <p:nvSpPr>
          <p:cNvPr id="1844" name="Rectangle 4"/>
          <p:cNvSpPr/>
          <p:nvPr/>
        </p:nvSpPr>
        <p:spPr>
          <a:xfrm>
            <a:off x="611280" y="155736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If the weight of the servo motor equals 0.324N, calculate the mass of A, which will allow the robotic arm rotate a mass of 180g to a new position without the risk of toppling 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Box 6"/>
          <p:cNvSpPr/>
          <p:nvPr/>
        </p:nvSpPr>
        <p:spPr>
          <a:xfrm>
            <a:off x="1916280" y="4869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8"/>
          <p:cNvSpPr/>
          <p:nvPr/>
        </p:nvSpPr>
        <p:spPr>
          <a:xfrm>
            <a:off x="5148360" y="2700360"/>
            <a:ext cx="93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4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9"/>
          <p:cNvSpPr/>
          <p:nvPr/>
        </p:nvSpPr>
        <p:spPr>
          <a:xfrm>
            <a:off x="2484360" y="2637000"/>
            <a:ext cx="93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5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858920" y="331560"/>
            <a:ext cx="21798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9" name="Content Placeholder 3" descr="mom1.jpg"/>
          <p:cNvPicPr/>
          <p:nvPr/>
        </p:nvPicPr>
        <p:blipFill>
          <a:blip r:embed="rId1"/>
          <a:stretch/>
        </p:blipFill>
        <p:spPr>
          <a:xfrm>
            <a:off x="3780000" y="3197160"/>
            <a:ext cx="4851360" cy="3597480"/>
          </a:xfrm>
          <a:prstGeom prst="rect">
            <a:avLst/>
          </a:prstGeom>
          <a:ln w="0">
            <a:noFill/>
          </a:ln>
        </p:spPr>
      </p:pic>
      <p:sp>
        <p:nvSpPr>
          <p:cNvPr id="1850" name="Rectangle 4"/>
          <p:cNvSpPr/>
          <p:nvPr/>
        </p:nvSpPr>
        <p:spPr>
          <a:xfrm>
            <a:off x="395280" y="1413000"/>
            <a:ext cx="561672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Clockwise moment = Anti-clockwise mo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1.77N x .24 m           = (0.324N x .07m) + (Force x .105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.42Nm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                 = 0.022Nm + (Force x .105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.42Nm– 0.022Nm     = .105m x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.398Nm                     = .105m x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.398/.105                   =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3.79N                        =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Mass of A = 3.79 / 9.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.386kg = </a:t>
            </a:r>
            <a:r>
              <a:rPr b="1" lang="en-IE" sz="1800" spc="-1" strike="noStrike">
                <a:solidFill>
                  <a:srgbClr val="ff0000"/>
                </a:solidFill>
                <a:latin typeface="Arial"/>
              </a:rPr>
              <a:t>386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TextBox 7"/>
          <p:cNvSpPr/>
          <p:nvPr/>
        </p:nvSpPr>
        <p:spPr>
          <a:xfrm>
            <a:off x="6156360" y="1773360"/>
            <a:ext cx="2521080" cy="642600"/>
          </a:xfrm>
          <a:prstGeom prst="rect">
            <a:avLst/>
          </a:prstGeom>
          <a:solidFill>
            <a:srgbClr val="c7dc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180Kg x 9.81 = 1.77N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Text Box 8"/>
          <p:cNvSpPr/>
          <p:nvPr/>
        </p:nvSpPr>
        <p:spPr>
          <a:xfrm>
            <a:off x="6084720" y="3236760"/>
            <a:ext cx="93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4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Text Box 9"/>
          <p:cNvSpPr/>
          <p:nvPr/>
        </p:nvSpPr>
        <p:spPr>
          <a:xfrm>
            <a:off x="4140360" y="3228840"/>
            <a:ext cx="934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05m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TextBox 6"/>
          <p:cNvSpPr/>
          <p:nvPr/>
        </p:nvSpPr>
        <p:spPr>
          <a:xfrm>
            <a:off x="3795840" y="522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8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8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8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8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8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427280" y="260280"/>
            <a:ext cx="3259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TextBox 3"/>
          <p:cNvSpPr/>
          <p:nvPr/>
        </p:nvSpPr>
        <p:spPr>
          <a:xfrm>
            <a:off x="676440" y="1595520"/>
            <a:ext cx="82436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udents could be asked to carry out research on a theme based on automation in the workspace / home / leisure / oth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udents could be asked to consider how the product could best be manufactured and to compile a Gantt chart which displays the manufacturing sequence for the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7" name="Picture 4" descr="ganttchart.gif"/>
          <p:cNvPicPr/>
          <p:nvPr/>
        </p:nvPicPr>
        <p:blipFill>
          <a:blip r:embed="rId1"/>
          <a:stretch/>
        </p:blipFill>
        <p:spPr>
          <a:xfrm>
            <a:off x="5651640" y="4581360"/>
            <a:ext cx="2636640" cy="1671840"/>
          </a:xfrm>
          <a:prstGeom prst="rect">
            <a:avLst/>
          </a:prstGeom>
          <a:ln w="0">
            <a:noFill/>
          </a:ln>
        </p:spPr>
      </p:pic>
      <p:pic>
        <p:nvPicPr>
          <p:cNvPr id="1858" name="Picture 5" descr="portfolio.png"/>
          <p:cNvPicPr/>
          <p:nvPr/>
        </p:nvPicPr>
        <p:blipFill>
          <a:blip r:embed="rId2"/>
          <a:stretch/>
        </p:blipFill>
        <p:spPr>
          <a:xfrm>
            <a:off x="3995640" y="2349360"/>
            <a:ext cx="1244520" cy="124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"/>
          <p:cNvSpPr txBox="1"/>
          <p:nvPr/>
        </p:nvSpPr>
        <p:spPr>
          <a:xfrm>
            <a:off x="610920" y="836280"/>
            <a:ext cx="80866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e functionality, quality and finish of the product could be assessed by the class teacher using assessment guidelines given by State exam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rtefact meets theme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riginality and  Creativity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oduction Skills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Quality and Finish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esentation of Artefact</a:t>
            </a:r>
            <a:endParaRPr b="0" lang="en-US" sz="24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356000" y="260280"/>
            <a:ext cx="31147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1" name="Picture 3" descr="check_mark_clip_art_9677.jpg"/>
          <p:cNvPicPr/>
          <p:nvPr/>
        </p:nvPicPr>
        <p:blipFill>
          <a:blip r:embed="rId1"/>
          <a:stretch/>
        </p:blipFill>
        <p:spPr>
          <a:xfrm>
            <a:off x="4788000" y="3357720"/>
            <a:ext cx="360360" cy="358560"/>
          </a:xfrm>
          <a:prstGeom prst="rect">
            <a:avLst/>
          </a:prstGeom>
          <a:ln w="0">
            <a:noFill/>
          </a:ln>
        </p:spPr>
      </p:pic>
      <p:pic>
        <p:nvPicPr>
          <p:cNvPr id="1862" name="Picture 4" descr="check_mark_clip_art_9677.jpg"/>
          <p:cNvPicPr/>
          <p:nvPr/>
        </p:nvPicPr>
        <p:blipFill>
          <a:blip r:embed="rId2"/>
          <a:stretch/>
        </p:blipFill>
        <p:spPr>
          <a:xfrm>
            <a:off x="4788000" y="3789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863" name="Picture 5" descr="check_mark_clip_art_9677.jpg"/>
          <p:cNvPicPr/>
          <p:nvPr/>
        </p:nvPicPr>
        <p:blipFill>
          <a:blip r:embed="rId3"/>
          <a:stretch/>
        </p:blipFill>
        <p:spPr>
          <a:xfrm>
            <a:off x="4788000" y="42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864" name="Picture 6" descr="check_mark_clip_art_9677.jpg"/>
          <p:cNvPicPr/>
          <p:nvPr/>
        </p:nvPicPr>
        <p:blipFill>
          <a:blip r:embed="rId4"/>
          <a:stretch/>
        </p:blipFill>
        <p:spPr>
          <a:xfrm>
            <a:off x="478800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865" name="Picture 7" descr="check_mark_clip_art_9677.jpg"/>
          <p:cNvPicPr/>
          <p:nvPr/>
        </p:nvPicPr>
        <p:blipFill>
          <a:blip r:embed="rId5"/>
          <a:stretch/>
        </p:blipFill>
        <p:spPr>
          <a:xfrm>
            <a:off x="478800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" descr="check_mark_clip_art_9677.jpg"/>
          <p:cNvPicPr/>
          <p:nvPr/>
        </p:nvPicPr>
        <p:blipFill>
          <a:blip r:embed="rId6"/>
          <a:stretch/>
        </p:blipFill>
        <p:spPr>
          <a:xfrm>
            <a:off x="478800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4"/>
          <p:cNvSpPr/>
          <p:nvPr/>
        </p:nvSpPr>
        <p:spPr>
          <a:xfrm>
            <a:off x="3352680" y="260280"/>
            <a:ext cx="5612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TextBox 2"/>
          <p:cNvSpPr/>
          <p:nvPr/>
        </p:nvSpPr>
        <p:spPr>
          <a:xfrm>
            <a:off x="2050920" y="3141720"/>
            <a:ext cx="511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5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155840" y="260280"/>
            <a:ext cx="4987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TextBox 2"/>
          <p:cNvSpPr/>
          <p:nvPr/>
        </p:nvSpPr>
        <p:spPr>
          <a:xfrm>
            <a:off x="611280" y="1123920"/>
            <a:ext cx="77896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Very positive response to Line following Rob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200" spc="-1" strike="noStrike">
                <a:solidFill>
                  <a:srgbClr val="1d528d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  <a:ea typeface="Arial"/>
              </a:rPr>
              <a:t>Genie E18 motor board used to control robot, 2 LDR’s were used to provide feedback to control position of rob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2" name="Picture 3" descr="Noname.jpg"/>
          <p:cNvPicPr/>
          <p:nvPr/>
        </p:nvPicPr>
        <p:blipFill>
          <a:blip r:embed="rId1"/>
          <a:stretch/>
        </p:blipFill>
        <p:spPr>
          <a:xfrm>
            <a:off x="3564000" y="2349360"/>
            <a:ext cx="2550960" cy="2159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276360" y="260280"/>
            <a:ext cx="55623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J’Cert </a:t>
            </a: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Technology Pro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TextBox 5"/>
          <p:cNvSpPr/>
          <p:nvPr/>
        </p:nvSpPr>
        <p:spPr>
          <a:xfrm>
            <a:off x="3132000" y="1413000"/>
            <a:ext cx="33130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3300"/>
                </a:solidFill>
                <a:latin typeface="Arial"/>
              </a:rPr>
              <a:t>Junior Certificate Projects cov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obile Phone Hol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sk T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VD R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ood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sktop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hoto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ird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5" name="Picture 3" descr="C:\Documents and Settings\Niamh\My Documents\T4 Junior Cert projects\Bird-Feeder.jpg"/>
          <p:cNvPicPr/>
          <p:nvPr/>
        </p:nvPicPr>
        <p:blipFill>
          <a:blip r:embed="rId1"/>
          <a:stretch/>
        </p:blipFill>
        <p:spPr>
          <a:xfrm>
            <a:off x="1042920" y="4724280"/>
            <a:ext cx="1657440" cy="1944720"/>
          </a:xfrm>
          <a:prstGeom prst="rect">
            <a:avLst/>
          </a:prstGeom>
          <a:ln w="6480">
            <a:solidFill>
              <a:srgbClr val="1d528d"/>
            </a:solidFill>
            <a:miter/>
          </a:ln>
        </p:spPr>
      </p:pic>
      <p:pic>
        <p:nvPicPr>
          <p:cNvPr id="1796" name="Picture 2" descr="H:\DCIM\101SSCAM\S5000722.JPG"/>
          <p:cNvPicPr/>
          <p:nvPr/>
        </p:nvPicPr>
        <p:blipFill>
          <a:blip r:embed="rId2"/>
          <a:srcRect l="7319" t="4881" r="10691" b="0"/>
          <a:stretch/>
        </p:blipFill>
        <p:spPr>
          <a:xfrm>
            <a:off x="6156360" y="3213000"/>
            <a:ext cx="2232000" cy="1747800"/>
          </a:xfrm>
          <a:prstGeom prst="rect">
            <a:avLst/>
          </a:prstGeom>
          <a:ln w="19080">
            <a:solidFill>
              <a:srgbClr val="1d528d"/>
            </a:solidFill>
            <a:miter/>
          </a:ln>
        </p:spPr>
      </p:pic>
      <p:pic>
        <p:nvPicPr>
          <p:cNvPr id="1797" name="Picture 3" descr="CIMG1086"/>
          <p:cNvPicPr/>
          <p:nvPr/>
        </p:nvPicPr>
        <p:blipFill>
          <a:blip r:embed="rId3"/>
          <a:srcRect l="17758" t="0" r="0" b="0"/>
          <a:stretch/>
        </p:blipFill>
        <p:spPr>
          <a:xfrm>
            <a:off x="3492360" y="5157720"/>
            <a:ext cx="2044800" cy="15861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98" name="Picture 2" descr="CIMG1042"/>
          <p:cNvPicPr/>
          <p:nvPr/>
        </p:nvPicPr>
        <p:blipFill>
          <a:blip r:embed="rId4"/>
          <a:srcRect l="4385" t="0" r="0" b="0"/>
          <a:stretch/>
        </p:blipFill>
        <p:spPr>
          <a:xfrm>
            <a:off x="1042920" y="1484280"/>
            <a:ext cx="1584360" cy="1255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1799" name="Picture 3" descr="G:\DCIM\104SSCAM\S5000100.JPG"/>
          <p:cNvPicPr/>
          <p:nvPr/>
        </p:nvPicPr>
        <p:blipFill>
          <a:blip r:embed="rId5"/>
          <a:srcRect l="7042" t="0" r="7042" b="0"/>
          <a:stretch/>
        </p:blipFill>
        <p:spPr>
          <a:xfrm>
            <a:off x="6156360" y="1413000"/>
            <a:ext cx="2178000" cy="1582560"/>
          </a:xfrm>
          <a:prstGeom prst="rect">
            <a:avLst/>
          </a:prstGeom>
          <a:ln w="19080">
            <a:solidFill>
              <a:srgbClr val="1d528d"/>
            </a:solidFill>
            <a:miter/>
          </a:ln>
        </p:spPr>
      </p:pic>
      <p:pic>
        <p:nvPicPr>
          <p:cNvPr id="1800" name="Picture 9" descr=""/>
          <p:cNvPicPr/>
          <p:nvPr/>
        </p:nvPicPr>
        <p:blipFill>
          <a:blip r:embed="rId6"/>
          <a:srcRect l="66807" t="44911" r="19909" b="31471"/>
          <a:stretch/>
        </p:blipFill>
        <p:spPr>
          <a:xfrm>
            <a:off x="1042920" y="2924280"/>
            <a:ext cx="1584360" cy="1728720"/>
          </a:xfrm>
          <a:prstGeom prst="rect">
            <a:avLst/>
          </a:prstGeom>
          <a:ln w="3240">
            <a:solidFill>
              <a:srgbClr val="1d528d"/>
            </a:solidFill>
            <a:miter/>
          </a:ln>
        </p:spPr>
      </p:pic>
      <p:pic>
        <p:nvPicPr>
          <p:cNvPr id="1801" name="Picture 2" descr=""/>
          <p:cNvPicPr/>
          <p:nvPr/>
        </p:nvPicPr>
        <p:blipFill>
          <a:blip r:embed="rId7"/>
          <a:srcRect l="33584" t="69528" r="47219" b="8814"/>
          <a:stretch/>
        </p:blipFill>
        <p:spPr>
          <a:xfrm>
            <a:off x="6156360" y="5157720"/>
            <a:ext cx="2303280" cy="1584360"/>
          </a:xfrm>
          <a:prstGeom prst="rect">
            <a:avLst/>
          </a:prstGeom>
          <a:ln w="3240">
            <a:solidFill>
              <a:srgbClr val="1d528d"/>
            </a:solidFill>
            <a:miter/>
          </a:ln>
        </p:spPr>
      </p:pic>
    </p:spTree>
  </p:cSld>
  <p:transition>
    <p:wipe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"/>
          <p:cNvSpPr txBox="1"/>
          <p:nvPr/>
        </p:nvSpPr>
        <p:spPr>
          <a:xfrm>
            <a:off x="826560" y="2492280"/>
            <a:ext cx="77058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Leaving Certificate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ample Robotics </a:t>
            </a:r>
            <a:r>
              <a:rPr b="1" lang="ga-IE" sz="4000" spc="-1" strike="noStrike">
                <a:solidFill>
                  <a:srgbClr val="000000"/>
                </a:solidFill>
                <a:latin typeface="Arial"/>
              </a:rPr>
              <a:t>Project</a:t>
            </a: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9900"/>
              </a:solidFill>
              <a:latin typeface="Arial"/>
            </a:endParaRPr>
          </a:p>
        </p:txBody>
      </p:sp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2514600" y="143640"/>
            <a:ext cx="6324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32484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Design Tas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Box 3"/>
          <p:cNvSpPr/>
          <p:nvPr/>
        </p:nvSpPr>
        <p:spPr>
          <a:xfrm>
            <a:off x="1955880" y="2857680"/>
            <a:ext cx="540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Design and make a 3 Axis Pick and Place Robot which is capable of moving a small load from one position 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4" descr="PenTec_robot_3-axis.jpg"/>
          <p:cNvPicPr/>
          <p:nvPr/>
        </p:nvPicPr>
        <p:blipFill>
          <a:blip r:embed="rId1"/>
          <a:stretch/>
        </p:blipFill>
        <p:spPr>
          <a:xfrm>
            <a:off x="3924360" y="5145120"/>
            <a:ext cx="1655640" cy="159552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6" descr="fis9800_gantry_dispensing_robot.jpg"/>
          <p:cNvPicPr/>
          <p:nvPr/>
        </p:nvPicPr>
        <p:blipFill>
          <a:blip r:embed="rId2"/>
          <a:stretch/>
        </p:blipFill>
        <p:spPr>
          <a:xfrm>
            <a:off x="0" y="1413000"/>
            <a:ext cx="2193840" cy="171108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7" descr="rv-3sd-250x250.jpg"/>
          <p:cNvPicPr/>
          <p:nvPr/>
        </p:nvPicPr>
        <p:blipFill>
          <a:blip r:embed="rId3"/>
          <a:stretch/>
        </p:blipFill>
        <p:spPr>
          <a:xfrm>
            <a:off x="7020000" y="1628640"/>
            <a:ext cx="1638360" cy="3175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Syllabus Topics Address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TextBox 2"/>
          <p:cNvSpPr/>
          <p:nvPr/>
        </p:nvSpPr>
        <p:spPr>
          <a:xfrm>
            <a:off x="785880" y="1000080"/>
            <a:ext cx="72864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1" name="Picture 2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159760" cy="36720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2410920" y="26028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Suggested 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TextBox 3"/>
          <p:cNvSpPr/>
          <p:nvPr/>
        </p:nvSpPr>
        <p:spPr>
          <a:xfrm>
            <a:off x="684360" y="1773360"/>
            <a:ext cx="7127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re are a number of approaches to this proj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  <a:ea typeface="Calibri"/>
              </a:rPr>
              <a:t>Basic control of servo motors using control software to programme a 3 axis robot arm. The arm is to move to various locations and provide pick and place capab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ption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esign a separate control panel to provi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(i)  control of two axis using 2 potentio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(ii) a means of operating a gripper using an L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ption 3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allenge students to design a robotic system which will separate different coloured balls / blocks into various contai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8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2195280" y="260280"/>
            <a:ext cx="64990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Focus for this Round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TextBox 2"/>
          <p:cNvSpPr/>
          <p:nvPr/>
        </p:nvSpPr>
        <p:spPr>
          <a:xfrm>
            <a:off x="1042920" y="1484280"/>
            <a:ext cx="66978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 u="sng">
                <a:solidFill>
                  <a:srgbClr val="000000"/>
                </a:solidFill>
                <a:uFillTx/>
                <a:latin typeface="Arial"/>
              </a:rPr>
              <a:t>Option 1 &amp; 2: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3- axis Robotic arm controlled by Genie E18 Motor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6" name="Picture 5" descr="qSCF0930.JPG"/>
          <p:cNvPicPr/>
          <p:nvPr/>
        </p:nvPicPr>
        <p:blipFill>
          <a:blip r:embed="rId1"/>
          <a:srcRect l="9051" t="21650" r="3538" b="4846"/>
          <a:stretch/>
        </p:blipFill>
        <p:spPr>
          <a:xfrm>
            <a:off x="250920" y="2827440"/>
            <a:ext cx="5497560" cy="3467160"/>
          </a:xfrm>
          <a:prstGeom prst="rect">
            <a:avLst/>
          </a:prstGeom>
          <a:ln w="0">
            <a:noFill/>
          </a:ln>
        </p:spPr>
      </p:pic>
      <p:pic>
        <p:nvPicPr>
          <p:cNvPr id="1817" name="Picture 7" descr="DSCF0941.JPG"/>
          <p:cNvPicPr/>
          <p:nvPr/>
        </p:nvPicPr>
        <p:blipFill>
          <a:blip r:embed="rId2"/>
          <a:srcRect l="0" t="15356" r="5113" b="9052"/>
          <a:stretch/>
        </p:blipFill>
        <p:spPr>
          <a:xfrm>
            <a:off x="5003640" y="3860640"/>
            <a:ext cx="3494160" cy="2089440"/>
          </a:xfrm>
          <a:prstGeom prst="rect">
            <a:avLst/>
          </a:prstGeom>
          <a:ln w="0">
            <a:noFill/>
          </a:ln>
        </p:spPr>
      </p:pic>
      <p:sp>
        <p:nvSpPr>
          <p:cNvPr id="1818" name="Text Box 8"/>
          <p:cNvSpPr/>
          <p:nvPr/>
        </p:nvSpPr>
        <p:spPr>
          <a:xfrm>
            <a:off x="6249960" y="29973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 Servo moto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Oval 9"/>
          <p:cNvSpPr/>
          <p:nvPr/>
        </p:nvSpPr>
        <p:spPr>
          <a:xfrm>
            <a:off x="5811840" y="3789360"/>
            <a:ext cx="863640" cy="576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Line 11"/>
          <p:cNvSpPr/>
          <p:nvPr/>
        </p:nvSpPr>
        <p:spPr>
          <a:xfrm flipH="1">
            <a:off x="6676920" y="3357720"/>
            <a:ext cx="935280" cy="576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TextBox 10"/>
          <p:cNvSpPr/>
          <p:nvPr/>
        </p:nvSpPr>
        <p:spPr>
          <a:xfrm>
            <a:off x="3419640" y="26028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ga-IE" sz="3600" spc="-1" strike="noStrike">
                <a:solidFill>
                  <a:srgbClr val="000000"/>
                </a:solidFill>
                <a:latin typeface="Arial"/>
              </a:rPr>
              <a:t>Materials Requi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TextBox 4"/>
          <p:cNvSpPr/>
          <p:nvPr/>
        </p:nvSpPr>
        <p:spPr>
          <a:xfrm>
            <a:off x="971640" y="1379520"/>
            <a:ext cx="6624720" cy="54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18 Genie  Motor Board populated for servo moto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 Servo-Motors and attach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crylic sheet 1000 x 500 x 5 mm/3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 of 35mm x 8 dia. plastic tube, threaded M5 one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 of M5 x 20mm cheese head scre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 of M4 x 20 cheese head screws and 8 n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4 of M4 x 12 cheese head screws and n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 of M3 x 20mm cheese head screws and 2 n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1 of M2.5 x 12mm cheese screw with lock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280mm of diameter 1.5 mm mild steel 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3 servo motor extension l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3" name="Picture 6" descr="imagesCA5CZIHX.jpg"/>
          <p:cNvPicPr/>
          <p:nvPr/>
        </p:nvPicPr>
        <p:blipFill>
          <a:blip r:embed="rId1"/>
          <a:stretch/>
        </p:blipFill>
        <p:spPr>
          <a:xfrm>
            <a:off x="6372360" y="3716280"/>
            <a:ext cx="2232000" cy="20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0:11:05Z</dcterms:created>
  <dc:creator>Elizabeth Davis</dc:creator>
  <dc:description/>
  <dc:language>en-US</dc:language>
  <cp:lastModifiedBy>Patrick Lynch</cp:lastModifiedBy>
  <dcterms:modified xsi:type="dcterms:W3CDTF">2011-10-10T10:20:23Z</dcterms:modified>
  <cp:revision>592</cp:revision>
  <dc:subject/>
  <dc:title>Slide 1</dc:title>
</cp:coreProperties>
</file>