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5.png" ContentType="image/png"/>
  <Override PartName="/ppt/media/image5.jpeg" ContentType="image/jpeg"/>
  <Override PartName="/ppt/media/image39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1.jpeg" ContentType="image/jpeg"/>
  <Override PartName="/ppt/media/image7.png" ContentType="image/png"/>
  <Override PartName="/ppt/media/image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09F-EC78-4384-9CFE-ED11942B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210-64B3-4387-8383-4B346E55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2669E-D1B2-4ECB-A055-C84118F2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577F5-0908-4C59-BF2E-0C431618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EE378-949C-440F-A59F-686A0CF1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DFAD8-3525-4220-95A1-0FC90E64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68CFC-6F63-4EAD-9036-9CD52B58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5FD74-A43A-45EC-9460-053E40B3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48E8D-F729-48A7-A474-83322972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F8FA4-623D-424F-83F8-78D7A14E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839EB-64B5-423E-B0C5-4FF223D0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C6D1F-C9BA-4F86-8694-D79BF16C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9DD-8024-4B9B-B525-3570BC64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DE0DF-618A-4ADF-989B-34F8821E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7D8E2-3DF0-4191-8559-7E75E979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C9C1A-51EB-45F0-A404-D7A383D9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B07ED-4E2A-485D-988A-24FA54E0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26E6F-72B2-49EA-81A1-3595E5F7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BC027-F310-4FC5-83AF-BAE67D3B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F5002-34D4-4C59-80A8-C04053AE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1AA46-2241-4774-B337-713A5A32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3CBA2-CD67-46C0-9070-68D2CBF3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CF91A-8810-45F3-B1A9-C847F238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4E8-C2EC-4D52-B006-D7666C6D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F77C1-6D69-4C2E-A241-01F4EE17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3E6EA-2CF1-4754-8D0A-093AA8FA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BB9B-E34B-4491-A587-8D39C2E5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284B9-2351-428F-B53F-1E93A8F2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A73C9-2620-428A-B7D8-7BC6C9E7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0C7BD-F706-4E54-9706-014EF4D3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83729-B986-4AEC-BEC7-787BD747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01A20-9B67-4704-B586-75D442E4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A0C31-4A44-4598-BCEA-F366796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0A24F-110D-4983-AA92-B8709F8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EFE9-4211-488A-8452-29DC2F82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91D68-4D8D-4101-AB7E-06545424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9B725-4AED-4D0D-B7D5-0A2E4E3B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2E221-5C30-44C9-B2C5-F22DA392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57C4E-E3A8-4630-AAE1-F8273480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B2F41-E73A-469C-B355-6D535D77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671A2-E1DB-4A7C-B01F-D2DD9910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F264F-3909-4E73-8D71-FBEA8D67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C9458-EECC-44A1-A7CB-FC340925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9570D-5F99-414D-A5DE-850D5869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5F302-5585-4B59-908F-DB1CFFEE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4E29-E225-4996-AADB-78DA3705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5AFC2-0B55-4AB3-8B66-37386E11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0DF1B-4EAB-48D0-AAAE-9C842F75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7A0D5-4911-41CE-82C0-F09769AC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BF75F-FD8C-42FC-A5A8-1EE5BF22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ABBF7-3540-4500-9CCC-D4C82F77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7E8D7-9611-4310-874B-27287374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B2E30-1013-44D7-8995-8134D76B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5836B-10CF-435A-B452-4DAA65DE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C0CF0-E57F-4810-8989-05BB0C9C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32088-6D30-455F-B3B9-7C62904B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6DB3-C396-4A06-A202-08B80A2F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1E7D8-4B4F-40E4-9A1F-9BC55AA2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5E2CE-2130-431A-B6F7-F74A5BA7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D7EF4-C14C-4B23-A5AD-3687F2F2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C57FD-3886-475A-B0DD-63E6114E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41E28-0DEE-4AE9-AE3E-E5B268BF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7BB9D-39DA-480B-AC43-0C1C6D92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276E7-5B1E-478C-B249-F9742693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19303-D592-48FE-BC5A-2A4A0E97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499CA-F943-4133-B990-3F02D4F6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FA671-AF9A-4514-8D4C-447D52C5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2F12-F22E-42E3-B861-93A2D245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7376D-FF9B-4CBC-96D4-945A078E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533A2-5183-4984-AE49-A52CED63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E18F1-9BF7-4CEA-A6B2-8CDC3DEA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42CF7-A173-47FD-B2C7-22FD6E6A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5E9EC-1D33-4B85-901E-116D28A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D72F3-B07B-4091-BA92-7A4F2D33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8C326-2779-4C66-A8F1-A4EE461E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84FB7-FBD6-4247-B735-5615D3F5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DC659-5EB0-4402-92C9-3B4B1F6C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38AA4-726C-4372-89F7-8FE9AD0A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6ED6-506A-4335-AC04-7248A933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5BEFB-FCCB-4C9F-94B0-9BC1179A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859D6-E608-4E3A-A138-44ECF67B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4309B-EC26-44B6-89F4-A00FD337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9D858-E077-4BE6-9D8F-5789F375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5FC69-364E-47A9-ACF3-28B5FB44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7FF093-50F3-48A9-8BC3-5F9AEBC6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67746-7409-48D3-B347-2BD21BB1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5925F-D9EC-4192-823E-8D3629D6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28F50-0D69-4E1D-934F-48D2C9AE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4E684-AF25-48D0-91D0-3F871B44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1940-DA66-4981-85ED-9F7956ED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C9425F-0CDC-41FC-8860-9EFBC1A5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3947A-443E-48F7-B256-2C8C749E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B02B0-C85F-48E8-83FE-1FED1FA4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17CD2-D9C2-4AD5-8E5F-ABDB7175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73C1F-215C-4DC6-BEF2-87802A3F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09BDA-CA88-4B38-95C6-A7F4064F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C6CCC-A727-47C6-9330-80CDEAF1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07AB25-E8E3-4F42-BCCB-816F6F5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27C6D-026E-4520-B08D-AE33B94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BF6FF-1CFE-4E45-9210-B9E21149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C1BD-5B6F-49CA-B944-E180D980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4CF3C-33DD-4C5D-88A1-781E9BD8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B8CF1-70B8-4776-ADA2-ACA4A2FB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59AAB-DB05-49C8-B471-3B39C376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3EE3B-A68B-4F30-856E-830B1451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2CA7C-363D-494C-9C5E-C6BD75EF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F22FA2-C3EB-403C-9410-BEFC1D40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CA104A-DA5F-4717-9105-A1C281C2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5AD55-0B73-4E6F-9D68-F0201FEA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36333B-97EE-41D8-8BEB-E86F76DC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CB836-A9A2-49C3-8C22-9F06C5CB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118-4E6A-4BF1-BBDB-5E56481F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A5B5-EEA7-46DC-811A-61EE308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A0D38-B422-4917-B249-B6224334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8EBBF-4EA0-4615-ACF4-124FE427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9D090E-3998-4E0C-B7B3-848BE6AE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5CB4A-0923-43DD-844C-0AFC4852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6BDEF-06C4-4AFB-84E1-12384F1C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7766C-B9F5-4354-AAC5-4CFDC382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414C4-9824-4667-BE20-867C17C4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3F87B-3432-400A-8D67-8BD09223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89D3D3-AC92-409D-BFAD-94A07C36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9D33D-60DE-4ED1-840B-21DDF5DA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BDF5-7D67-4DDA-BD4E-948BA155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D6985-CA7C-4C7B-9B9A-297807E1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D152B-6258-4E8F-8592-90B02FBE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3DB6C-FFD2-4878-9517-D5706DA1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70025-E22A-4F9A-A5F6-C919D717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BE053A-82C1-41F0-918C-C391AF42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D9266-2AC1-42C2-9F70-211B76E4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4F5AF-023E-4A11-AE54-2809E353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94324-BFBD-4B2B-A374-69D12F8F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5520E-9E57-4795-8350-790BB7A3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09F23-A38E-4E69-83A8-D56246B1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B875-0C69-4155-B47E-3C300656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0A6796-1DE9-4200-8A3C-D30561F0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4F0BBA-4981-4546-AABA-0CDC764F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66AA2E-8FF4-4EF4-96A3-4E581632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0BF781-F10C-4A0F-8180-FDE2A98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785175-0EB9-4351-88E4-82374B77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ECC147-CA2C-4BF3-8980-27B0F12C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C2ACB-004F-4169-B403-B9460BE1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11A096-03E9-419F-886B-35F46DB1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E2ABE6-F532-4FCD-91F1-D4BAD571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6DE0E-0666-4169-A9C5-90BE86C9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B128-1AE0-4E80-8C58-FDB5E514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E36863-8969-422F-8E12-7827B9D1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C79F1-BDEE-4AAA-9EA2-C1BE7BD4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5C90A-32BC-46B5-9192-8EEA3914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FAF24-CCAD-4D16-83CD-83BCAA7C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5C0635-F866-4C7D-B7C1-2466836F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0D59A-97D0-49DD-9256-00260B16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580C6-3DC2-4D00-8D41-B632B005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A99655-9638-4E85-B1FF-49A36322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FDDDD-32BF-4EA1-96EF-E426E83B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D7CB6E-D3E3-40B5-8132-63ED4155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ABBB-F35F-4CE1-A63E-CC5F2EA6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410407-D86C-45DF-9FE0-BD1127E9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410C3-4D28-4EDA-86C9-BEE83480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35C5AF-505D-49E3-A9D9-61AB4AFA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04E71D-4984-4BA1-B11E-85C0D549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70505-1052-430E-B762-6FAFD0BD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0680C-C853-4C9A-9E98-0E9E9C3E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7AE8BE-AE81-4C3E-84FA-EF9DA276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769DD4-B866-4832-9E78-91D0691B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D1392-CF21-4F09-9488-4324D7B8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78CC99-CD78-4A25-BDF3-8CD29B5E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DA513-41BF-46D9-BDBD-FA11ECDB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F693D0-93BA-44DC-AF25-028E26B5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2F661B-8AF9-4B0B-BB11-EFF2B7ED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C27B37-DCFB-4DBF-B5E1-15276BE5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B371DE-6EF3-418B-BDAE-644B7496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C77624-21F4-45B2-BC50-B3BD8F20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F98FD7-E6FC-4309-B504-B37CBCA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CB3697-3F90-4149-84CE-D8794000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8FBA2C-4C5C-41FB-ACE3-C629CDD9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1F4B9C-E032-41A2-8193-9C63D88C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EC33FE-8D3E-406F-B229-EA7BE7BA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ED59-7DEC-40BB-A84B-0AB944A0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E27BBB-E213-4B22-B70D-FEADB3F2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4CD244-47C0-4E5B-B13A-09D1CC97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EA037D-9D43-4B39-B3BC-7837A6AA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D11317-E871-4FFD-9B7A-55806BA4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CBBA86-73FB-4990-A495-54F08FE9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61CD09-10F2-4BDF-97C2-522B1294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5CFBD9-E5BF-42B3-AF12-C62A9782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A59175-1CEB-4D95-9237-5E2784D3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2F0F49-2367-47EE-971B-4D64EBD5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41AC8C-1530-4170-817E-2E690A00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0431-6E41-4B85-9222-8E44F9F6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8339AD-4683-468F-AF6D-88A834CA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3FBD4D-22EF-4256-9959-25B5F224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2FC373-4BAD-4B5F-A644-9CFF34DF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4EB022-7B7A-4270-8188-587B52C6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2B10DF-BC20-469A-BE33-9853535F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C6345C-37E1-4068-B0C4-7A2CFBD9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32A994-9FB1-423A-8E15-B63D4706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2ED701-B3FC-4CDE-AF4E-0DF100B9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362D75-F5DD-4333-84BC-138FD657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92C51A-4D3D-4B80-83EA-63B57B2D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16FE2-6484-44D2-B66F-F4828676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23C1AE-24D9-44BD-A6A2-CE5B77BA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6EACCC-76CD-4BFB-8CCF-6A0BF2EC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07B8DF-5941-4D5D-8FEA-DDF357B3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590181-5A69-4EC0-9C2F-F2493CC3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26C9DD-5CCA-4620-8943-D7AEDA1C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37122C-0730-41C7-B2CC-80CCCC30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C1A4AA-8CC8-465F-A01F-2E3D1A6C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DCF8E1-4172-47F6-A818-771C69B0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A8D5E0-AFA6-466E-A810-C5FE83D2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DED66E-FD29-4D79-B5D2-7F36658E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8834C-7EFC-4DC1-B9DD-74E78B1F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5518F5-BC31-46B8-8C4E-A231172C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A5A5E7-1545-4559-9AC7-20B44B56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1050B1-E5CB-47FF-BDD4-FC4326C6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259117-166C-4A97-AD5D-62311846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EF856F-DDFD-4CFA-A0AE-617DEF6E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38DAD1-4DE4-47B5-A68C-8AEB8F9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5BF919-5A5A-4626-8DE4-D3435667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A2D2F9-E601-4009-B3AA-A97C74D6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728256-9591-42E5-9016-9D6060C7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A71419-D946-4967-8364-E35B56AA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F6D-B576-4451-94BA-4EB68B8A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AD62-63E4-47FD-8AD8-CD77AD62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449AD2-1F8E-4B4B-85BC-7755018D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24F104-CC1A-436F-87B4-8EF911FA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67093A-478F-41DB-9C12-F0D4AD14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F70E87-8027-4A5E-9AC5-97092310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FCEE7C-0B66-4D91-9BAD-28C0BD13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802F25-51EE-4FF4-B1F4-1CD8D6E0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2ECA2C-3046-4140-9E0A-D941327D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32A882-DE55-4E22-B45B-CA4BEFB8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717CC6-922F-4D8C-84AD-883048AA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6A85C6-7564-4170-9754-712F95C2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1307-8C2A-4956-A9D7-AC6A3829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743A33-7C6B-4232-BB50-57285CCF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C0E021-28D4-4775-BB14-3ED07C08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7AE3BF-0350-4F8F-904C-C6007FD2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B8CA27-DD5A-4D19-891C-FBFA3B33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1B678B-BCA2-458E-AECD-0D4F0B91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B6FC8F-F379-4D20-BBAC-E67978DD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4DB5A3-7944-46C2-980B-C306C2CE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31B2E5-3BD5-487A-A25D-CEFA8B77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944145-1508-454C-A6AB-FB042852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C2B7E5-9BA4-43B0-906E-9CBBBBB0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7A79-F371-4156-918D-0CE0B98E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21FFFE-3A7E-4EA3-ADAE-99C7B810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03BA42-50B7-4266-B5D4-6F704234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18A295-702D-42D4-9EED-37A19857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D7C18C-E5CA-41BF-823C-43504B1D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71CF74-3686-49B2-86C1-D3CA70F7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349103-86CA-4060-B56B-7B63C6DA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E14046-89B8-488F-864D-14BC89C2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1D67B1-A8BD-438C-9346-8610CC0D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7F082C-25B2-4ABB-BF23-AE18898D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C59643-4C3F-4A4B-BDEB-E1F0DB9D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5147D-D900-4D30-9DAA-E2530716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7F6060-A834-4550-B97D-2052680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AE70F4-D5C3-4E58-9897-D5F8F8B3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5DD36B-8E47-47E8-A9BD-3D82729D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884334-9396-498A-86E6-07F99CC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464E65-67B5-4285-8E32-6888B3CA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30221F-B739-4ADE-B58E-5E4F4A16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BB2CF6-2D84-4FBC-B326-F4F20406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706D3E-2703-4E41-8EB0-2D62F030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649F05-2858-4726-8849-E3592894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9CB557-2490-4549-A83C-3170669C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BC54-141B-4FDC-A910-66A1A540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E918F5-8E1D-42F5-A934-140FF0CB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9E3D09-9355-4C8B-8350-D4B01832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D15CEC-3513-4D02-9923-E93AC444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FAE81D-E28D-448D-B6C3-DBD9028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E00C77-FA56-4DD8-B335-479AC899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CE6B42-12BA-410E-A5D0-05ABC7B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5B5B9D-22E3-47C0-AD7F-62FBF930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5CA0B1-FE4B-4AB7-9FA5-66903E47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39B467-7B5B-4EFB-AA60-8EB2CAD2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78ACF6-B566-4732-BA07-6DAF6D81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E67AE-0D61-4003-8D48-9AA64AAE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7251B8-F7C6-4B82-A2A0-B206A385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4511C7-B6FC-4F2E-BED9-3129A670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98FDCA-1C1E-42F8-B9AC-56074AE2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EEDB58-A3AD-48F3-8B7B-4BF5FEDF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447824-0613-4AD0-89EF-39BB46D2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95ADA8-B8AE-46FE-A6B5-0338E43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E34519-07AA-4975-A134-AEF800F9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B376F2-3068-4E07-A770-9EC949C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A71C14-98C7-465E-B159-87FB4BB7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81B00E-2CAF-4A63-A818-FBBB15B7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24808-3102-4B30-B371-8E1651E8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3004AE-D9C5-4209-A0E0-47351817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37AF3B-22DD-4112-B522-ED1FCFA3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DFEA32-EC7B-4006-A2DE-F00688F9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1E4D71-0AA3-4561-A3E7-7DECD475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DBEC2D-7FF8-42AF-BE89-34420ABE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6855D6-C09A-4600-A44A-818F1003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D9CC27-7A1C-4D1D-84DF-91037E2D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C2E554-61BB-4843-8A1F-BFA66666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30F736-0B5D-41EE-8BF5-985B5191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ACE65F-CDA4-45EF-9C46-9E783EFB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1703-A966-4795-B147-15EFC0B7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A1D4CA-A1FF-4F9B-8BE4-D48D1363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4B1454-875F-4D43-B67C-89529B23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3E2953-DA86-4CCD-B0F3-E89924F2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478DB9-961F-4036-914A-01D353BE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9BDE16-99AD-4FFC-9096-F62BA2C5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60ECC9-61BA-4E12-B7AF-ACC889C6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A0F91D-D11D-453E-A577-8715876D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D2028E-7D41-456D-B105-23AD118F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CE49B3-A81B-4056-8CAC-95F4BFC3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CC56AA-A1D3-4C37-A6CA-D25AA69E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6C839-6023-4B96-99B5-55FC6C21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B8491A-27F8-445F-928C-D4F0084A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ED9A40-39A5-4C17-823A-0446631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7334B8-102F-4C63-BD1B-34C1B135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C9E6F6-6A5C-4961-8A33-5A200DE5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572E80-BD9E-4D1D-AE25-4B590CB7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32F610-A45A-4EAE-B782-F7642B0F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757B6A-ECA1-427E-9EF1-219B1F1A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760115-0CC4-4F9E-9AA4-652AD868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1EE722-2998-4CED-8D1F-46477115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493D92-3355-44EA-8AF0-A34DED6A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74C51-7987-47A9-AFC5-92E84A64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AAC081-4D45-415A-AF4C-2F47472A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FE247E-F446-4A14-B321-B9C68C36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5E5408-3036-4535-B369-3653AFEB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108D69-7A7F-4E56-8EED-BC5B2DDC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30C60C-674B-4F26-B955-9E8224DE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57E466-AE80-4DEC-8FF3-8DAC4B8D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ECFCD5-0201-4F86-86D5-4969CDA1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8F69CD-03F1-4AF4-AD59-A20F8D92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72B4EA-B828-4293-8DD9-6413A9CB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97C095-1251-46A8-8B9B-E23DA338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8F9-0F92-46AD-AC82-5BBA3B2E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3291-3D23-4CE0-9B4B-506759F7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A4CFFD-3355-447B-8473-CE09D1D4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F128C6-F6DB-4FDD-A1FE-D78173B5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6FE998-E232-496C-A88D-858D92FB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A2DEE3-CA5E-40BA-A57E-ADFB16BD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853B9E-0F85-4A85-A08B-E5D4B797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3F3330-0D23-42A6-A76B-366932E6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E1D151-7A57-4F84-9AF2-4A0E4A1C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FE161D-AB0D-49A3-9964-C0C96126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3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E05EF1-4253-42E7-9EFA-FECA2890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7FAE47-D768-4B72-BA73-B40DDC28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FE5A-D5A2-485A-BE4F-378CF9FA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0CA8549-2626-4426-B4FF-419B5CCE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756396-0944-48B2-8BCC-237D32BC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8581FB-6F31-42AF-981F-11DFAE5B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50FDC5-42F6-4F40-81AB-B432816A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09B669-88D5-48B4-AF48-E77CE776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2D046F-061A-4F95-ADFE-7BAFE4A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ED2D85-F9C9-40A5-96CF-4D81E96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6A17F6-17C5-4140-9B0D-CAEAEC0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AF3EBB-F651-45C8-A21B-DCAB50FB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F289D8-17AD-4ADB-8612-60281C83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EA92-BA01-43D4-996F-0F2777FB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7C7066-14F6-43AA-A397-E6489FC3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1CBD80-7035-4D71-A19B-F03821D3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C6A5EF-DF5B-4C2B-ABBD-26EF6A53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B2FBB5-D0B4-48E6-A929-A9AE4510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E37D76-D341-4269-B64C-CAA4E711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3FE1BD-6B4F-421C-AD06-76BD5BC9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054818-680F-4B87-9491-CCFEEF4B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4959D7-B8DA-4CE2-B127-D626583D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7B4102-9A04-44E4-90DA-9FDE06EA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EB46EC-F893-41B5-816F-45855DD4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9E58-ACF4-4A06-A557-4771230E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132945-A469-4234-9F90-7443891C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AE0D4F-E62C-4CBB-B4E3-50F15B21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E3D078-7897-4C8E-91E8-137A1EC4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FF5D1D-3216-4CC7-8F92-6D981309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C7CC3E-1583-4114-B229-E1016A8E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FE33C0-EB6C-48D9-B0F5-9247F415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E4B61F-8CC8-4A88-9B3E-A6B7ED1B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59D70F-76A6-47CE-9193-D3F52039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F097FC-FD90-45C9-AC82-2AEE6B59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51715C-9F9C-441D-874F-C9AFBE3F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1FBA0-671F-4443-A9F2-0820F588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4061F8-A931-46C6-A455-86D5750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9D1ABA-4853-48E5-9919-35D5B3EE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8B26D0-8756-4031-B076-00111F94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14F873-E3DC-4FC9-94E3-41AF39EC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0CEA65-0E3A-4813-A74A-A96CE01A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4C5E82-1ED4-4AF3-BB62-1286DAA2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F9E5E7-4FBD-4395-9D64-DA447025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FC31CD-6F76-4557-8DDC-422EE42A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4E4E43-9856-4A42-9EAE-DE2A3366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87A4CE-CDEE-4B0C-8A60-CF51F673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1D088-4DD5-4ECE-9E3B-CED18B7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C825B4-EE4B-4BEF-865C-5581891B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1381E3-6969-4267-9210-4888DCD4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5C038B-2DE2-432E-835A-8A0675C8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D82DA6-5855-4E94-A769-71DB0E72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B9B2D7-B943-4781-A2D9-914AFE07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917F633-68CC-4DDE-B1A1-FE490ADE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A7E486-1C11-415D-BEA6-FEDCBE26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5C6E-97F3-45CF-A4E7-941B0782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9AA3-B684-4990-B1AD-682401FE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24F31-EDA4-4926-A975-C8DDFF4D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55EE1-C9C5-4675-9A63-6938F41B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38D-A322-4F74-8F95-049B60C7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56BBF-36F5-4B38-A158-0A0B1ADC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D63EF-902B-4928-A88B-D48ECCAF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29B6-9CB3-47C2-B223-E221EB28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118E3-F0EB-46A7-BDB4-6D39A92E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0AE50-8490-4AEB-A2DD-FE824FFD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9D115-D06E-42EE-9B69-CCC3B537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27C98-53FF-48D0-A53E-F128F0E4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8751-8CE1-4C6A-AB32-13B5193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8BFFB-9A8A-4446-8679-B0C97F0D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EC8E1-A26C-4692-B9DE-DEEF5940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C39-1BDE-4AFA-BE12-C50978EE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AEB4-5F38-4F3A-9B72-4486EAC7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BAED9-5D70-4964-92A9-4D9DB9C9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A12B0-D10E-47B8-873A-23532F59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B2502-1786-45ED-BBE6-1EB4E753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CAF75-2F8A-4CB2-8B2B-B22B0797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4E2A4-0A32-4431-ADD7-860C1A65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5A476-623C-497D-AD93-676129EB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B6BE1-9AFC-40EC-B023-9FB9EC8B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29B53-AB0C-416A-A0C4-8F8B6A6D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5987E-6EAC-4C33-B825-65881A06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8EF-783F-4CF5-9873-515A78A9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CC2D9-643C-46A7-A701-7386454C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22FD6-B922-4E7F-8D3E-CD6BBAE4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25900-1104-473A-A01B-9004EEEC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2F6CC-868B-4BAF-B66A-4DB9DAA7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86FC7-4118-449A-9519-910019C9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7FE01-DE28-49F9-8897-B5A61632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69006-6012-4984-BB40-C4F19604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1E4F2-1B16-42E6-BDA4-AFDCC4A9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5FAA7-EE86-4C96-AC05-23AC88A8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E8E93-E09A-4052-999B-530BF8E7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3F0-116A-4005-88F2-CB9DFE5B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9B636-33D6-4393-A261-80FFF94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E2510-F4D0-4C10-9AF9-FC8F59C2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60597-329D-4CC5-87AA-9EA510B8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95917-EA65-4E65-82C2-D0CD314A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FE758-3B2B-4F3D-90E3-C8293C35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D7425-4830-4171-8491-B43935E4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DE682-7D26-4A37-9964-C5D6E515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2D890-CC33-49E5-9985-6CDFF24B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1D4B9-CCBE-4922-96BB-322A6880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68C26-1DCA-45DD-90B2-C55A34AD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B6D-CF16-4935-8DA1-DA1FE050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F02CD-790D-4D65-BD07-160FA6FE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5EEAB-C05C-4D23-94AD-FD9BCAF5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3AFF4-2D24-4B98-94F0-38E58713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5C3FC-8AFB-4FFE-AC64-A44D73FD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F5FDA-FE06-4C24-B888-F8AC4165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33FFB-BC57-46D1-A8D2-1B6F12A2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14F6D-9F56-4A5C-952D-052DEFCF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9A4A3-B347-4C12-AD1A-17489224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F79DA-7876-4C48-B402-3631F994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C99DE-FF21-499F-B7C2-87AACA0F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01.xml"/><Relationship Id="rId16" Type="http://schemas.openxmlformats.org/officeDocument/2006/relationships/slideLayout" Target="../slideLayouts/slideLayout302.xml"/><Relationship Id="rId17" Type="http://schemas.openxmlformats.org/officeDocument/2006/relationships/slideLayout" Target="../slideLayouts/slideLayout303.xml"/><Relationship Id="rId18" Type="http://schemas.openxmlformats.org/officeDocument/2006/relationships/slideLayout" Target="../slideLayouts/slideLayout304.xml"/><Relationship Id="rId19" Type="http://schemas.openxmlformats.org/officeDocument/2006/relationships/slideLayout" Target="../slideLayouts/slideLayout305.xml"/><Relationship Id="rId20" Type="http://schemas.openxmlformats.org/officeDocument/2006/relationships/slideLayout" Target="../slideLayouts/slideLayout306.xml"/><Relationship Id="rId21" Type="http://schemas.openxmlformats.org/officeDocument/2006/relationships/slideLayout" Target="../slideLayouts/slideLayout307.xml"/><Relationship Id="rId22" Type="http://schemas.openxmlformats.org/officeDocument/2006/relationships/slideLayout" Target="../slideLayouts/slideLayout308.xml"/><Relationship Id="rId23" Type="http://schemas.openxmlformats.org/officeDocument/2006/relationships/slideLayout" Target="../slideLayouts/slideLayout309.xml"/><Relationship Id="rId24" Type="http://schemas.openxmlformats.org/officeDocument/2006/relationships/slideLayout" Target="../slideLayouts/slideLayout310.xml"/><Relationship Id="rId25" Type="http://schemas.openxmlformats.org/officeDocument/2006/relationships/slideLayout" Target="../slideLayouts/slideLayout311.xml"/><Relationship Id="rId2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13.xml"/><Relationship Id="rId12" Type="http://schemas.openxmlformats.org/officeDocument/2006/relationships/slideLayout" Target="../slideLayouts/slideLayout314.xml"/><Relationship Id="rId13" Type="http://schemas.openxmlformats.org/officeDocument/2006/relationships/slideLayout" Target="../slideLayouts/slideLayout315.xml"/><Relationship Id="rId14" Type="http://schemas.openxmlformats.org/officeDocument/2006/relationships/slideLayout" Target="../slideLayouts/slideLayout316.xml"/><Relationship Id="rId15" Type="http://schemas.openxmlformats.org/officeDocument/2006/relationships/slideLayout" Target="../slideLayouts/slideLayout317.xml"/><Relationship Id="rId16" Type="http://schemas.openxmlformats.org/officeDocument/2006/relationships/slideLayout" Target="../slideLayouts/slideLayout318.xml"/><Relationship Id="rId17" Type="http://schemas.openxmlformats.org/officeDocument/2006/relationships/slideLayout" Target="../slideLayouts/slideLayout319.xml"/><Relationship Id="rId18" Type="http://schemas.openxmlformats.org/officeDocument/2006/relationships/slideLayout" Target="../slideLayouts/slideLayout320.xml"/><Relationship Id="rId19" Type="http://schemas.openxmlformats.org/officeDocument/2006/relationships/slideLayout" Target="../slideLayouts/slideLayout321.xml"/><Relationship Id="rId20" Type="http://schemas.openxmlformats.org/officeDocument/2006/relationships/slideLayout" Target="../slideLayouts/slideLayout322.xml"/><Relationship Id="rId21" Type="http://schemas.openxmlformats.org/officeDocument/2006/relationships/slideLayout" Target="../slideLayouts/slideLayout323.xml"/><Relationship Id="rId22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25.xml"/><Relationship Id="rId9" Type="http://schemas.openxmlformats.org/officeDocument/2006/relationships/slideLayout" Target="../slideLayouts/slideLayout326.xml"/><Relationship Id="rId10" Type="http://schemas.openxmlformats.org/officeDocument/2006/relationships/slideLayout" Target="../slideLayouts/slideLayout327.xml"/><Relationship Id="rId11" Type="http://schemas.openxmlformats.org/officeDocument/2006/relationships/slideLayout" Target="../slideLayouts/slideLayout328.xml"/><Relationship Id="rId12" Type="http://schemas.openxmlformats.org/officeDocument/2006/relationships/slideLayout" Target="../slideLayouts/slideLayout329.xml"/><Relationship Id="rId13" Type="http://schemas.openxmlformats.org/officeDocument/2006/relationships/slideLayout" Target="../slideLayouts/slideLayout330.xml"/><Relationship Id="rId14" Type="http://schemas.openxmlformats.org/officeDocument/2006/relationships/slideLayout" Target="../slideLayouts/slideLayout331.xml"/><Relationship Id="rId15" Type="http://schemas.openxmlformats.org/officeDocument/2006/relationships/slideLayout" Target="../slideLayouts/slideLayout332.xml"/><Relationship Id="rId16" Type="http://schemas.openxmlformats.org/officeDocument/2006/relationships/slideLayout" Target="../slideLayouts/slideLayout333.xml"/><Relationship Id="rId17" Type="http://schemas.openxmlformats.org/officeDocument/2006/relationships/slideLayout" Target="../slideLayouts/slideLayout334.xml"/><Relationship Id="rId18" Type="http://schemas.openxmlformats.org/officeDocument/2006/relationships/slideLayout" Target="../slideLayouts/slideLayout335.xml"/><Relationship Id="rId19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37.xml"/><Relationship Id="rId9" Type="http://schemas.openxmlformats.org/officeDocument/2006/relationships/slideLayout" Target="../slideLayouts/slideLayout338.xml"/><Relationship Id="rId10" Type="http://schemas.openxmlformats.org/officeDocument/2006/relationships/slideLayout" Target="../slideLayouts/slideLayout339.xml"/><Relationship Id="rId11" Type="http://schemas.openxmlformats.org/officeDocument/2006/relationships/slideLayout" Target="../slideLayouts/slideLayout340.xml"/><Relationship Id="rId12" Type="http://schemas.openxmlformats.org/officeDocument/2006/relationships/slideLayout" Target="../slideLayouts/slideLayout341.xml"/><Relationship Id="rId13" Type="http://schemas.openxmlformats.org/officeDocument/2006/relationships/slideLayout" Target="../slideLayouts/slideLayout342.xml"/><Relationship Id="rId14" Type="http://schemas.openxmlformats.org/officeDocument/2006/relationships/slideLayout" Target="../slideLayouts/slideLayout343.xml"/><Relationship Id="rId15" Type="http://schemas.openxmlformats.org/officeDocument/2006/relationships/slideLayout" Target="../slideLayouts/slideLayout344.xml"/><Relationship Id="rId16" Type="http://schemas.openxmlformats.org/officeDocument/2006/relationships/slideLayout" Target="../slideLayouts/slideLayout345.xml"/><Relationship Id="rId17" Type="http://schemas.openxmlformats.org/officeDocument/2006/relationships/slideLayout" Target="../slideLayouts/slideLayout346.xml"/><Relationship Id="rId18" Type="http://schemas.openxmlformats.org/officeDocument/2006/relationships/slideLayout" Target="../slideLayouts/slideLayout347.xml"/><Relationship Id="rId19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49.xml"/><Relationship Id="rId9" Type="http://schemas.openxmlformats.org/officeDocument/2006/relationships/slideLayout" Target="../slideLayouts/slideLayout350.xml"/><Relationship Id="rId10" Type="http://schemas.openxmlformats.org/officeDocument/2006/relationships/slideLayout" Target="../slideLayouts/slideLayout351.xml"/><Relationship Id="rId11" Type="http://schemas.openxmlformats.org/officeDocument/2006/relationships/slideLayout" Target="../slideLayouts/slideLayout352.xml"/><Relationship Id="rId12" Type="http://schemas.openxmlformats.org/officeDocument/2006/relationships/slideLayout" Target="../slideLayouts/slideLayout353.xml"/><Relationship Id="rId13" Type="http://schemas.openxmlformats.org/officeDocument/2006/relationships/slideLayout" Target="../slideLayouts/slideLayout354.xml"/><Relationship Id="rId14" Type="http://schemas.openxmlformats.org/officeDocument/2006/relationships/slideLayout" Target="../slideLayouts/slideLayout355.xml"/><Relationship Id="rId15" Type="http://schemas.openxmlformats.org/officeDocument/2006/relationships/slideLayout" Target="../slideLayouts/slideLayout356.xml"/><Relationship Id="rId16" Type="http://schemas.openxmlformats.org/officeDocument/2006/relationships/slideLayout" Target="../slideLayouts/slideLayout357.xml"/><Relationship Id="rId17" Type="http://schemas.openxmlformats.org/officeDocument/2006/relationships/slideLayout" Target="../slideLayouts/slideLayout358.xml"/><Relationship Id="rId18" Type="http://schemas.openxmlformats.org/officeDocument/2006/relationships/slideLayout" Target="../slideLayouts/slideLayout359.xml"/><Relationship Id="rId19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61.xml"/><Relationship Id="rId9" Type="http://schemas.openxmlformats.org/officeDocument/2006/relationships/slideLayout" Target="../slideLayouts/slideLayout362.xml"/><Relationship Id="rId10" Type="http://schemas.openxmlformats.org/officeDocument/2006/relationships/slideLayout" Target="../slideLayouts/slideLayout363.xml"/><Relationship Id="rId11" Type="http://schemas.openxmlformats.org/officeDocument/2006/relationships/slideLayout" Target="../slideLayouts/slideLayout364.xml"/><Relationship Id="rId12" Type="http://schemas.openxmlformats.org/officeDocument/2006/relationships/slideLayout" Target="../slideLayouts/slideLayout365.xml"/><Relationship Id="rId13" Type="http://schemas.openxmlformats.org/officeDocument/2006/relationships/slideLayout" Target="../slideLayouts/slideLayout366.xml"/><Relationship Id="rId14" Type="http://schemas.openxmlformats.org/officeDocument/2006/relationships/slideLayout" Target="../slideLayouts/slideLayout367.xml"/><Relationship Id="rId15" Type="http://schemas.openxmlformats.org/officeDocument/2006/relationships/slideLayout" Target="../slideLayouts/slideLayout368.xml"/><Relationship Id="rId16" Type="http://schemas.openxmlformats.org/officeDocument/2006/relationships/slideLayout" Target="../slideLayouts/slideLayout369.xml"/><Relationship Id="rId17" Type="http://schemas.openxmlformats.org/officeDocument/2006/relationships/slideLayout" Target="../slideLayouts/slideLayout370.xml"/><Relationship Id="rId18" Type="http://schemas.openxmlformats.org/officeDocument/2006/relationships/slideLayout" Target="../slideLayouts/slideLayout371.xml"/><Relationship Id="rId19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73.xml"/><Relationship Id="rId9" Type="http://schemas.openxmlformats.org/officeDocument/2006/relationships/slideLayout" Target="../slideLayouts/slideLayout374.xml"/><Relationship Id="rId10" Type="http://schemas.openxmlformats.org/officeDocument/2006/relationships/slideLayout" Target="../slideLayouts/slideLayout375.xml"/><Relationship Id="rId11" Type="http://schemas.openxmlformats.org/officeDocument/2006/relationships/slideLayout" Target="../slideLayouts/slideLayout376.xml"/><Relationship Id="rId12" Type="http://schemas.openxmlformats.org/officeDocument/2006/relationships/slideLayout" Target="../slideLayouts/slideLayout377.xml"/><Relationship Id="rId13" Type="http://schemas.openxmlformats.org/officeDocument/2006/relationships/slideLayout" Target="../slideLayouts/slideLayout378.xml"/><Relationship Id="rId14" Type="http://schemas.openxmlformats.org/officeDocument/2006/relationships/slideLayout" Target="../slideLayouts/slideLayout379.xml"/><Relationship Id="rId15" Type="http://schemas.openxmlformats.org/officeDocument/2006/relationships/slideLayout" Target="../slideLayouts/slideLayout380.xml"/><Relationship Id="rId16" Type="http://schemas.openxmlformats.org/officeDocument/2006/relationships/slideLayout" Target="../slideLayouts/slideLayout381.xml"/><Relationship Id="rId17" Type="http://schemas.openxmlformats.org/officeDocument/2006/relationships/slideLayout" Target="../slideLayouts/slideLayout382.xml"/><Relationship Id="rId18" Type="http://schemas.openxmlformats.org/officeDocument/2006/relationships/slideLayout" Target="../slideLayouts/slideLayout383.xml"/><Relationship Id="rId19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85.xml"/><Relationship Id="rId9" Type="http://schemas.openxmlformats.org/officeDocument/2006/relationships/slideLayout" Target="../slideLayouts/slideLayout386.xml"/><Relationship Id="rId10" Type="http://schemas.openxmlformats.org/officeDocument/2006/relationships/slideLayout" Target="../slideLayouts/slideLayout387.xml"/><Relationship Id="rId11" Type="http://schemas.openxmlformats.org/officeDocument/2006/relationships/slideLayout" Target="../slideLayouts/slideLayout388.xml"/><Relationship Id="rId12" Type="http://schemas.openxmlformats.org/officeDocument/2006/relationships/slideLayout" Target="../slideLayouts/slideLayout389.xml"/><Relationship Id="rId13" Type="http://schemas.openxmlformats.org/officeDocument/2006/relationships/slideLayout" Target="../slideLayouts/slideLayout390.xml"/><Relationship Id="rId14" Type="http://schemas.openxmlformats.org/officeDocument/2006/relationships/slideLayout" Target="../slideLayouts/slideLayout391.xml"/><Relationship Id="rId15" Type="http://schemas.openxmlformats.org/officeDocument/2006/relationships/slideLayout" Target="../slideLayouts/slideLayout392.xml"/><Relationship Id="rId16" Type="http://schemas.openxmlformats.org/officeDocument/2006/relationships/slideLayout" Target="../slideLayouts/slideLayout393.xml"/><Relationship Id="rId17" Type="http://schemas.openxmlformats.org/officeDocument/2006/relationships/slideLayout" Target="../slideLayouts/slideLayout394.xml"/><Relationship Id="rId18" Type="http://schemas.openxmlformats.org/officeDocument/2006/relationships/slideLayout" Target="../slideLayouts/slideLayout395.xml"/><Relationship Id="rId19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97.xml"/><Relationship Id="rId9" Type="http://schemas.openxmlformats.org/officeDocument/2006/relationships/slideLayout" Target="../slideLayouts/slideLayout398.xml"/><Relationship Id="rId10" Type="http://schemas.openxmlformats.org/officeDocument/2006/relationships/slideLayout" Target="../slideLayouts/slideLayout399.xml"/><Relationship Id="rId11" Type="http://schemas.openxmlformats.org/officeDocument/2006/relationships/slideLayout" Target="../slideLayouts/slideLayout400.xml"/><Relationship Id="rId12" Type="http://schemas.openxmlformats.org/officeDocument/2006/relationships/slideLayout" Target="../slideLayouts/slideLayout401.xml"/><Relationship Id="rId13" Type="http://schemas.openxmlformats.org/officeDocument/2006/relationships/slideLayout" Target="../slideLayouts/slideLayout402.xml"/><Relationship Id="rId14" Type="http://schemas.openxmlformats.org/officeDocument/2006/relationships/slideLayout" Target="../slideLayouts/slideLayout403.xml"/><Relationship Id="rId15" Type="http://schemas.openxmlformats.org/officeDocument/2006/relationships/slideLayout" Target="../slideLayouts/slideLayout404.xml"/><Relationship Id="rId16" Type="http://schemas.openxmlformats.org/officeDocument/2006/relationships/slideLayout" Target="../slideLayouts/slideLayout405.xml"/><Relationship Id="rId17" Type="http://schemas.openxmlformats.org/officeDocument/2006/relationships/slideLayout" Target="../slideLayouts/slideLayout406.xml"/><Relationship Id="rId18" Type="http://schemas.openxmlformats.org/officeDocument/2006/relationships/slideLayout" Target="../slideLayouts/slideLayout407.xml"/><Relationship Id="rId19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409.xml"/><Relationship Id="rId9" Type="http://schemas.openxmlformats.org/officeDocument/2006/relationships/slideLayout" Target="../slideLayouts/slideLayout410.xml"/><Relationship Id="rId10" Type="http://schemas.openxmlformats.org/officeDocument/2006/relationships/slideLayout" Target="../slideLayouts/slideLayout411.xml"/><Relationship Id="rId11" Type="http://schemas.openxmlformats.org/officeDocument/2006/relationships/slideLayout" Target="../slideLayouts/slideLayout412.xml"/><Relationship Id="rId12" Type="http://schemas.openxmlformats.org/officeDocument/2006/relationships/slideLayout" Target="../slideLayouts/slideLayout413.xml"/><Relationship Id="rId13" Type="http://schemas.openxmlformats.org/officeDocument/2006/relationships/slideLayout" Target="../slideLayouts/slideLayout414.xml"/><Relationship Id="rId14" Type="http://schemas.openxmlformats.org/officeDocument/2006/relationships/slideLayout" Target="../slideLayouts/slideLayout415.xml"/><Relationship Id="rId15" Type="http://schemas.openxmlformats.org/officeDocument/2006/relationships/slideLayout" Target="../slideLayouts/slideLayout416.xml"/><Relationship Id="rId16" Type="http://schemas.openxmlformats.org/officeDocument/2006/relationships/slideLayout" Target="../slideLayouts/slideLayout417.xml"/><Relationship Id="rId17" Type="http://schemas.openxmlformats.org/officeDocument/2006/relationships/slideLayout" Target="../slideLayouts/slideLayout418.xml"/><Relationship Id="rId18" Type="http://schemas.openxmlformats.org/officeDocument/2006/relationships/slideLayout" Target="../slideLayouts/slideLayout419.xml"/><Relationship Id="rId19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421.xml"/><Relationship Id="rId9" Type="http://schemas.openxmlformats.org/officeDocument/2006/relationships/slideLayout" Target="../slideLayouts/slideLayout422.xml"/><Relationship Id="rId10" Type="http://schemas.openxmlformats.org/officeDocument/2006/relationships/slideLayout" Target="../slideLayouts/slideLayout423.xml"/><Relationship Id="rId11" Type="http://schemas.openxmlformats.org/officeDocument/2006/relationships/slideLayout" Target="../slideLayouts/slideLayout424.xml"/><Relationship Id="rId12" Type="http://schemas.openxmlformats.org/officeDocument/2006/relationships/slideLayout" Target="../slideLayouts/slideLayout425.xml"/><Relationship Id="rId13" Type="http://schemas.openxmlformats.org/officeDocument/2006/relationships/slideLayout" Target="../slideLayouts/slideLayout426.xml"/><Relationship Id="rId14" Type="http://schemas.openxmlformats.org/officeDocument/2006/relationships/slideLayout" Target="../slideLayouts/slideLayout427.xml"/><Relationship Id="rId15" Type="http://schemas.openxmlformats.org/officeDocument/2006/relationships/slideLayout" Target="../slideLayouts/slideLayout428.xml"/><Relationship Id="rId16" Type="http://schemas.openxmlformats.org/officeDocument/2006/relationships/slideLayout" Target="../slideLayouts/slideLayout429.xml"/><Relationship Id="rId17" Type="http://schemas.openxmlformats.org/officeDocument/2006/relationships/slideLayout" Target="../slideLayouts/slideLayout430.xml"/><Relationship Id="rId18" Type="http://schemas.openxmlformats.org/officeDocument/2006/relationships/slideLayout" Target="../slideLayouts/slideLayout431.xml"/><Relationship Id="rId19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433.xml"/><Relationship Id="rId9" Type="http://schemas.openxmlformats.org/officeDocument/2006/relationships/slideLayout" Target="../slideLayouts/slideLayout434.xml"/><Relationship Id="rId10" Type="http://schemas.openxmlformats.org/officeDocument/2006/relationships/slideLayout" Target="../slideLayouts/slideLayout435.xml"/><Relationship Id="rId11" Type="http://schemas.openxmlformats.org/officeDocument/2006/relationships/slideLayout" Target="../slideLayouts/slideLayout436.xml"/><Relationship Id="rId12" Type="http://schemas.openxmlformats.org/officeDocument/2006/relationships/slideLayout" Target="../slideLayouts/slideLayout437.xml"/><Relationship Id="rId13" Type="http://schemas.openxmlformats.org/officeDocument/2006/relationships/slideLayout" Target="../slideLayouts/slideLayout438.xml"/><Relationship Id="rId14" Type="http://schemas.openxmlformats.org/officeDocument/2006/relationships/slideLayout" Target="../slideLayouts/slideLayout439.xml"/><Relationship Id="rId15" Type="http://schemas.openxmlformats.org/officeDocument/2006/relationships/slideLayout" Target="../slideLayouts/slideLayout440.xml"/><Relationship Id="rId16" Type="http://schemas.openxmlformats.org/officeDocument/2006/relationships/slideLayout" Target="../slideLayouts/slideLayout441.xml"/><Relationship Id="rId17" Type="http://schemas.openxmlformats.org/officeDocument/2006/relationships/slideLayout" Target="../slideLayouts/slideLayout442.xml"/><Relationship Id="rId18" Type="http://schemas.openxmlformats.org/officeDocument/2006/relationships/slideLayout" Target="../slideLayouts/slideLayout443.xml"/><Relationship Id="rId19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445.xml"/><Relationship Id="rId9" Type="http://schemas.openxmlformats.org/officeDocument/2006/relationships/slideLayout" Target="../slideLayouts/slideLayout446.xml"/><Relationship Id="rId10" Type="http://schemas.openxmlformats.org/officeDocument/2006/relationships/slideLayout" Target="../slideLayouts/slideLayout447.xml"/><Relationship Id="rId11" Type="http://schemas.openxmlformats.org/officeDocument/2006/relationships/slideLayout" Target="../slideLayouts/slideLayout448.xml"/><Relationship Id="rId12" Type="http://schemas.openxmlformats.org/officeDocument/2006/relationships/slideLayout" Target="../slideLayouts/slideLayout449.xml"/><Relationship Id="rId13" Type="http://schemas.openxmlformats.org/officeDocument/2006/relationships/slideLayout" Target="../slideLayouts/slideLayout450.xml"/><Relationship Id="rId14" Type="http://schemas.openxmlformats.org/officeDocument/2006/relationships/slideLayout" Target="../slideLayouts/slideLayout451.xml"/><Relationship Id="rId15" Type="http://schemas.openxmlformats.org/officeDocument/2006/relationships/slideLayout" Target="../slideLayouts/slideLayout452.xml"/><Relationship Id="rId16" Type="http://schemas.openxmlformats.org/officeDocument/2006/relationships/slideLayout" Target="../slideLayouts/slideLayout453.xml"/><Relationship Id="rId17" Type="http://schemas.openxmlformats.org/officeDocument/2006/relationships/slideLayout" Target="../slideLayouts/slideLayout454.xml"/><Relationship Id="rId18" Type="http://schemas.openxmlformats.org/officeDocument/2006/relationships/slideLayout" Target="../slideLayouts/slideLayout455.xml"/><Relationship Id="rId19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51FF-284D-4C74-8E02-24A68B4CCCE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3092-BDFD-4510-BA60-C03FF9196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2D74-9917-4857-A468-53FDF6E8C34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0BDB-5060-4CDD-9DDB-71211AC67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6C92-2DA2-4C9E-ABA6-ED2D5A72781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CD89-E165-41DC-A652-0E9A7F31E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8F8-1119-4D2C-8D80-68BBB61AB91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D63A-BAA5-4D00-8C9A-1D3A4310D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DBAB-4A18-49D9-85EE-EF677E9CE7A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8383-C899-46B1-9FE5-CC1F0BCB1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08D7-086C-4061-9624-D1431BA2B8B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BB4E-A117-46A9-B363-7551DB044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4AA9-A512-45CA-858A-87877112436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4DB3-20F2-4809-AF85-931AC733F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0385-1B75-4BEE-BC98-1087587B41D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5C21-982E-49AD-A875-AFFE6A5F0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D0DE-E01B-4A18-A0FE-95F53629C39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BE46-28D8-455A-B0AB-FEEE57D0F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8A91-64E3-4206-8586-883D7EBD4E3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08FE-1584-4A4B-A7E4-BBBAF50EF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FE81-5157-4F47-809E-D0D537C2B9F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10A3-AD7C-484A-A558-57753A1D6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29BF-484B-436D-AF38-587D78ACC5E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1C56-7F6F-49D1-A71E-8C296BE30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2DBB-B85D-4F25-BAD5-9C22B09B3B3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1AD1-DA24-4C07-9EE0-BD3DDA03D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5D74-A649-4401-ABE2-ED816A2D5F8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9475-0C99-4195-9B32-975D742B1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CCF6-D398-4CD3-85B0-75E6430B952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2F91-4331-4C14-9142-7FA762527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3922-C59A-413C-BDC4-DBDFD8519CE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74FC-39B1-47BB-95DC-DF834DADC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33B0-4794-49C6-BBC5-6DB6D3685E3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0032-5BC4-4D5C-B65E-67086221B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0283-1362-4388-A2DF-7F51700DABA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6C13-C876-4E60-B8F4-5BBAC036F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041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3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045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049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052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Group 29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056" name="Picture 30" descr="MPj03828470000[1]"/>
            <p:cNvPicPr/>
            <p:nvPr/>
          </p:nvPicPr>
          <p:blipFill>
            <a:blip r:embed="rId8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Picture 31" descr=""/>
            <p:cNvPicPr/>
            <p:nvPr/>
          </p:nvPicPr>
          <p:blipFill>
            <a:blip r:embed="rId9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8" name="Rectangle 37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52"/>
          <p:cNvSpPr/>
          <p:nvPr/>
        </p:nvSpPr>
        <p:spPr>
          <a:xfrm>
            <a:off x="5508720" y="0"/>
            <a:ext cx="3635280" cy="2781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53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1061" name="Line 54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55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56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57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0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63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21" descr=""/>
          <p:cNvPicPr/>
          <p:nvPr/>
        </p:nvPicPr>
        <p:blipFill>
          <a:blip r:embed="rId10"/>
          <a:srcRect l="0" t="0" r="57690" b="0"/>
          <a:stretch/>
        </p:blipFill>
        <p:spPr>
          <a:xfrm>
            <a:off x="1547640" y="3933720"/>
            <a:ext cx="1008360" cy="11746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22" descr="MPj04117520000[1]"/>
          <p:cNvPicPr/>
          <p:nvPr/>
        </p:nvPicPr>
        <p:blipFill>
          <a:blip r:embed="rId11"/>
          <a:stretch/>
        </p:blipFill>
        <p:spPr>
          <a:xfrm>
            <a:off x="0" y="0"/>
            <a:ext cx="1855800" cy="27813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27" descr="MPj04278250000[1]"/>
          <p:cNvPicPr/>
          <p:nvPr/>
        </p:nvPicPr>
        <p:blipFill>
          <a:blip r:embed="rId12"/>
          <a:srcRect l="23404" t="0" r="8673" b="0"/>
          <a:stretch/>
        </p:blipFill>
        <p:spPr>
          <a:xfrm>
            <a:off x="1835280" y="0"/>
            <a:ext cx="2103480" cy="27813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28" descr="MPj04225890000[1]"/>
          <p:cNvPicPr/>
          <p:nvPr/>
        </p:nvPicPr>
        <p:blipFill>
          <a:blip r:embed="rId13"/>
          <a:srcRect l="32721" t="0" r="9067" b="0"/>
          <a:stretch/>
        </p:blipFill>
        <p:spPr>
          <a:xfrm>
            <a:off x="3924360" y="0"/>
            <a:ext cx="2430360" cy="27813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2" descr=""/>
          <p:cNvPicPr/>
          <p:nvPr/>
        </p:nvPicPr>
        <p:blipFill>
          <a:blip r:embed="rId14"/>
          <a:stretch/>
        </p:blipFill>
        <p:spPr>
          <a:xfrm>
            <a:off x="4500720" y="5732640"/>
            <a:ext cx="909360" cy="72072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6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EAE-BF4D-46C2-BDC9-C7B42E368F4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77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78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73E-D4B8-4CB9-B128-FC416A3351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15"/>
    <p:sldLayoutId id="2147483975" r:id="rId16"/>
    <p:sldLayoutId id="2147483976" r:id="rId17"/>
    <p:sldLayoutId id="2147483977" r:id="rId18"/>
    <p:sldLayoutId id="2147483978" r:id="rId19"/>
    <p:sldLayoutId id="2147483979" r:id="rId20"/>
    <p:sldLayoutId id="2147483980" r:id="rId21"/>
    <p:sldLayoutId id="2147483981" r:id="rId22"/>
    <p:sldLayoutId id="2147483982" r:id="rId23"/>
    <p:sldLayoutId id="2147483983" r:id="rId24"/>
    <p:sldLayoutId id="2147483984" r:id="rId25"/>
    <p:sldLayoutId id="2147483985" r:id="rId2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114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6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118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122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125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8" name="Picture 21" descr="Slide_Background.jpg"/>
          <p:cNvPicPr/>
          <p:nvPr/>
        </p:nvPicPr>
        <p:blipFill>
          <a:blip r:embed="rId8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21" descr=""/>
          <p:cNvPicPr/>
          <p:nvPr/>
        </p:nvPicPr>
        <p:blipFill>
          <a:blip r:embed="rId9"/>
          <a:srcRect l="0" t="0" r="57705" b="0"/>
          <a:stretch/>
        </p:blipFill>
        <p:spPr>
          <a:xfrm>
            <a:off x="395280" y="6093000"/>
            <a:ext cx="422280" cy="4921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"/>
          <p:cNvPicPr/>
          <p:nvPr/>
        </p:nvPicPr>
        <p:blipFill>
          <a:blip r:embed="rId10"/>
          <a:stretch/>
        </p:blipFill>
        <p:spPr>
          <a:xfrm>
            <a:off x="826920" y="6165720"/>
            <a:ext cx="486000" cy="38268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79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E33C-F854-4AFE-B5F3-C30273D65AF1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80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81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ECE4-7515-472B-A30B-40FDEFFEAB4E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11"/>
    <p:sldLayoutId id="2147483988" r:id="rId12"/>
    <p:sldLayoutId id="2147483989" r:id="rId13"/>
    <p:sldLayoutId id="2147483990" r:id="rId14"/>
    <p:sldLayoutId id="2147483991" r:id="rId15"/>
    <p:sldLayoutId id="2147483992" r:id="rId16"/>
    <p:sldLayoutId id="2147483993" r:id="rId17"/>
    <p:sldLayoutId id="2147483994" r:id="rId18"/>
    <p:sldLayoutId id="2147483995" r:id="rId19"/>
    <p:sldLayoutId id="2147483996" r:id="rId20"/>
    <p:sldLayoutId id="2147483997" r:id="rId21"/>
    <p:sldLayoutId id="2147483998" r:id="rId22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2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173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5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177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181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184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2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2084-8F01-4C9B-9102-B1D065591F2F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3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4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7FE6-96D9-413B-AAEB-58E2D71DFD7B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8"/>
    <p:sldLayoutId id="2147484001" r:id="rId9"/>
    <p:sldLayoutId id="2147484002" r:id="rId10"/>
    <p:sldLayoutId id="2147484003" r:id="rId11"/>
    <p:sldLayoutId id="2147484004" r:id="rId12"/>
    <p:sldLayoutId id="2147484005" r:id="rId13"/>
    <p:sldLayoutId id="2147484006" r:id="rId14"/>
    <p:sldLayoutId id="2147484007" r:id="rId15"/>
    <p:sldLayoutId id="2147484008" r:id="rId16"/>
    <p:sldLayoutId id="2147484009" r:id="rId17"/>
    <p:sldLayoutId id="2147484010" r:id="rId18"/>
    <p:sldLayoutId id="2147484011" r:id="rId19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229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1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233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237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240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 type="dt" idx="85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7459-0445-429D-AA0C-DC3FF4F9A8A9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 type="ftr" idx="86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 type="sldNum" idx="87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DD27-23FD-495A-9AEA-451104EB3BED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8"/>
    <p:sldLayoutId id="2147484014" r:id="rId9"/>
    <p:sldLayoutId id="2147484015" r:id="rId10"/>
    <p:sldLayoutId id="2147484016" r:id="rId11"/>
    <p:sldLayoutId id="2147484017" r:id="rId12"/>
    <p:sldLayoutId id="2147484018" r:id="rId13"/>
    <p:sldLayoutId id="2147484019" r:id="rId14"/>
    <p:sldLayoutId id="2147484020" r:id="rId15"/>
    <p:sldLayoutId id="2147484021" r:id="rId16"/>
    <p:sldLayoutId id="2147484022" r:id="rId17"/>
    <p:sldLayoutId id="2147484023" r:id="rId18"/>
    <p:sldLayoutId id="2147484024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83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87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554A-0714-4BA0-845A-E77D5E68C24B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56F4-BB39-4BF6-AF24-29B3593289E4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96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99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285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7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289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293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296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dt" idx="88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F7B9-B2F4-4ADD-B65A-6572C8FFC529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ftr" idx="89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sldNum" idx="90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BCC3-A26F-40EF-8D5F-90E5CE0224D7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8"/>
    <p:sldLayoutId id="2147484027" r:id="rId9"/>
    <p:sldLayoutId id="2147484028" r:id="rId10"/>
    <p:sldLayoutId id="2147484029" r:id="rId11"/>
    <p:sldLayoutId id="2147484030" r:id="rId12"/>
    <p:sldLayoutId id="2147484031" r:id="rId13"/>
    <p:sldLayoutId id="2147484032" r:id="rId14"/>
    <p:sldLayoutId id="2147484033" r:id="rId15"/>
    <p:sldLayoutId id="2147484034" r:id="rId16"/>
    <p:sldLayoutId id="2147484035" r:id="rId17"/>
    <p:sldLayoutId id="2147484036" r:id="rId18"/>
    <p:sldLayoutId id="2147484037" r:id="rId19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0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341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3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345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349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352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47F6-C432-4A12-AE3A-822BEDF25891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7413-0FEA-4BF4-B731-AD96FDBD76E5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8"/>
    <p:sldLayoutId id="2147484040" r:id="rId9"/>
    <p:sldLayoutId id="2147484041" r:id="rId10"/>
    <p:sldLayoutId id="2147484042" r:id="rId11"/>
    <p:sldLayoutId id="2147484043" r:id="rId12"/>
    <p:sldLayoutId id="2147484044" r:id="rId13"/>
    <p:sldLayoutId id="2147484045" r:id="rId14"/>
    <p:sldLayoutId id="2147484046" r:id="rId15"/>
    <p:sldLayoutId id="2147484047" r:id="rId16"/>
    <p:sldLayoutId id="2147484048" r:id="rId17"/>
    <p:sldLayoutId id="2147484049" r:id="rId18"/>
    <p:sldLayoutId id="2147484050" r:id="rId19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6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397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9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0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401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405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408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 type="dt" idx="94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2AA7-5E9C-46EF-9FAA-899219793F1B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 type="ftr" idx="95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 type="sldNum" idx="96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F711-3F64-48BC-A925-C0C0DED5050F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8"/>
    <p:sldLayoutId id="2147484053" r:id="rId9"/>
    <p:sldLayoutId id="2147484054" r:id="rId10"/>
    <p:sldLayoutId id="2147484055" r:id="rId11"/>
    <p:sldLayoutId id="2147484056" r:id="rId12"/>
    <p:sldLayoutId id="2147484057" r:id="rId13"/>
    <p:sldLayoutId id="2147484058" r:id="rId14"/>
    <p:sldLayoutId id="2147484059" r:id="rId15"/>
    <p:sldLayoutId id="2147484060" r:id="rId16"/>
    <p:sldLayoutId id="2147484061" r:id="rId17"/>
    <p:sldLayoutId id="2147484062" r:id="rId18"/>
    <p:sldLayoutId id="2147484063" r:id="rId19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453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5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6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457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461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464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97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D186-1826-4116-A81B-1FE5749C4165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98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99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104A-FEF7-4910-B7D9-8D0CA973894A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8"/>
    <p:sldLayoutId id="2147484066" r:id="rId9"/>
    <p:sldLayoutId id="2147484067" r:id="rId10"/>
    <p:sldLayoutId id="2147484068" r:id="rId11"/>
    <p:sldLayoutId id="2147484069" r:id="rId12"/>
    <p:sldLayoutId id="2147484070" r:id="rId13"/>
    <p:sldLayoutId id="2147484071" r:id="rId14"/>
    <p:sldLayoutId id="2147484072" r:id="rId15"/>
    <p:sldLayoutId id="2147484073" r:id="rId16"/>
    <p:sldLayoutId id="2147484074" r:id="rId17"/>
    <p:sldLayoutId id="2147484075" r:id="rId18"/>
    <p:sldLayoutId id="2147484076" r:id="rId19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8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509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1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2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513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517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520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dt" idx="100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DBD3-4B51-480C-A9A1-863A6A4471AE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 type="ftr" idx="101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0554-69C2-4E8B-BE09-6CEF026D9C9A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8"/>
    <p:sldLayoutId id="2147484079" r:id="rId9"/>
    <p:sldLayoutId id="2147484080" r:id="rId10"/>
    <p:sldLayoutId id="2147484081" r:id="rId11"/>
    <p:sldLayoutId id="2147484082" r:id="rId12"/>
    <p:sldLayoutId id="2147484083" r:id="rId13"/>
    <p:sldLayoutId id="2147484084" r:id="rId14"/>
    <p:sldLayoutId id="2147484085" r:id="rId15"/>
    <p:sldLayoutId id="2147484086" r:id="rId16"/>
    <p:sldLayoutId id="2147484087" r:id="rId17"/>
    <p:sldLayoutId id="2147484088" r:id="rId18"/>
    <p:sldLayoutId id="2147484089" r:id="rId19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4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565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7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569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573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576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103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0564-AC77-4B76-A76F-A9059027AF26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ftr" idx="104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B79A-7D56-4689-94DD-BB43F7C85948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8"/>
    <p:sldLayoutId id="2147484092" r:id="rId9"/>
    <p:sldLayoutId id="2147484093" r:id="rId10"/>
    <p:sldLayoutId id="2147484094" r:id="rId11"/>
    <p:sldLayoutId id="2147484095" r:id="rId12"/>
    <p:sldLayoutId id="2147484096" r:id="rId13"/>
    <p:sldLayoutId id="2147484097" r:id="rId14"/>
    <p:sldLayoutId id="2147484098" r:id="rId15"/>
    <p:sldLayoutId id="2147484099" r:id="rId16"/>
    <p:sldLayoutId id="2147484100" r:id="rId17"/>
    <p:sldLayoutId id="2147484101" r:id="rId18"/>
    <p:sldLayoutId id="2147484102" r:id="rId19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0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621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3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625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29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632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dt" idx="106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DB7D-D8C8-48A5-9A05-32DAE98934B0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ftr" idx="107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7BDA-EDA2-4CAE-9E5E-48B21F39F993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8"/>
    <p:sldLayoutId id="2147484105" r:id="rId9"/>
    <p:sldLayoutId id="2147484106" r:id="rId10"/>
    <p:sldLayoutId id="2147484107" r:id="rId11"/>
    <p:sldLayoutId id="2147484108" r:id="rId12"/>
    <p:sldLayoutId id="2147484109" r:id="rId13"/>
    <p:sldLayoutId id="2147484110" r:id="rId14"/>
    <p:sldLayoutId id="2147484111" r:id="rId15"/>
    <p:sldLayoutId id="2147484112" r:id="rId16"/>
    <p:sldLayoutId id="2147484113" r:id="rId17"/>
    <p:sldLayoutId id="2147484114" r:id="rId18"/>
    <p:sldLayoutId id="2147484115" r:id="rId19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677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8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9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681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85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688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 type="dt" idx="109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F75B-E961-4AEF-89C8-D633F33DBEA5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 type="ftr" idx="110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D95E-2697-4189-8DC3-6FDC24F4C548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8"/>
    <p:sldLayoutId id="2147484118" r:id="rId9"/>
    <p:sldLayoutId id="2147484119" r:id="rId10"/>
    <p:sldLayoutId id="2147484120" r:id="rId11"/>
    <p:sldLayoutId id="2147484121" r:id="rId12"/>
    <p:sldLayoutId id="2147484122" r:id="rId13"/>
    <p:sldLayoutId id="2147484123" r:id="rId14"/>
    <p:sldLayoutId id="2147484124" r:id="rId15"/>
    <p:sldLayoutId id="2147484125" r:id="rId16"/>
    <p:sldLayoutId id="2147484126" r:id="rId17"/>
    <p:sldLayoutId id="2147484127" r:id="rId18"/>
    <p:sldLayoutId id="2147484128" r:id="rId19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2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733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4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5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6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737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741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744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 type="dt" idx="112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3995-353E-480B-B79A-091E461A7015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 type="ftr" idx="113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EDB1-C04A-486E-80CC-3A5C619B7632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8"/>
    <p:sldLayoutId id="2147484131" r:id="rId9"/>
    <p:sldLayoutId id="2147484132" r:id="rId10"/>
    <p:sldLayoutId id="2147484133" r:id="rId11"/>
    <p:sldLayoutId id="2147484134" r:id="rId12"/>
    <p:sldLayoutId id="2147484135" r:id="rId13"/>
    <p:sldLayoutId id="2147484136" r:id="rId14"/>
    <p:sldLayoutId id="2147484137" r:id="rId15"/>
    <p:sldLayoutId id="2147484138" r:id="rId16"/>
    <p:sldLayoutId id="2147484139" r:id="rId17"/>
    <p:sldLayoutId id="2147484140" r:id="rId18"/>
    <p:sldLayoutId id="2147484141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0AB3-68A3-4CA4-AB66-1FAEEA422B7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DD33-150F-4024-9266-491E321ED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D747-1E40-4D4D-AC6A-F4DD6494542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5CA5-5FF8-479D-803B-20B749485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E2F2-0613-4CFD-88FE-874F6BA8639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87C-291F-426D-92A4-406457F68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E17F-58AD-47F6-9589-643BD20748F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0075-18D4-458B-A9C9-3FE98A75A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CCF3-7B9D-4A73-8A11-1ECCF609EA1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5577-4399-4650-8E9E-113E993C8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6B19-6852-432B-B5DA-AED0C15C075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DDDE-A84C-4704-BA8A-05C1F646B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image" Target="../media/image41.jpeg"/><Relationship Id="rId5" Type="http://schemas.openxmlformats.org/officeDocument/2006/relationships/image" Target="../media/image41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059280" y="285228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.C. 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2895480" y="4038480"/>
            <a:ext cx="601992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rofessional Development for Teachers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Picture 3" descr="7.jpg"/>
          <p:cNvPicPr/>
          <p:nvPr/>
        </p:nvPicPr>
        <p:blipFill>
          <a:blip r:embed="rId1"/>
          <a:stretch/>
        </p:blipFill>
        <p:spPr>
          <a:xfrm>
            <a:off x="7343640" y="2565360"/>
            <a:ext cx="1800360" cy="1251000"/>
          </a:xfrm>
          <a:prstGeom prst="rect">
            <a:avLst/>
          </a:prstGeom>
          <a:ln w="0">
            <a:noFill/>
          </a:ln>
        </p:spPr>
      </p:pic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24360" y="260280"/>
            <a:ext cx="3906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Health &amp; Saf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TextBox 3"/>
          <p:cNvSpPr/>
          <p:nvPr/>
        </p:nvSpPr>
        <p:spPr>
          <a:xfrm>
            <a:off x="900000" y="1628640"/>
            <a:ext cx="71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technology room Health and safety rules and regulations a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 u="sng">
                <a:solidFill>
                  <a:srgbClr val="000000"/>
                </a:solidFill>
                <a:uFillTx/>
                <a:latin typeface="Arial"/>
              </a:rPr>
              <a:t>Hazards specific to this project includ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Drilling acrylic and the risk of cra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Potential bonding of body tissue due to the use of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adhesives. The attention of students should be drawn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o this hazard and proper precautions should be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aken to minimise this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Possible cutting from metal swarf on the end of mild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teel rod. Students attention should be drawn to this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azard and the mitigation of the risk by removing the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warf with a file after cu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7" name="Content Placeholder 3" descr="np9047.jpg"/>
          <p:cNvPicPr/>
          <p:nvPr/>
        </p:nvPicPr>
        <p:blipFill>
          <a:blip r:embed="rId1"/>
          <a:stretch/>
        </p:blipFill>
        <p:spPr>
          <a:xfrm>
            <a:off x="2700360" y="162864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22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d Effectors for Rob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9" name="Picture 5" descr="D1SCF0942.JPG"/>
          <p:cNvPicPr/>
          <p:nvPr/>
        </p:nvPicPr>
        <p:blipFill>
          <a:blip r:embed="rId2"/>
          <a:stretch/>
        </p:blipFill>
        <p:spPr>
          <a:xfrm>
            <a:off x="-325440" y="3357720"/>
            <a:ext cx="2951280" cy="2214360"/>
          </a:xfrm>
          <a:prstGeom prst="rect">
            <a:avLst/>
          </a:prstGeom>
          <a:ln w="0">
            <a:noFill/>
          </a:ln>
        </p:spPr>
      </p:pic>
      <p:grpSp>
        <p:nvGrpSpPr>
          <p:cNvPr id="1830" name="Group 12"/>
          <p:cNvGrpSpPr/>
          <p:nvPr/>
        </p:nvGrpSpPr>
        <p:grpSpPr>
          <a:xfrm>
            <a:off x="0" y="1197000"/>
            <a:ext cx="3203640" cy="2442960"/>
            <a:chOff x="0" y="1197000"/>
            <a:chExt cx="3203640" cy="2442960"/>
          </a:xfrm>
        </p:grpSpPr>
        <p:pic>
          <p:nvPicPr>
            <p:cNvPr id="1831" name="Picture 4" descr="imagesCAIGX3VS.jpg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272916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TextBox 8"/>
            <p:cNvSpPr/>
            <p:nvPr/>
          </p:nvSpPr>
          <p:spPr>
            <a:xfrm>
              <a:off x="1187640" y="299736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Mechanical Grip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Group 11"/>
          <p:cNvGrpSpPr/>
          <p:nvPr/>
        </p:nvGrpSpPr>
        <p:grpSpPr>
          <a:xfrm>
            <a:off x="1908000" y="4221000"/>
            <a:ext cx="3311280" cy="1880280"/>
            <a:chOff x="1908000" y="4221000"/>
            <a:chExt cx="3311280" cy="1880280"/>
          </a:xfrm>
        </p:grpSpPr>
        <p:pic>
          <p:nvPicPr>
            <p:cNvPr id="1834" name="Picture 7" descr="untitled.bmp"/>
            <p:cNvPicPr/>
            <p:nvPr/>
          </p:nvPicPr>
          <p:blipFill>
            <a:blip r:embed="rId4"/>
            <a:stretch/>
          </p:blipFill>
          <p:spPr>
            <a:xfrm>
              <a:off x="3275640" y="4221000"/>
              <a:ext cx="1943640" cy="168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5" name="TextBox 9"/>
            <p:cNvSpPr/>
            <p:nvPr/>
          </p:nvSpPr>
          <p:spPr>
            <a:xfrm>
              <a:off x="1908000" y="5733000"/>
              <a:ext cx="21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Magnetic Grip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Group 12"/>
          <p:cNvGrpSpPr/>
          <p:nvPr/>
        </p:nvGrpSpPr>
        <p:grpSpPr>
          <a:xfrm>
            <a:off x="5651640" y="3573360"/>
            <a:ext cx="2016000" cy="2888640"/>
            <a:chOff x="5651640" y="3573360"/>
            <a:chExt cx="2016000" cy="2888640"/>
          </a:xfrm>
        </p:grpSpPr>
        <p:pic>
          <p:nvPicPr>
            <p:cNvPr id="1837" name="Picture 6" descr="43956vac0100jpg_00000020096.jpg"/>
            <p:cNvPicPr/>
            <p:nvPr/>
          </p:nvPicPr>
          <p:blipFill>
            <a:blip r:embed="rId5"/>
            <a:stretch/>
          </p:blipFill>
          <p:spPr>
            <a:xfrm>
              <a:off x="5723640" y="3573360"/>
              <a:ext cx="1377720" cy="22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TextBox 10"/>
            <p:cNvSpPr/>
            <p:nvPr/>
          </p:nvSpPr>
          <p:spPr>
            <a:xfrm>
              <a:off x="5651640" y="6093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Vacuum Grip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Group 16"/>
          <p:cNvGrpSpPr/>
          <p:nvPr/>
        </p:nvGrpSpPr>
        <p:grpSpPr>
          <a:xfrm>
            <a:off x="6516720" y="1628640"/>
            <a:ext cx="2448000" cy="1939320"/>
            <a:chOff x="6516720" y="1628640"/>
            <a:chExt cx="2448000" cy="1939320"/>
          </a:xfrm>
        </p:grpSpPr>
        <p:pic>
          <p:nvPicPr>
            <p:cNvPr id="1840" name="Picture 14" descr="gripper_1.jpg"/>
            <p:cNvPicPr/>
            <p:nvPr/>
          </p:nvPicPr>
          <p:blipFill>
            <a:blip r:embed="rId6"/>
            <a:stretch/>
          </p:blipFill>
          <p:spPr>
            <a:xfrm>
              <a:off x="6516720" y="1628640"/>
              <a:ext cx="2235960" cy="12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TextBox 15"/>
            <p:cNvSpPr/>
            <p:nvPr/>
          </p:nvSpPr>
          <p:spPr>
            <a:xfrm>
              <a:off x="6660720" y="2925360"/>
              <a:ext cx="23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Electro-Magnetic Gri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123640" y="54900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ample Calcul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3" name="Content Placeholder 3" descr="mom1.jpg"/>
          <p:cNvPicPr/>
          <p:nvPr/>
        </p:nvPicPr>
        <p:blipFill>
          <a:blip r:embed="rId1"/>
          <a:stretch/>
        </p:blipFill>
        <p:spPr>
          <a:xfrm>
            <a:off x="1870200" y="2637000"/>
            <a:ext cx="6121440" cy="3863880"/>
          </a:xfrm>
          <a:prstGeom prst="rect">
            <a:avLst/>
          </a:prstGeom>
          <a:ln w="0">
            <a:noFill/>
          </a:ln>
        </p:spPr>
      </p:pic>
      <p:sp>
        <p:nvSpPr>
          <p:cNvPr id="1844" name="Rectangle 4"/>
          <p:cNvSpPr/>
          <p:nvPr/>
        </p:nvSpPr>
        <p:spPr>
          <a:xfrm>
            <a:off x="611280" y="155736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If the weight of the servo motor equals 0.324N, calculate the mass of A, which will allow the robotic arm rotate a mass of 180g to a new position without the risk of toppling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Box 6"/>
          <p:cNvSpPr/>
          <p:nvPr/>
        </p:nvSpPr>
        <p:spPr>
          <a:xfrm>
            <a:off x="1916280" y="486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8"/>
          <p:cNvSpPr/>
          <p:nvPr/>
        </p:nvSpPr>
        <p:spPr>
          <a:xfrm>
            <a:off x="5148360" y="2700360"/>
            <a:ext cx="93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4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9"/>
          <p:cNvSpPr/>
          <p:nvPr/>
        </p:nvSpPr>
        <p:spPr>
          <a:xfrm>
            <a:off x="2484360" y="2637000"/>
            <a:ext cx="9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5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858920" y="331560"/>
            <a:ext cx="2179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9" name="Content Placeholder 3" descr="mom1.jpg"/>
          <p:cNvPicPr/>
          <p:nvPr/>
        </p:nvPicPr>
        <p:blipFill>
          <a:blip r:embed="rId1"/>
          <a:stretch/>
        </p:blipFill>
        <p:spPr>
          <a:xfrm>
            <a:off x="3780000" y="3197160"/>
            <a:ext cx="4851360" cy="3597480"/>
          </a:xfrm>
          <a:prstGeom prst="rect">
            <a:avLst/>
          </a:prstGeom>
          <a:ln w="0">
            <a:noFill/>
          </a:ln>
        </p:spPr>
      </p:pic>
      <p:sp>
        <p:nvSpPr>
          <p:cNvPr id="1850" name="Rectangle 4"/>
          <p:cNvSpPr/>
          <p:nvPr/>
        </p:nvSpPr>
        <p:spPr>
          <a:xfrm>
            <a:off x="395280" y="1413000"/>
            <a:ext cx="561672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lockwise moment = Anti-clockwise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1.77N x .24 m           = (0.324N x .07m) + (Force x .105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.42Nm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                = 0.022Nm + (Force x .105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.42Nm– 0.022Nm     = .105m x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.398Nm                     = .105m x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.398/.105                   =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3.79N                        =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ass of A = 3.79 / 9.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.386kg = </a:t>
            </a:r>
            <a:r>
              <a:rPr b="1" lang="en-IE" sz="1800" spc="-1" strike="noStrike">
                <a:solidFill>
                  <a:srgbClr val="ff0000"/>
                </a:solidFill>
                <a:latin typeface="Arial"/>
              </a:rPr>
              <a:t>386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Box 7"/>
          <p:cNvSpPr/>
          <p:nvPr/>
        </p:nvSpPr>
        <p:spPr>
          <a:xfrm>
            <a:off x="6156360" y="1773360"/>
            <a:ext cx="2521080" cy="642600"/>
          </a:xfrm>
          <a:prstGeom prst="rect">
            <a:avLst/>
          </a:prstGeom>
          <a:solidFill>
            <a:srgbClr val="c7d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180Kg x 9.81 = 1.77N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 Box 8"/>
          <p:cNvSpPr/>
          <p:nvPr/>
        </p:nvSpPr>
        <p:spPr>
          <a:xfrm>
            <a:off x="6084720" y="3236760"/>
            <a:ext cx="9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4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9"/>
          <p:cNvSpPr/>
          <p:nvPr/>
        </p:nvSpPr>
        <p:spPr>
          <a:xfrm>
            <a:off x="4140360" y="3228840"/>
            <a:ext cx="93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5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Box 6"/>
          <p:cNvSpPr/>
          <p:nvPr/>
        </p:nvSpPr>
        <p:spPr>
          <a:xfrm>
            <a:off x="3795840" y="522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8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427280" y="260280"/>
            <a:ext cx="325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TextBox 3"/>
          <p:cNvSpPr/>
          <p:nvPr/>
        </p:nvSpPr>
        <p:spPr>
          <a:xfrm>
            <a:off x="676440" y="1595520"/>
            <a:ext cx="8243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udents could be asked to carry out research on a theme based on automation in the workspace / home / leisure /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udents could be asked to consider how the product could best be manufactured and to compile a Gantt chart which displays the manufacturing sequence for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7" name="Picture 4" descr="ganttchart.gif"/>
          <p:cNvPicPr/>
          <p:nvPr/>
        </p:nvPicPr>
        <p:blipFill>
          <a:blip r:embed="rId1"/>
          <a:stretch/>
        </p:blipFill>
        <p:spPr>
          <a:xfrm>
            <a:off x="5651640" y="4581360"/>
            <a:ext cx="2636640" cy="1671840"/>
          </a:xfrm>
          <a:prstGeom prst="rect">
            <a:avLst/>
          </a:prstGeom>
          <a:ln w="0">
            <a:noFill/>
          </a:ln>
        </p:spPr>
      </p:pic>
      <p:pic>
        <p:nvPicPr>
          <p:cNvPr id="1858" name="Picture 5" descr="portfolio.png"/>
          <p:cNvPicPr/>
          <p:nvPr/>
        </p:nvPicPr>
        <p:blipFill>
          <a:blip r:embed="rId2"/>
          <a:stretch/>
        </p:blipFill>
        <p:spPr>
          <a:xfrm>
            <a:off x="3995640" y="2349360"/>
            <a:ext cx="1244520" cy="124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 txBox="1"/>
          <p:nvPr/>
        </p:nvSpPr>
        <p:spPr>
          <a:xfrm>
            <a:off x="610920" y="836280"/>
            <a:ext cx="80866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functionality, quality and finish of the product could be assessed by the class teacher using assessment guidelines given by State exam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rtefact meets them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riginality and  Creativit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duction Skill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Quality and Finish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esentation of Artefac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356000" y="260280"/>
            <a:ext cx="3114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1" name="Picture 3" descr="check_mark_clip_art_9677.jpg"/>
          <p:cNvPicPr/>
          <p:nvPr/>
        </p:nvPicPr>
        <p:blipFill>
          <a:blip r:embed="rId1"/>
          <a:stretch/>
        </p:blipFill>
        <p:spPr>
          <a:xfrm>
            <a:off x="4788000" y="335772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1862" name="Picture 4" descr="check_mark_clip_art_9677.jpg"/>
          <p:cNvPicPr/>
          <p:nvPr/>
        </p:nvPicPr>
        <p:blipFill>
          <a:blip r:embed="rId2"/>
          <a:stretch/>
        </p:blipFill>
        <p:spPr>
          <a:xfrm>
            <a:off x="478800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63" name="Picture 5" descr="check_mark_clip_art_9677.jpg"/>
          <p:cNvPicPr/>
          <p:nvPr/>
        </p:nvPicPr>
        <p:blipFill>
          <a:blip r:embed="rId3"/>
          <a:stretch/>
        </p:blipFill>
        <p:spPr>
          <a:xfrm>
            <a:off x="4788000" y="42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64" name="Picture 6" descr="check_mark_clip_art_9677.jpg"/>
          <p:cNvPicPr/>
          <p:nvPr/>
        </p:nvPicPr>
        <p:blipFill>
          <a:blip r:embed="rId4"/>
          <a:stretch/>
        </p:blipFill>
        <p:spPr>
          <a:xfrm>
            <a:off x="478800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65" name="Picture 7" descr="check_mark_clip_art_9677.jpg"/>
          <p:cNvPicPr/>
          <p:nvPr/>
        </p:nvPicPr>
        <p:blipFill>
          <a:blip r:embed="rId5"/>
          <a:stretch/>
        </p:blipFill>
        <p:spPr>
          <a:xfrm>
            <a:off x="478800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" descr="check_mark_clip_art_9677.jpg"/>
          <p:cNvPicPr/>
          <p:nvPr/>
        </p:nvPicPr>
        <p:blipFill>
          <a:blip r:embed="rId6"/>
          <a:stretch/>
        </p:blipFill>
        <p:spPr>
          <a:xfrm>
            <a:off x="478800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4"/>
          <p:cNvSpPr/>
          <p:nvPr/>
        </p:nvSpPr>
        <p:spPr>
          <a:xfrm>
            <a:off x="3352680" y="260280"/>
            <a:ext cx="561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Box 2"/>
          <p:cNvSpPr/>
          <p:nvPr/>
        </p:nvSpPr>
        <p:spPr>
          <a:xfrm>
            <a:off x="2050920" y="314172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155840" y="260280"/>
            <a:ext cx="498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TextBox 2"/>
          <p:cNvSpPr/>
          <p:nvPr/>
        </p:nvSpPr>
        <p:spPr>
          <a:xfrm>
            <a:off x="611280" y="1123920"/>
            <a:ext cx="7789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Very positive response to Line following Rob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Genie E18 motor board used to control robot, 2 LDR’s were used to provide feedback to control position of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2" name="Picture 3" descr="Noname.jpg"/>
          <p:cNvPicPr/>
          <p:nvPr/>
        </p:nvPicPr>
        <p:blipFill>
          <a:blip r:embed="rId1"/>
          <a:stretch/>
        </p:blipFill>
        <p:spPr>
          <a:xfrm>
            <a:off x="3564000" y="2349360"/>
            <a:ext cx="2550960" cy="215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276360" y="260280"/>
            <a:ext cx="5562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J’Cert </a:t>
            </a: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Technology Pro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TextBox 5"/>
          <p:cNvSpPr/>
          <p:nvPr/>
        </p:nvSpPr>
        <p:spPr>
          <a:xfrm>
            <a:off x="3132000" y="1413000"/>
            <a:ext cx="33130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3300"/>
                </a:solidFill>
                <a:latin typeface="Arial"/>
              </a:rPr>
              <a:t>Junior Certificate Projects cov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bile Phone 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sk T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VD 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od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sktop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hoto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ird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5" name="Picture 3" descr="C:\Documents and Settings\Niamh\My Documents\T4 Junior Cert projects\Bird-Feeder.jpg"/>
          <p:cNvPicPr/>
          <p:nvPr/>
        </p:nvPicPr>
        <p:blipFill>
          <a:blip r:embed="rId1"/>
          <a:stretch/>
        </p:blipFill>
        <p:spPr>
          <a:xfrm>
            <a:off x="1042920" y="4724280"/>
            <a:ext cx="1657440" cy="1944720"/>
          </a:xfrm>
          <a:prstGeom prst="rect">
            <a:avLst/>
          </a:prstGeom>
          <a:ln w="6480">
            <a:solidFill>
              <a:srgbClr val="1d528d"/>
            </a:solidFill>
            <a:miter/>
          </a:ln>
        </p:spPr>
      </p:pic>
      <p:pic>
        <p:nvPicPr>
          <p:cNvPr id="1796" name="Picture 2" descr="H:\DCIM\101SSCAM\S5000722.JPG"/>
          <p:cNvPicPr/>
          <p:nvPr/>
        </p:nvPicPr>
        <p:blipFill>
          <a:blip r:embed="rId2"/>
          <a:srcRect l="7319" t="4881" r="10691" b="0"/>
          <a:stretch/>
        </p:blipFill>
        <p:spPr>
          <a:xfrm>
            <a:off x="6156360" y="3213000"/>
            <a:ext cx="2232000" cy="1747800"/>
          </a:xfrm>
          <a:prstGeom prst="rect">
            <a:avLst/>
          </a:prstGeom>
          <a:ln w="19080">
            <a:solidFill>
              <a:srgbClr val="1d528d"/>
            </a:solidFill>
            <a:miter/>
          </a:ln>
        </p:spPr>
      </p:pic>
      <p:pic>
        <p:nvPicPr>
          <p:cNvPr id="1797" name="Picture 3" descr="CIMG1086"/>
          <p:cNvPicPr/>
          <p:nvPr/>
        </p:nvPicPr>
        <p:blipFill>
          <a:blip r:embed="rId3"/>
          <a:srcRect l="17758" t="0" r="0" b="0"/>
          <a:stretch/>
        </p:blipFill>
        <p:spPr>
          <a:xfrm>
            <a:off x="3492360" y="5157720"/>
            <a:ext cx="2044800" cy="158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98" name="Picture 2" descr="CIMG1042"/>
          <p:cNvPicPr/>
          <p:nvPr/>
        </p:nvPicPr>
        <p:blipFill>
          <a:blip r:embed="rId4"/>
          <a:srcRect l="4385" t="0" r="0" b="0"/>
          <a:stretch/>
        </p:blipFill>
        <p:spPr>
          <a:xfrm>
            <a:off x="1042920" y="1484280"/>
            <a:ext cx="1584360" cy="125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99" name="Picture 3" descr="G:\DCIM\104SSCAM\S5000100.JPG"/>
          <p:cNvPicPr/>
          <p:nvPr/>
        </p:nvPicPr>
        <p:blipFill>
          <a:blip r:embed="rId5"/>
          <a:srcRect l="7042" t="0" r="7042" b="0"/>
          <a:stretch/>
        </p:blipFill>
        <p:spPr>
          <a:xfrm>
            <a:off x="6156360" y="1413000"/>
            <a:ext cx="2178000" cy="1582560"/>
          </a:xfrm>
          <a:prstGeom prst="rect">
            <a:avLst/>
          </a:prstGeom>
          <a:ln w="19080">
            <a:solidFill>
              <a:srgbClr val="1d528d"/>
            </a:solidFill>
            <a:miter/>
          </a:ln>
        </p:spPr>
      </p:pic>
      <p:pic>
        <p:nvPicPr>
          <p:cNvPr id="1800" name="Picture 9" descr=""/>
          <p:cNvPicPr/>
          <p:nvPr/>
        </p:nvPicPr>
        <p:blipFill>
          <a:blip r:embed="rId6"/>
          <a:srcRect l="66807" t="44911" r="19909" b="31471"/>
          <a:stretch/>
        </p:blipFill>
        <p:spPr>
          <a:xfrm>
            <a:off x="1042920" y="2924280"/>
            <a:ext cx="1584360" cy="1728720"/>
          </a:xfrm>
          <a:prstGeom prst="rect">
            <a:avLst/>
          </a:prstGeom>
          <a:ln w="3240">
            <a:solidFill>
              <a:srgbClr val="1d528d"/>
            </a:solidFill>
            <a:miter/>
          </a:ln>
        </p:spPr>
      </p:pic>
      <p:pic>
        <p:nvPicPr>
          <p:cNvPr id="1801" name="Picture 2" descr=""/>
          <p:cNvPicPr/>
          <p:nvPr/>
        </p:nvPicPr>
        <p:blipFill>
          <a:blip r:embed="rId7"/>
          <a:srcRect l="33584" t="69528" r="47219" b="8814"/>
          <a:stretch/>
        </p:blipFill>
        <p:spPr>
          <a:xfrm>
            <a:off x="6156360" y="5157720"/>
            <a:ext cx="2303280" cy="1584360"/>
          </a:xfrm>
          <a:prstGeom prst="rect">
            <a:avLst/>
          </a:prstGeom>
          <a:ln w="3240">
            <a:solidFill>
              <a:srgbClr val="1d528d"/>
            </a:solidFill>
            <a:miter/>
          </a:ln>
        </p:spPr>
      </p:pic>
    </p:spTree>
  </p:cSld>
  <p:transition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"/>
          <p:cNvSpPr txBox="1"/>
          <p:nvPr/>
        </p:nvSpPr>
        <p:spPr>
          <a:xfrm>
            <a:off x="826560" y="2492280"/>
            <a:ext cx="7705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aving Certificat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ample Robotics </a:t>
            </a:r>
            <a:r>
              <a:rPr b="1" lang="ga-IE" sz="4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esign T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Box 3"/>
          <p:cNvSpPr/>
          <p:nvPr/>
        </p:nvSpPr>
        <p:spPr>
          <a:xfrm>
            <a:off x="1955880" y="2857680"/>
            <a:ext cx="54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esign and make a 3 Axis Pick and Place Robot which is capable of moving a small load from one position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4" descr="PenTec_robot_3-axis.jpg"/>
          <p:cNvPicPr/>
          <p:nvPr/>
        </p:nvPicPr>
        <p:blipFill>
          <a:blip r:embed="rId1"/>
          <a:stretch/>
        </p:blipFill>
        <p:spPr>
          <a:xfrm>
            <a:off x="3924360" y="5145120"/>
            <a:ext cx="1655640" cy="159552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6" descr="fis9800_gantry_dispensing_robot.jpg"/>
          <p:cNvPicPr/>
          <p:nvPr/>
        </p:nvPicPr>
        <p:blipFill>
          <a:blip r:embed="rId2"/>
          <a:stretch/>
        </p:blipFill>
        <p:spPr>
          <a:xfrm>
            <a:off x="0" y="1413000"/>
            <a:ext cx="2193840" cy="171108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7" descr="rv-3sd-250x250.jpg"/>
          <p:cNvPicPr/>
          <p:nvPr/>
        </p:nvPicPr>
        <p:blipFill>
          <a:blip r:embed="rId3"/>
          <a:stretch/>
        </p:blipFill>
        <p:spPr>
          <a:xfrm>
            <a:off x="7020000" y="1628640"/>
            <a:ext cx="1638360" cy="3175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yllabus Topics Add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TextBox 2"/>
          <p:cNvSpPr/>
          <p:nvPr/>
        </p:nvSpPr>
        <p:spPr>
          <a:xfrm>
            <a:off x="785880" y="1000080"/>
            <a:ext cx="7286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1" name="Picture 2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159760" cy="3672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Suggested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TextBox 3"/>
          <p:cNvSpPr/>
          <p:nvPr/>
        </p:nvSpPr>
        <p:spPr>
          <a:xfrm>
            <a:off x="684360" y="1773360"/>
            <a:ext cx="71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re are a number of approaches to this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Calibri"/>
              </a:rPr>
              <a:t>Basic control of servo motors using control software to programme a 3 axis robot arm. The arm is to move to various locations and provide pick and place cap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sign a separate control panel to prov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(i)  control of two axis using 2 potentio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(ii) a means of operating a gripper using an L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ption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allenge students to design a robotic system which will separate different coloured balls / blocks into various contai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499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ocus for this Round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TextBox 2"/>
          <p:cNvSpPr/>
          <p:nvPr/>
        </p:nvSpPr>
        <p:spPr>
          <a:xfrm>
            <a:off x="1042920" y="1484280"/>
            <a:ext cx="669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Option 1 &amp; 2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3- axis Robotic arm controlled by Genie E18 Moto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6" name="Picture 5" descr="qSCF0930.JPG"/>
          <p:cNvPicPr/>
          <p:nvPr/>
        </p:nvPicPr>
        <p:blipFill>
          <a:blip r:embed="rId1"/>
          <a:srcRect l="9051" t="21650" r="3538" b="4846"/>
          <a:stretch/>
        </p:blipFill>
        <p:spPr>
          <a:xfrm>
            <a:off x="250920" y="2827440"/>
            <a:ext cx="5497560" cy="3467160"/>
          </a:xfrm>
          <a:prstGeom prst="rect">
            <a:avLst/>
          </a:prstGeom>
          <a:ln w="0">
            <a:noFill/>
          </a:ln>
        </p:spPr>
      </p:pic>
      <p:pic>
        <p:nvPicPr>
          <p:cNvPr id="1817" name="Picture 7" descr="DSCF0941.JPG"/>
          <p:cNvPicPr/>
          <p:nvPr/>
        </p:nvPicPr>
        <p:blipFill>
          <a:blip r:embed="rId2"/>
          <a:srcRect l="0" t="15356" r="5113" b="9052"/>
          <a:stretch/>
        </p:blipFill>
        <p:spPr>
          <a:xfrm>
            <a:off x="5003640" y="3860640"/>
            <a:ext cx="3494160" cy="2089440"/>
          </a:xfrm>
          <a:prstGeom prst="rect">
            <a:avLst/>
          </a:prstGeom>
          <a:ln w="0">
            <a:noFill/>
          </a:ln>
        </p:spPr>
      </p:pic>
      <p:sp>
        <p:nvSpPr>
          <p:cNvPr id="1818" name="Text Box 8"/>
          <p:cNvSpPr/>
          <p:nvPr/>
        </p:nvSpPr>
        <p:spPr>
          <a:xfrm>
            <a:off x="6249960" y="29973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Servo moto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Oval 9"/>
          <p:cNvSpPr/>
          <p:nvPr/>
        </p:nvSpPr>
        <p:spPr>
          <a:xfrm>
            <a:off x="5811840" y="3789360"/>
            <a:ext cx="8636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11"/>
          <p:cNvSpPr/>
          <p:nvPr/>
        </p:nvSpPr>
        <p:spPr>
          <a:xfrm flipH="1">
            <a:off x="6676920" y="3357720"/>
            <a:ext cx="935280" cy="57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TextBox 10"/>
          <p:cNvSpPr/>
          <p:nvPr/>
        </p:nvSpPr>
        <p:spPr>
          <a:xfrm>
            <a:off x="3419640" y="26028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Materials Requ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Box 4"/>
          <p:cNvSpPr/>
          <p:nvPr/>
        </p:nvSpPr>
        <p:spPr>
          <a:xfrm>
            <a:off x="971640" y="1379520"/>
            <a:ext cx="662472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18 Genie  Motor Board populated for servo moto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 Servo-Motors and 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crylic sheet 1000 x 500 x 5 mm/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 of 35mm x 8 dia. plastic tube, threaded M5 on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 of M5 x 20mm cheese head scr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 of M4 x 20 cheese head screws and 8 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 of M4 x 12 cheese head screws and 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 of M3 x 20mm cheese head screws and 2 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 of M2.5 x 12mm cheese screw with lock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80mm of diameter 1.5 mm mild steel 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 servo motor extension l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3" name="Picture 6" descr="imagesCA5CZIHX.jpg"/>
          <p:cNvPicPr/>
          <p:nvPr/>
        </p:nvPicPr>
        <p:blipFill>
          <a:blip r:embed="rId1"/>
          <a:stretch/>
        </p:blipFill>
        <p:spPr>
          <a:xfrm>
            <a:off x="6372360" y="3716280"/>
            <a:ext cx="2232000" cy="20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0:11:05Z</dcterms:created>
  <dc:creator>Elizabeth Davis</dc:creator>
  <dc:description/>
  <dc:language>en-US</dc:language>
  <cp:lastModifiedBy>Patrick Lynch</cp:lastModifiedBy>
  <dcterms:modified xsi:type="dcterms:W3CDTF">2011-10-10T10:20:23Z</dcterms:modified>
  <cp:revision>592</cp:revision>
  <dc:subject/>
  <dc:title>Slide 1</dc:title>
</cp:coreProperties>
</file>