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63A-03BA-41A8-91BE-E0B743D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490-F1A0-4CC4-8763-2490EC6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63B-ECDA-44E6-8610-4A62A7AC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278-C04A-4FCF-81E2-3DE2BB75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0A3-8AE3-405C-B2AF-3A0C515C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729-E792-4077-91A1-5C8DC428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1EA5-41E4-4A37-A3B2-1F38CB5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DBA-ED20-45D6-AC51-8FF55E2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AF0A-6589-4541-A116-03765EDB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ECD-3BB3-4F21-AA2A-DFC8748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219-8514-46D9-B920-3936C67B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A77-39FA-4FD6-8821-6E8130F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AA93-6953-43EA-A208-FEB9D7DA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ECA-65A8-4475-B1A1-003E7A6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DED5-9B1B-4F22-B2D2-C239D1B0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ADC2-53C1-4E3D-B024-33AF56D1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94F-2F89-471B-BA6E-B2FBCEE3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8B88-F602-4389-A482-E3DDA925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D2C3-0067-496E-9200-93615871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DC01-1FF1-472B-ADC5-7621744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698F-61F8-41D5-AB29-2C7048AE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AA36-E9A5-4ED5-98EB-8B97BF65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3E7-2B2E-40C0-BF7C-3925321C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D316-806F-4160-BC03-E3F0420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E79A-0643-4392-B718-B220E04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AD62-DDD9-4242-9D25-2A586059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5E38-A5CC-40CA-B279-F72C0CE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2C91-88CB-4B8A-B01A-8BEF60D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4E26-B0FB-44BB-A160-58E09DE5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12E9-6022-48F0-A38E-CEA340DF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62B-9CD7-45FB-BA67-AAF184A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2D4-C731-41A1-A77B-6B490FD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D92-A4D4-41B2-89BC-8345484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ED6-1AE0-422D-867C-A736CA2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7C7-9A77-4EC1-91A4-0332DB2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083-2A9A-4917-8BE0-B8B9F9C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BD6-7850-42BA-BC9F-5ABA081101FD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7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57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61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65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68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29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72" name="Picture 30" descr="MPj03828470000[1]"/>
            <p:cNvPicPr/>
            <p:nvPr/>
          </p:nvPicPr>
          <p:blipFill>
            <a:blip r:embed="rId8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1" descr=""/>
            <p:cNvPicPr/>
            <p:nvPr/>
          </p:nvPicPr>
          <p:blipFill>
            <a:blip r:embed="rId9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Rectangle 52"/>
          <p:cNvSpPr/>
          <p:nvPr/>
        </p:nvSpPr>
        <p:spPr>
          <a:xfrm>
            <a:off x="5508720" y="0"/>
            <a:ext cx="3635280" cy="278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6" name="Group 53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77" name="Line 54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Line 55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Line 56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Line 57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1" name="Rectangle 60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Rectangle 63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10"/>
          <a:srcRect l="0" t="0" r="57690" b="0"/>
          <a:stretch/>
        </p:blipFill>
        <p:spPr>
          <a:xfrm>
            <a:off x="1547640" y="3933720"/>
            <a:ext cx="1008360" cy="117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MPj04117520000[1]"/>
          <p:cNvPicPr/>
          <p:nvPr/>
        </p:nvPicPr>
        <p:blipFill>
          <a:blip r:embed="rId11"/>
          <a:stretch/>
        </p:blipFill>
        <p:spPr>
          <a:xfrm>
            <a:off x="0" y="0"/>
            <a:ext cx="1855800" cy="2781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MPj04278250000[1]"/>
          <p:cNvPicPr/>
          <p:nvPr/>
        </p:nvPicPr>
        <p:blipFill>
          <a:blip r:embed="rId12"/>
          <a:srcRect l="23404" t="0" r="8673" b="0"/>
          <a:stretch/>
        </p:blipFill>
        <p:spPr>
          <a:xfrm>
            <a:off x="1835280" y="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MPj04225890000[1]"/>
          <p:cNvPicPr/>
          <p:nvPr/>
        </p:nvPicPr>
        <p:blipFill>
          <a:blip r:embed="rId13"/>
          <a:srcRect l="32721" t="0" r="9067" b="0"/>
          <a:stretch/>
        </p:blipFill>
        <p:spPr>
          <a:xfrm>
            <a:off x="3924360" y="0"/>
            <a:ext cx="2430360" cy="278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14"/>
          <a:stretch/>
        </p:blipFill>
        <p:spPr>
          <a:xfrm>
            <a:off x="4500720" y="5732640"/>
            <a:ext cx="90936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utum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81C0A8-0C41-420A-AF37-6E4E11D55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30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34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7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38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0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41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21" descr="Slide_Background.jpg"/>
          <p:cNvPicPr/>
          <p:nvPr/>
        </p:nvPicPr>
        <p:blipFill>
          <a:blip r:embed="rId8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"/>
          <p:cNvPicPr/>
          <p:nvPr/>
        </p:nvPicPr>
        <p:blipFill>
          <a:blip r:embed="rId9"/>
          <a:srcRect l="0" t="0" r="57705" b="0"/>
          <a:stretch/>
        </p:blipFill>
        <p:spPr>
          <a:xfrm>
            <a:off x="395280" y="6093000"/>
            <a:ext cx="422280" cy="49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10"/>
          <a:stretch/>
        </p:blipFill>
        <p:spPr>
          <a:xfrm>
            <a:off x="826920" y="6165720"/>
            <a:ext cx="486000" cy="382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D871-E5EF-409C-A11A-2DD6AE3B4738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8066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.C. Technolog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o Motor Control  / Genie 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895480" y="4686120"/>
            <a:ext cx="6019920" cy="9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ofessional Development for Teacher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3352680" y="260280"/>
            <a:ext cx="561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to the Servo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79280" y="1413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o offers smoothest contro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ate to a specific poin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good torque and contro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for powering robot arms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 of revolution is limited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itable for applications which require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rotat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Content Placeholder 5" descr="M0CAY6FL6KCAQP7NEHCA05P1T3CAZBZQ1NCAXD1594CA9LMNE3CAB1XBXDCAXDP7ZDCAAOEDTGCAUF935KCAUKJ675CAWA6YY8CAXUN0TKCAKWH37PCAKLAYZ0CAEVGFP1CAXECGRQCA9VUOZNCAY0EW5J.jpg"/>
          <p:cNvPicPr/>
          <p:nvPr/>
        </p:nvPicPr>
        <p:blipFill>
          <a:blip r:embed="rId2"/>
          <a:stretch/>
        </p:blipFill>
        <p:spPr>
          <a:xfrm>
            <a:off x="5778360" y="1844640"/>
            <a:ext cx="17748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141264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in motor, gearbox, driver controller and potentiometer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e wires - 0v, 5v and PIC signa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ometer connected to gearbox - monitors movemen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s feedback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position is distorted - automatic correct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Servo Mo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2"/>
          <a:srcRect l="19583" t="32000" r="24167" b="24668"/>
          <a:stretch/>
        </p:blipFill>
        <p:spPr>
          <a:xfrm>
            <a:off x="539640" y="4365720"/>
            <a:ext cx="3024360" cy="1701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ttp://www.active-robots.com/products/motorsandwheels/servo-motors/hitec/hsr1422cr-500.jpg"/>
          <p:cNvPicPr/>
          <p:nvPr/>
        </p:nvPicPr>
        <p:blipFill>
          <a:blip r:embed="rId3"/>
          <a:stretch/>
        </p:blipFill>
        <p:spPr>
          <a:xfrm>
            <a:off x="4140360" y="4508640"/>
            <a:ext cx="1373040" cy="1657080"/>
          </a:xfrm>
          <a:prstGeom prst="rect">
            <a:avLst/>
          </a:prstGeom>
          <a:ln w="0">
            <a:noFill/>
          </a:ln>
        </p:spPr>
      </p:pic>
      <p:sp>
        <p:nvSpPr>
          <p:cNvPr id="197" name="Line 8"/>
          <p:cNvSpPr/>
          <p:nvPr/>
        </p:nvSpPr>
        <p:spPr>
          <a:xfrm flipV="1">
            <a:off x="5435640" y="4437000"/>
            <a:ext cx="865080" cy="50472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8" name="Content Placeholder 6" descr="Exploded servo.JPG"/>
          <p:cNvPicPr/>
          <p:nvPr/>
        </p:nvPicPr>
        <p:blipFill>
          <a:blip r:embed="rId4"/>
          <a:stretch/>
        </p:blipFill>
        <p:spPr>
          <a:xfrm>
            <a:off x="7308720" y="3500280"/>
            <a:ext cx="15922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360" y="141264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vo Motor selected from lis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 programming block, pulse width and output pin must be set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tion for speed control in second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lse width can also be expressed as a variabl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Servo Motor Ope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240000" cy="23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Pulse Wid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5986440" cy="38163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116000" y="148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lse Width Modulation (0.75ms to 2.25ms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lse Width takes servo from 0° to 150° rotat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inuous stre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20m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Genie E18 Motor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4319640" cy="30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8" name="TextBox 4"/>
          <p:cNvSpPr/>
          <p:nvPr/>
        </p:nvSpPr>
        <p:spPr>
          <a:xfrm>
            <a:off x="5076720" y="220500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ervo Outpu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Motor board offers three servo outpu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Outputs must be linked directly to PIC and not from transistor chip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Designated outputs – Q0, Q1, Q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Genie E18 Motor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2"/>
          <a:stretch/>
        </p:blipFill>
        <p:spPr>
          <a:xfrm>
            <a:off x="1763640" y="3213000"/>
            <a:ext cx="5688000" cy="31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1" name="TextBox 5"/>
          <p:cNvSpPr/>
          <p:nvPr/>
        </p:nvSpPr>
        <p:spPr>
          <a:xfrm>
            <a:off x="32400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nalogue Inpu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puts that have varying resistanc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ree designated analogue inputs- A0, A1, A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Genie uses the variance and assigns values from 0-255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21:41:55Z</dcterms:created>
  <dc:creator>Diarmuid.McCarthy</dc:creator>
  <dc:description/>
  <dc:language>en-US</dc:language>
  <cp:lastModifiedBy>*</cp:lastModifiedBy>
  <dcterms:modified xsi:type="dcterms:W3CDTF">2011-10-09T13:18:42Z</dcterms:modified>
  <cp:revision>6</cp:revision>
  <dc:subject/>
  <dc:title>L.C. Technology Servo Motors for use with Genie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381033</vt:lpwstr>
  </property>
</Properties>
</file>