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jpeg" ContentType="image/jpeg"/>
  <Override PartName="/ppt/media/image55.jpeg" ContentType="image/jpeg"/>
  <Override PartName="/ppt/media/image43.png" ContentType="image/png"/>
  <Override PartName="/ppt/media/image54.wmf" ContentType="image/x-wmf"/>
  <Override PartName="/ppt/media/image53.wmf" ContentType="image/x-wmf"/>
  <Override PartName="/ppt/media/image51.png" ContentType="image/png"/>
  <Override PartName="/ppt/media/image48.jpeg" ContentType="image/jpeg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42.gif" ContentType="image/gif"/>
  <Override PartName="/ppt/media/image58.png" ContentType="image/png"/>
  <Override PartName="/ppt/media/image3.jpeg" ContentType="image/jpeg"/>
  <Override PartName="/ppt/media/image67.png" ContentType="image/png"/>
  <Override PartName="/ppt/media/image37.jpeg" ContentType="image/jpeg"/>
  <Override PartName="/ppt/media/image15.png" ContentType="image/png"/>
  <Override PartName="/ppt/media/image24.jpeg" ContentType="image/jpeg"/>
  <Override PartName="/ppt/media/image59.png" ContentType="image/png"/>
  <Override PartName="/ppt/media/image52.png" ContentType="image/png"/>
  <Override PartName="/ppt/media/image50.jpeg" ContentType="image/jpeg"/>
  <Override PartName="/ppt/media/image27.jpeg" ContentType="image/jpeg"/>
  <Override PartName="/ppt/media/image10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17.jpeg" ContentType="image/jpeg"/>
  <Override PartName="/ppt/media/image26.png" ContentType="image/png"/>
  <Override PartName="/ppt/media/image49.jpeg" ContentType="image/jpeg"/>
  <Override PartName="/ppt/media/image20.jpeg" ContentType="image/jpeg"/>
  <Override PartName="/ppt/media/image61.png" ContentType="image/png"/>
  <Override PartName="/ppt/media/image72.png" ContentType="image/png"/>
  <Override PartName="/ppt/media/image70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5.png" ContentType="image/png"/>
  <Override PartName="/ppt/media/image65.png" ContentType="image/png"/>
  <Override PartName="/ppt/media/image64.png" ContentType="image/png"/>
  <Override PartName="/ppt/media/image25.png" ContentType="image/png"/>
  <Override PartName="/ppt/media/image19.jpeg" ContentType="image/jpeg"/>
  <Override PartName="/ppt/media/image62.png" ContentType="image/png"/>
  <Override PartName="/ppt/media/image60.png" ContentType="image/png"/>
  <Override PartName="/ppt/media/image16.png" ContentType="image/png"/>
  <Override PartName="/ppt/media/image4.png" ContentType="image/pn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7.png" ContentType="image/png"/>
  <Override PartName="/ppt/media/image34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28.jpeg" ContentType="image/jpeg"/>
  <Override PartName="/ppt/media/image11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3.jpeg" ContentType="image/jpeg"/>
  <Override PartName="/ppt/media/image57.jpeg" ContentType="image/jpeg"/>
  <Override PartName="/ppt/media/image6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B45-0276-4E50-821D-78D517A1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7F1-D56F-420E-B6B3-AE2537B4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5DF9-D37C-4260-82D1-D13DC359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2A0-B86A-48AB-A0E9-6DBF5A2D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9591-7DD7-4C22-84B4-620BA91E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421E-BC32-48B8-A419-5C6E5DE3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B0DE-E898-4E6F-8C69-D4035A8C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F1A0-4A3D-455E-B822-E6D7D401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6697-0A59-4AD5-B360-A8E249E4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5DC-BCD9-4D90-922B-49ADA454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9878-5C3D-47FA-A8C1-AEAF1E55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0B3F-5B7A-4072-90F6-554B3332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39E3-BDBC-4C58-9C85-72F0D02D8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2.png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78440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pplied Control  Systems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obotic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obotic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6" descr="cartesian.gif"/>
          <p:cNvPicPr/>
          <p:nvPr/>
        </p:nvPicPr>
        <p:blipFill>
          <a:blip r:embed="rId2"/>
          <a:stretch/>
        </p:blipFill>
        <p:spPr>
          <a:xfrm>
            <a:off x="4788000" y="4076640"/>
            <a:ext cx="3060720" cy="2500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961920"/>
            <a:ext cx="7283520" cy="58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famili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three axes at 90°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coordinates needed to find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int i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ight-hand r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tesian Rob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prismatic j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ck and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Documents and Settings\Diarmuid\My Documents\My Pictures\T4 control\324px-Coord_planes_color_svg.png"/>
          <p:cNvPicPr/>
          <p:nvPr/>
        </p:nvPicPr>
        <p:blipFill>
          <a:blip r:embed="rId3"/>
          <a:stretch/>
        </p:blipFill>
        <p:spPr>
          <a:xfrm>
            <a:off x="5580000" y="1341360"/>
            <a:ext cx="2500200" cy="2090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2570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artesian Coordinate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4076640"/>
            <a:ext cx="2890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6920" y="25704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artesian Robo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50920" y="981000"/>
            <a:ext cx="3789360" cy="2714760"/>
            <a:chOff x="250920" y="981000"/>
            <a:chExt cx="3789360" cy="2714760"/>
          </a:xfrm>
        </p:grpSpPr>
        <p:pic>
          <p:nvPicPr>
            <p:cNvPr id="77" name="Picture 4" descr="e_il18.jpg"/>
            <p:cNvPicPr/>
            <p:nvPr/>
          </p:nvPicPr>
          <p:blipFill>
            <a:blip r:embed="rId2"/>
            <a:stretch/>
          </p:blipFill>
          <p:spPr>
            <a:xfrm>
              <a:off x="468360" y="981000"/>
              <a:ext cx="3571920" cy="27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50920" y="1557360"/>
              <a:ext cx="1152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Applying adhesive to a pane of gla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500720" y="981000"/>
            <a:ext cx="4103640" cy="2341800"/>
            <a:chOff x="4500720" y="981000"/>
            <a:chExt cx="4103640" cy="2341800"/>
          </a:xfrm>
        </p:grpSpPr>
        <p:pic>
          <p:nvPicPr>
            <p:cNvPr id="80" name="Picture 5" descr="e_il19.jpg"/>
            <p:cNvPicPr/>
            <p:nvPr/>
          </p:nvPicPr>
          <p:blipFill>
            <a:blip r:embed="rId3"/>
            <a:stretch/>
          </p:blipFill>
          <p:spPr>
            <a:xfrm>
              <a:off x="4500720" y="981000"/>
              <a:ext cx="3352680" cy="23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516720" y="2852640"/>
              <a:ext cx="2087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ransferring ICs from a pallet to a holding lo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55640" y="3573360"/>
            <a:ext cx="3286080" cy="2918160"/>
            <a:chOff x="755640" y="3573360"/>
            <a:chExt cx="3286080" cy="2918160"/>
          </a:xfrm>
        </p:grpSpPr>
        <p:pic>
          <p:nvPicPr>
            <p:cNvPr id="83" name="Picture 7" descr="e_il22.jpg"/>
            <p:cNvPicPr/>
            <p:nvPr/>
          </p:nvPicPr>
          <p:blipFill>
            <a:blip r:embed="rId4"/>
            <a:stretch/>
          </p:blipFill>
          <p:spPr>
            <a:xfrm>
              <a:off x="755640" y="3573360"/>
              <a:ext cx="3286080" cy="28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900000" y="6093000"/>
              <a:ext cx="1584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ransferring &amp; Stack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284720" y="3649680"/>
            <a:ext cx="3929040" cy="2595600"/>
            <a:chOff x="4284720" y="3649680"/>
            <a:chExt cx="3929040" cy="2595600"/>
          </a:xfrm>
        </p:grpSpPr>
        <p:pic>
          <p:nvPicPr>
            <p:cNvPr id="86" name="Picture 6" descr="e_il20.jpg"/>
            <p:cNvPicPr/>
            <p:nvPr/>
          </p:nvPicPr>
          <p:blipFill>
            <a:blip r:embed="rId5"/>
            <a:stretch/>
          </p:blipFill>
          <p:spPr>
            <a:xfrm>
              <a:off x="4284720" y="3649680"/>
              <a:ext cx="3929040" cy="25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867280" y="5950080"/>
              <a:ext cx="216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amera monitoring of produ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560" y="182520"/>
            <a:ext cx="61563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Cylindrical Coordinate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ntent Placeholder 4" descr="cs7.gif"/>
          <p:cNvPicPr/>
          <p:nvPr/>
        </p:nvPicPr>
        <p:blipFill>
          <a:blip r:embed="rId2"/>
          <a:stretch/>
        </p:blipFill>
        <p:spPr>
          <a:xfrm>
            <a:off x="6084720" y="1484280"/>
            <a:ext cx="1995480" cy="2016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65912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int A- located on cylinder of known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ight Z from 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rd point - angle on the XY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3716280"/>
            <a:ext cx="2890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44000" y="3716280"/>
            <a:ext cx="28872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4360" y="3716280"/>
            <a:ext cx="5032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39640" y="3716280"/>
            <a:ext cx="7920000" cy="2665080"/>
            <a:chOff x="539640" y="3716280"/>
            <a:chExt cx="7920000" cy="2665080"/>
          </a:xfrm>
        </p:grpSpPr>
        <p:pic>
          <p:nvPicPr>
            <p:cNvPr id="95" name="Picture 2" descr="C:\Documents and Settings\Diarmuid\My Documents\My Pictures\T4 control\cylindrical2.gif"/>
            <p:cNvPicPr/>
            <p:nvPr/>
          </p:nvPicPr>
          <p:blipFill>
            <a:blip r:embed="rId3"/>
            <a:stretch/>
          </p:blipFill>
          <p:spPr>
            <a:xfrm>
              <a:off x="6012000" y="3716280"/>
              <a:ext cx="2447640" cy="18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39640" y="3789360"/>
              <a:ext cx="5759640" cy="25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ylindrical Robo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Used mainly for assemb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eatability and accuracy - Medical tes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wo prismatic joints and one rotary join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16720" y="558972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Work Envelo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7956720" y="5157720"/>
              <a:ext cx="28728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8244000" y="3716280"/>
            <a:ext cx="4316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3716280"/>
            <a:ext cx="360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98200" y="189000"/>
            <a:ext cx="576108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ylindrical Robo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T5CA66A84ZCARK3YXZCA09Y4JCCAZKMBAXCA2R75KOCAPUPL03CAJNDHCOCATUIHNECA99S0GLCAZEQEB9CA7Q60ZVCAXLDJBTCADU8DD8CAOALG5KCABPMUQ8CAXJE6PBCAWXZV0OCA83RUZACA90WGZN.jpg"/>
          <p:cNvPicPr/>
          <p:nvPr/>
        </p:nvPicPr>
        <p:blipFill>
          <a:blip r:embed="rId2"/>
          <a:stretch/>
        </p:blipFill>
        <p:spPr>
          <a:xfrm>
            <a:off x="900000" y="4357800"/>
            <a:ext cx="1800360" cy="1695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ylindrical.bmp"/>
          <p:cNvPicPr/>
          <p:nvPr/>
        </p:nvPicPr>
        <p:blipFill>
          <a:blip r:embed="rId3"/>
          <a:stretch/>
        </p:blipFill>
        <p:spPr>
          <a:xfrm>
            <a:off x="6012000" y="4149720"/>
            <a:ext cx="1398600" cy="1717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dna cylindrical.jpg"/>
          <p:cNvPicPr/>
          <p:nvPr/>
        </p:nvPicPr>
        <p:blipFill>
          <a:blip r:embed="rId4"/>
          <a:stretch/>
        </p:blipFill>
        <p:spPr>
          <a:xfrm>
            <a:off x="2771640" y="1413000"/>
            <a:ext cx="2838600" cy="1882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68360" y="3573360"/>
            <a:ext cx="410544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d extensively in medical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NA Scre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ug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xi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298080"/>
            <a:ext cx="7164360" cy="53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pherical/ Polar Coordinat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7129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ilar to finding a point on the earth’s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di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ontent Placeholder 6" descr="erde.jpg"/>
          <p:cNvPicPr/>
          <p:nvPr/>
        </p:nvPicPr>
        <p:blipFill>
          <a:blip r:embed="rId2"/>
          <a:stretch/>
        </p:blipFill>
        <p:spPr>
          <a:xfrm>
            <a:off x="5651640" y="1413000"/>
            <a:ext cx="2016000" cy="200016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466560" y="3573360"/>
            <a:ext cx="7790040" cy="3019320"/>
            <a:chOff x="466560" y="3573360"/>
            <a:chExt cx="7790040" cy="3019320"/>
          </a:xfrm>
        </p:grpSpPr>
        <p:sp>
          <p:nvSpPr>
            <p:cNvPr id="110" name=""/>
            <p:cNvSpPr/>
            <p:nvPr/>
          </p:nvSpPr>
          <p:spPr>
            <a:xfrm>
              <a:off x="466560" y="3573360"/>
              <a:ext cx="6696360" cy="30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pherical / Polar Robo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pot, Gas and Arc Wel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eaching horizontal or incli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unnels / are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obot sometimes known as the gun turr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5292720" y="3573360"/>
              <a:ext cx="2963880" cy="25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658920" y="6165720"/>
              <a:ext cx="14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Work Envelo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7667280" y="5734080"/>
              <a:ext cx="360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7080" y="189000"/>
            <a:ext cx="51832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Polar Robotic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olar.jpg"/>
          <p:cNvPicPr/>
          <p:nvPr/>
        </p:nvPicPr>
        <p:blipFill>
          <a:blip r:embed="rId2"/>
          <a:stretch/>
        </p:blipFill>
        <p:spPr>
          <a:xfrm>
            <a:off x="1116000" y="1125360"/>
            <a:ext cx="2519280" cy="2503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welding.jpg"/>
          <p:cNvPicPr/>
          <p:nvPr/>
        </p:nvPicPr>
        <p:blipFill>
          <a:blip r:embed="rId3"/>
          <a:stretch/>
        </p:blipFill>
        <p:spPr>
          <a:xfrm>
            <a:off x="5148360" y="3933720"/>
            <a:ext cx="2449440" cy="2401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140360" y="198900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d extensively in the car manufacturing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4508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3924360" cy="53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The Scara Ro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0920" y="575640"/>
            <a:ext cx="7993080" cy="301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Developed to meet the needs of modern assem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Fast movement with light pay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Rapid placements of electronic components on PCB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Combination of two horizontal rotational axes and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linear j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Content Placeholder 7" descr="scaragripper.jpg"/>
          <p:cNvPicPr/>
          <p:nvPr/>
        </p:nvPicPr>
        <p:blipFill>
          <a:blip r:embed="rId2"/>
          <a:stretch/>
        </p:blipFill>
        <p:spPr>
          <a:xfrm>
            <a:off x="4788000" y="3500280"/>
            <a:ext cx="2303280" cy="2681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545000" y="3425760"/>
            <a:ext cx="54000" cy="7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545000" y="3425760"/>
            <a:ext cx="54000" cy="7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258920" y="3500280"/>
            <a:ext cx="2636640" cy="2606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380360" y="3933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92000" y="44280"/>
            <a:ext cx="52927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cara Robo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9280" y="928800"/>
            <a:ext cx="3678480" cy="2857320"/>
            <a:chOff x="179280" y="928800"/>
            <a:chExt cx="3678480" cy="2857320"/>
          </a:xfrm>
        </p:grpSpPr>
        <p:pic>
          <p:nvPicPr>
            <p:cNvPr id="128" name="Picture 6" descr="Scara 1.jpg"/>
            <p:cNvPicPr/>
            <p:nvPr/>
          </p:nvPicPr>
          <p:blipFill>
            <a:blip r:embed="rId2"/>
            <a:stretch/>
          </p:blipFill>
          <p:spPr>
            <a:xfrm>
              <a:off x="285840" y="928800"/>
              <a:ext cx="3571920" cy="28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79280" y="1341360"/>
              <a:ext cx="151308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esting a calculator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amera observ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564000" y="981000"/>
            <a:ext cx="4753080" cy="2857680"/>
            <a:chOff x="3564000" y="981000"/>
            <a:chExt cx="4753080" cy="2857680"/>
          </a:xfrm>
        </p:grpSpPr>
        <p:pic>
          <p:nvPicPr>
            <p:cNvPr id="131" name="Picture 8" descr="scara- 2.jpg"/>
            <p:cNvPicPr/>
            <p:nvPr/>
          </p:nvPicPr>
          <p:blipFill>
            <a:blip r:embed="rId3"/>
            <a:stretch/>
          </p:blipFill>
          <p:spPr>
            <a:xfrm>
              <a:off x="3564000" y="981000"/>
              <a:ext cx="385740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804000" y="2060640"/>
              <a:ext cx="1513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Stacking lightweigh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mpon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5840" y="3857760"/>
            <a:ext cx="4070160" cy="2643120"/>
            <a:chOff x="285840" y="3857760"/>
            <a:chExt cx="4070160" cy="2643120"/>
          </a:xfrm>
        </p:grpSpPr>
        <p:pic>
          <p:nvPicPr>
            <p:cNvPr id="134" name="Picture 9" descr="scara- 3.jpg"/>
            <p:cNvPicPr/>
            <p:nvPr/>
          </p:nvPicPr>
          <p:blipFill>
            <a:blip r:embed="rId4"/>
            <a:stretch/>
          </p:blipFill>
          <p:spPr>
            <a:xfrm>
              <a:off x="285840" y="3857760"/>
              <a:ext cx="357192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556000" y="4479840"/>
              <a:ext cx="180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Precision assembl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429080" y="3929040"/>
            <a:ext cx="3672000" cy="2571840"/>
            <a:chOff x="4429080" y="3929040"/>
            <a:chExt cx="3672000" cy="2571840"/>
          </a:xfrm>
        </p:grpSpPr>
        <p:pic>
          <p:nvPicPr>
            <p:cNvPr id="137" name="Picture 10" descr="Scara 4.jpg"/>
            <p:cNvPicPr/>
            <p:nvPr/>
          </p:nvPicPr>
          <p:blipFill>
            <a:blip r:embed="rId5"/>
            <a:stretch/>
          </p:blipFill>
          <p:spPr>
            <a:xfrm>
              <a:off x="4429080" y="3929040"/>
              <a:ext cx="357192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948360" y="4149720"/>
              <a:ext cx="115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Multi Fun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109440"/>
            <a:ext cx="42847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The Revolute Ro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79160"/>
            <a:ext cx="8207280" cy="27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The Revolute or Puma most resembles the human 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The Robot rotates much like the human wa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Ideal for spray painting and welding as it mimics hu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m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4932360" y="3357720"/>
            <a:ext cx="2468520" cy="3282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187280" y="3716280"/>
            <a:ext cx="2454480" cy="2789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596360" y="522936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ri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165800" y="5516640"/>
            <a:ext cx="719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45007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Revolut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thermal-spray.jpg"/>
          <p:cNvPicPr/>
          <p:nvPr/>
        </p:nvPicPr>
        <p:blipFill>
          <a:blip r:embed="rId2"/>
          <a:stretch/>
        </p:blipFill>
        <p:spPr>
          <a:xfrm>
            <a:off x="826920" y="907920"/>
            <a:ext cx="3143520" cy="3786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welding_cell.jpg"/>
          <p:cNvPicPr/>
          <p:nvPr/>
        </p:nvPicPr>
        <p:blipFill>
          <a:blip r:embed="rId3"/>
          <a:stretch/>
        </p:blipFill>
        <p:spPr>
          <a:xfrm>
            <a:off x="4427640" y="3213000"/>
            <a:ext cx="3673440" cy="3022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140360" y="90792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ray Pai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59119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al Inert Gas We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92000" y="115920"/>
            <a:ext cx="5940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Arial"/>
              </a:rPr>
              <a:t>Robotic Syllabus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63040" y="1010880"/>
            <a:ext cx="791244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er &amp; </a:t>
            </a: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Ord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o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60093"/>
                </a:solidFill>
                <a:latin typeface="Arial"/>
              </a:rPr>
              <a:t>Robotic joints; degrees of freedom; coordinate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60093"/>
                </a:solidFill>
                <a:latin typeface="Arial"/>
              </a:rPr>
              <a:t>Forces and moments;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to Robotic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60093"/>
                </a:solidFill>
                <a:latin typeface="Arial"/>
              </a:rPr>
              <a:t>Classification of robots by structure; applications, with an emphasis on manufacturing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nciples of open and closed loop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nciples of operation and control of d.c., servos and stepper mo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/D and D/A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ogue to digital and digital to analogue converters (A/D and D/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91640" y="109440"/>
            <a:ext cx="43563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The Humanoid Ro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57240"/>
            <a:ext cx="6480000" cy="22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Previously developed for recreational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entertainment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Research into use for household chor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aid for elderly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D3CARHO0AJCAK8IY92CAB09TFLCATVCFUWCAKTF4G0CAGT8BL1CAIIY8L3CAU00BO2CALRSCEVCA4110OICAC08OT0CA7407RWCA0G0HOLCA7YX6HDCAUZBWQ5CAWL2QO3CAYU3SV8CAZFLQAMCATBU3NG.jpg"/>
          <p:cNvPicPr/>
          <p:nvPr/>
        </p:nvPicPr>
        <p:blipFill>
          <a:blip r:embed="rId2"/>
          <a:stretch/>
        </p:blipFill>
        <p:spPr>
          <a:xfrm>
            <a:off x="6443640" y="1341360"/>
            <a:ext cx="1600200" cy="1778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4859280" y="3357720"/>
            <a:ext cx="2952720" cy="287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medical-robot.jpg"/>
          <p:cNvPicPr/>
          <p:nvPr/>
        </p:nvPicPr>
        <p:blipFill>
          <a:blip r:embed="rId4"/>
          <a:stretch/>
        </p:blipFill>
        <p:spPr>
          <a:xfrm>
            <a:off x="1187280" y="3357720"/>
            <a:ext cx="2922840" cy="2857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109440"/>
            <a:ext cx="42847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Moments and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3640" y="1144080"/>
            <a:ext cx="8351640" cy="34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many forces acting about a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ct selection of servo - determined by required tor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ments = Force x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ments = Load and robot 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moment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tor of safety-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Content Placeholder 7" descr="mechanics_staticsmomentarm.gif"/>
          <p:cNvPicPr/>
          <p:nvPr/>
        </p:nvPicPr>
        <p:blipFill>
          <a:blip r:embed="rId2"/>
          <a:stretch/>
        </p:blipFill>
        <p:spPr>
          <a:xfrm>
            <a:off x="5219640" y="2349360"/>
            <a:ext cx="2905200" cy="1928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Documents and Settings\Diarmuid\My Documents\My Pictures\T4 control\mechanics_staticsbeerarm.gif"/>
          <p:cNvPicPr/>
          <p:nvPr/>
        </p:nvPicPr>
        <p:blipFill>
          <a:blip r:embed="rId3"/>
          <a:stretch/>
        </p:blipFill>
        <p:spPr>
          <a:xfrm>
            <a:off x="1547640" y="4653000"/>
            <a:ext cx="3105360" cy="1838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63280" y="109440"/>
            <a:ext cx="22683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ctu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2560" y="1144080"/>
            <a:ext cx="756144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ors- control the movement of a rob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ed as Actuators there are three common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C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per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o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Content Placeholder 6" descr="bottom2.jpg"/>
          <p:cNvPicPr/>
          <p:nvPr/>
        </p:nvPicPr>
        <p:blipFill>
          <a:blip r:embed="rId2"/>
          <a:stretch/>
        </p:blipFill>
        <p:spPr>
          <a:xfrm>
            <a:off x="4140360" y="2997360"/>
            <a:ext cx="3298680" cy="3671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524720" y="422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tepper mo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92720" y="450864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99640" y="109440"/>
            <a:ext cx="241164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DC Mo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1840" y="1144080"/>
            <a:ext cx="5870880" cy="34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common and cheap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ed with two wires from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s large amounts of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not be wired straight from a 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 not offer accuracy or spee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Content Placeholder 5" descr="DC_Motor.jpg"/>
          <p:cNvPicPr/>
          <p:nvPr/>
        </p:nvPicPr>
        <p:blipFill>
          <a:blip r:embed="rId2"/>
          <a:stretch/>
        </p:blipFill>
        <p:spPr>
          <a:xfrm>
            <a:off x="2987640" y="4076640"/>
            <a:ext cx="2233800" cy="2233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560" y="44280"/>
            <a:ext cx="341964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tepper Mo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17120" y="928800"/>
            <a:ext cx="8102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per has many electromag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per controlled by sequential turning on and off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g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pulse moves another step, providing a step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shows a step angle of 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or control with a large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tter step angle achieved with the toothed di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Content Placeholder 6" descr="steps.gif"/>
          <p:cNvPicPr/>
          <p:nvPr/>
        </p:nvPicPr>
        <p:blipFill>
          <a:blip r:embed="rId2"/>
          <a:stretch/>
        </p:blipFill>
        <p:spPr>
          <a:xfrm>
            <a:off x="6300720" y="2924280"/>
            <a:ext cx="2144880" cy="244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5120" y="172800"/>
            <a:ext cx="51339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tepper motor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Content Placeholder 6" descr="241px-Stepper_motor_1.png"/>
          <p:cNvPicPr/>
          <p:nvPr/>
        </p:nvPicPr>
        <p:blipFill>
          <a:blip r:embed="rId2"/>
          <a:stretch/>
        </p:blipFill>
        <p:spPr>
          <a:xfrm>
            <a:off x="3041640" y="2333520"/>
            <a:ext cx="3060720" cy="3059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7164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Content Placeholder 5" descr="241px-Stepper_motor_2.png"/>
          <p:cNvPicPr/>
          <p:nvPr/>
        </p:nvPicPr>
        <p:blipFill>
          <a:blip r:embed="rId2"/>
          <a:stretch/>
        </p:blipFill>
        <p:spPr>
          <a:xfrm>
            <a:off x="3041640" y="2333520"/>
            <a:ext cx="3060720" cy="3059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2781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6480" y="217440"/>
            <a:ext cx="45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tepper motor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Content Placeholder 5" descr="241px-Stepper_motor_3.png"/>
          <p:cNvPicPr/>
          <p:nvPr/>
        </p:nvPicPr>
        <p:blipFill>
          <a:blip r:embed="rId2"/>
          <a:stretch/>
        </p:blipFill>
        <p:spPr>
          <a:xfrm>
            <a:off x="3041640" y="2333520"/>
            <a:ext cx="3060720" cy="3059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26920" y="189000"/>
            <a:ext cx="45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tepper motor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4000" y="378936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Content Placeholder 5" descr="241px-Stepper_motor_4.png"/>
          <p:cNvPicPr/>
          <p:nvPr/>
        </p:nvPicPr>
        <p:blipFill>
          <a:blip r:embed="rId2"/>
          <a:stretch/>
        </p:blipFill>
        <p:spPr>
          <a:xfrm>
            <a:off x="3041640" y="2333520"/>
            <a:ext cx="3060720" cy="3059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55640" y="189000"/>
            <a:ext cx="45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tepper motor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1080" y="43657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44280"/>
            <a:ext cx="33847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tepper Mo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12360" y="1267920"/>
            <a:ext cx="7272360" cy="27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6 degree step angle =&gt; 100 steps per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5 teeth, 4 step= 1 tooth =&gt; 100 steps for 25te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led using output Blocks on a 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ct sequence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erse sequence - reverse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Content Placeholder 10" descr="Table.JPG"/>
          <p:cNvPicPr/>
          <p:nvPr/>
        </p:nvPicPr>
        <p:blipFill>
          <a:blip r:embed="rId2"/>
          <a:stretch/>
        </p:blipFill>
        <p:spPr>
          <a:xfrm>
            <a:off x="1763640" y="3933720"/>
            <a:ext cx="5286600" cy="215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08000" y="189000"/>
            <a:ext cx="2340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28880" y="1125000"/>
            <a:ext cx="75038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 to Rob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a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grees of freedom &amp; Robotic j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ification &amp; coordinate systems /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s and mo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uators, DC motors, Stepper and Servo Mo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 Eff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d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/D &amp; D/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92000" y="115920"/>
            <a:ext cx="277200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rvo mo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93981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o offers smoothest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e to a specific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er good torque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l for powering robot arm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gree of revolution is limi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suitable for applications which requ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ous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Content Placeholder 5" descr="M0CAY6FL6KCAQP7NEHCA05P1T3CAZBZQ1NCAXD1594CA9LMNE3CAB1XBXDCAXDP7ZDCAAOEDTGCAUF935KCAUKJ675CAWA6YY8CAXUN0TKCAKWH37PCAKLAYZ0CAEVGFP1CAXECGRQCA9VUOZNCAY0EW5J.jpg"/>
          <p:cNvPicPr/>
          <p:nvPr/>
        </p:nvPicPr>
        <p:blipFill>
          <a:blip r:embed="rId2"/>
          <a:stretch/>
        </p:blipFill>
        <p:spPr>
          <a:xfrm>
            <a:off x="6084720" y="2565360"/>
            <a:ext cx="1613160" cy="216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4560" y="109440"/>
            <a:ext cx="29163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rvo mo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7993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ain motor, gearbox, driver controller and potenti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wires - 0v, 5v and PIC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ometer connected to gearbox - monitors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position is distorted - automatic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Content Placeholder 6" descr="Exploded servo.JPG"/>
          <p:cNvPicPr/>
          <p:nvPr/>
        </p:nvPicPr>
        <p:blipFill>
          <a:blip r:embed="rId2"/>
          <a:stretch/>
        </p:blipFill>
        <p:spPr>
          <a:xfrm>
            <a:off x="6443640" y="2556000"/>
            <a:ext cx="1792440" cy="3321000"/>
          </a:xfrm>
          <a:prstGeom prst="rect">
            <a:avLst/>
          </a:prstGeom>
          <a:ln w="0">
            <a:noFill/>
          </a:ln>
        </p:spPr>
      </p:pic>
      <p:pic>
        <p:nvPicPr>
          <p:cNvPr id="191" name="hsr1422cr-500" descr=""/>
          <p:cNvPicPr/>
          <p:nvPr/>
        </p:nvPicPr>
        <p:blipFill>
          <a:blip r:embed="rId3"/>
          <a:stretch/>
        </p:blipFill>
        <p:spPr>
          <a:xfrm>
            <a:off x="3995640" y="4292640"/>
            <a:ext cx="2125800" cy="2565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 flipV="1">
            <a:off x="5435640" y="4437000"/>
            <a:ext cx="865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rcRect l="19583" t="32000" r="24167" b="24668"/>
          <a:stretch/>
        </p:blipFill>
        <p:spPr>
          <a:xfrm>
            <a:off x="250920" y="3933720"/>
            <a:ext cx="3473280" cy="1955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463760" y="4091040"/>
            <a:ext cx="798480" cy="33732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5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8360" y="44280"/>
            <a:ext cx="47163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rvo motors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1741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lse Width Modulation (0.75ms to 2.25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lse Width takes servo from 0° to 150°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ous stre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20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programming block, pulse width and output pin must b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lse width can also be expressed as 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2"/>
          <a:stretch/>
        </p:blipFill>
        <p:spPr>
          <a:xfrm>
            <a:off x="4859280" y="4076640"/>
            <a:ext cx="2438280" cy="2476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116000" y="3789360"/>
            <a:ext cx="3220920" cy="259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5080" y="109440"/>
            <a:ext cx="284328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nd Eff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7993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ct name for the “Hand” that is attached to the end of rob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for grasping, drilling, painting, weld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end effectors allow for a standard robo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 numerous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different types 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ippers &amp;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219640" y="1700280"/>
          <a:ext cx="2200320" cy="244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19640" y="1700280"/>
                    <a:ext cx="220032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270036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 Eff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500720" y="3068280"/>
            <a:ext cx="790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115920"/>
            <a:ext cx="298764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nd Eff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480" y="1095480"/>
            <a:ext cx="96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ol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are used where a specific opera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be carried out such as welding, painting dri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tc.  - the tool is attached to the mounting 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ipper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chanical, magnetic and pneuma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chani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fingered most common, also multi-fingered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es force that causes enough friction between objec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w for it to be lif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suitable for some objects which may be delicate / br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WPCAYNF8QHCA70DPUCCA2KWDKZCA9OS5FJCAD23PGSCAXN01HMCAHX3QO4CACGN0M9CAH8NL0FCAKP0WJVCAE8TKVNCANF6U1SCA8HMHGUCAPIIAUDCAJA9NZ5CA45X5U6CABGPU4QCA7XRTTQCAEQ3ZEP.jpg"/>
          <p:cNvPicPr/>
          <p:nvPr/>
        </p:nvPicPr>
        <p:blipFill>
          <a:blip r:embed="rId2"/>
          <a:stretch/>
        </p:blipFill>
        <p:spPr>
          <a:xfrm>
            <a:off x="7581960" y="2781360"/>
            <a:ext cx="820800" cy="1360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63640" y="115920"/>
            <a:ext cx="313200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nd Eff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85480" y="950400"/>
            <a:ext cx="78152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gne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rrous material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ctro and permanent magnet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neuma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tion cups from plastic or rub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ooth even surfac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ight &amp; size of object determines size and number of c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schunknp36.jpg"/>
          <p:cNvPicPr/>
          <p:nvPr/>
        </p:nvPicPr>
        <p:blipFill>
          <a:blip r:embed="rId2"/>
          <a:stretch/>
        </p:blipFill>
        <p:spPr>
          <a:xfrm>
            <a:off x="5580000" y="1052640"/>
            <a:ext cx="2303640" cy="2197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SSP.jpg"/>
          <p:cNvPicPr/>
          <p:nvPr/>
        </p:nvPicPr>
        <p:blipFill>
          <a:blip r:embed="rId3"/>
          <a:stretch/>
        </p:blipFill>
        <p:spPr>
          <a:xfrm>
            <a:off x="5003640" y="4917960"/>
            <a:ext cx="2664000" cy="1679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280" y="44280"/>
            <a:ext cx="59403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Open and Closed Loop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65898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control systems contain three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) Th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i) Current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ii) Servo Mo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CNC schematic"/>
          <p:cNvPicPr/>
          <p:nvPr/>
        </p:nvPicPr>
        <p:blipFill>
          <a:blip r:embed="rId2"/>
          <a:stretch/>
        </p:blipFill>
        <p:spPr>
          <a:xfrm>
            <a:off x="2124000" y="2924280"/>
            <a:ext cx="3816360" cy="1407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50920" y="4319640"/>
            <a:ext cx="88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rol is the Brain - reads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amplifier receives orders from brain and se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d signal to the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al sent depends on the whether Open or Closed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92000" y="44280"/>
            <a:ext cx="37087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Open Loop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88232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Open Loop 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roller is told where the output device needs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ce the controller sends the signal to motor it does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eive feedback to known if it has reached desired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loop much cheaper than closed loop but less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403280" y="4005360"/>
            <a:ext cx="5943600" cy="2647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6720" y="44280"/>
            <a:ext cx="363528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Open Loop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6134040" cy="356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6920" y="44280"/>
            <a:ext cx="399600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losed Loop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21556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feedback to the control unit telling it the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tion of the mo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actual position is found using an enco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ctual position is compared to the des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tion is changed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1908000" y="3645000"/>
            <a:ext cx="5801040" cy="2933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89120" y="1383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a rob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lligent device who’s motion can be controlled, planned, sensed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ctro-mechanical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ons and appearance conveys it has intent of its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s jobs- cheaper, faster, greater accuracy, reliability compared to hu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dely used in manufacturing and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26028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Rob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115920"/>
            <a:ext cx="27003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The En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8000" y="1360080"/>
            <a:ext cx="8215200" cy="31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coders give the control unit information as to the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tion of the mo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ght shines through a slotted disc, the light sensor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peed and number of breaks in the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ws for the calculation of speed, direction and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ve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2556000" y="4149720"/>
            <a:ext cx="4771800" cy="2400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99640" y="44280"/>
            <a:ext cx="41403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losed Loop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360" y="1146240"/>
            <a:ext cx="82152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esired value is compared to the actual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rator subtracts actual from des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fference is the error which is fed to the controller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generates a control action to eliminate the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1835280" y="3213000"/>
            <a:ext cx="5257800" cy="3200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560" y="109440"/>
            <a:ext cx="40323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On - off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28760" y="856800"/>
            <a:ext cx="82152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est closed lo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n error is identified the  system goes into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ctive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tend to over shoot des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ps and falls below desired so it never reaches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6010560" cy="3000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920" y="44280"/>
            <a:ext cx="406728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Proportional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bber band effect - greater the distance from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red more corrective force appli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it approaches the desired, less cor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d to reduce over shoot but slower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reaches desired -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2"/>
          <a:stretch/>
        </p:blipFill>
        <p:spPr>
          <a:xfrm>
            <a:off x="1042920" y="3789360"/>
            <a:ext cx="6500880" cy="292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65080" y="44280"/>
            <a:ext cx="385128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Proportional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360" y="1001880"/>
            <a:ext cx="821520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 attempts to calculate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ain K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will try and stabilise the system at the desired value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6357960" cy="4619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36720" y="109440"/>
            <a:ext cx="363528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D/DA Con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0400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cessary to be able to convert analogue values to dig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computer systems only count using 1 &amp;0 (Bin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 counting system to the b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to the decimal system to the bas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2"/>
          <a:stretch/>
        </p:blipFill>
        <p:spPr>
          <a:xfrm>
            <a:off x="4067280" y="2133720"/>
            <a:ext cx="4319640" cy="24350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500720" y="3645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gita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3"/>
          <a:stretch/>
        </p:blipFill>
        <p:spPr>
          <a:xfrm>
            <a:off x="611280" y="2060640"/>
            <a:ext cx="2808360" cy="20746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042920" y="3645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ogu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63640" y="44280"/>
            <a:ext cx="32767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inary 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bincount.gif"/>
          <p:cNvPicPr/>
          <p:nvPr/>
        </p:nvPicPr>
        <p:blipFill>
          <a:blip r:embed="rId2"/>
          <a:stretch/>
        </p:blipFill>
        <p:spPr>
          <a:xfrm>
            <a:off x="539640" y="1844640"/>
            <a:ext cx="3475080" cy="3633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4643280" y="1197000"/>
            <a:ext cx="3327480" cy="4778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6560" y="44280"/>
            <a:ext cx="27003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8 Bi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5832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icator uses an 8 bi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gives the 256 number  (0 - 2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gital reads 0 (Off) from 0v - 0.8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(On) from  2v - 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signal.gif"/>
          <p:cNvPicPr/>
          <p:nvPr/>
        </p:nvPicPr>
        <p:blipFill>
          <a:blip r:embed="rId2"/>
          <a:stretch/>
        </p:blipFill>
        <p:spPr>
          <a:xfrm>
            <a:off x="1116000" y="3500280"/>
            <a:ext cx="6215040" cy="221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63640" y="37800"/>
            <a:ext cx="19080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n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ogue has a large number of values betw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v and 5v. Depends on the re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ph shows the fluctuation in voltage compared to dig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2484360" y="3284640"/>
            <a:ext cx="3686400" cy="2724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36720" y="44280"/>
            <a:ext cx="334800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nalogue- Dig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28760" y="857160"/>
            <a:ext cx="82152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5v is broken up into 256 se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alogue resolution is now 256 (0 - 25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oltage level from the analogue input is now able to be read between 0 - 255 and not as a fluctuating vol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value is now stored as a binary number in the 8 bit syste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2411280" y="3357720"/>
            <a:ext cx="4500720" cy="30621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211640" y="4221000"/>
            <a:ext cx="2016000" cy="40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cc33"/>
                </a:solidFill>
                <a:latin typeface="Arial"/>
              </a:rPr>
              <a:t>The analogue reading at an inst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5280" y="1125000"/>
            <a:ext cx="7920000" cy="53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ots are machines expected to do what humans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ots can mimic certain parts of the 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ot arms come in a variety of shapes and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ze &amp; shape critical to the robots efficient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contain elbows, shoulders which represent: - Degrees of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ors provide the ‘Muscle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circuit provides the ‘Brai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60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Rob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72360" y="4508640"/>
            <a:ext cx="1342800" cy="2233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7deg.gif"/>
          <p:cNvPicPr/>
          <p:nvPr/>
        </p:nvPicPr>
        <p:blipFill>
          <a:blip r:embed="rId2"/>
          <a:stretch/>
        </p:blipFill>
        <p:spPr>
          <a:xfrm>
            <a:off x="4067280" y="4076640"/>
            <a:ext cx="1592280" cy="1728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6803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gree of freedom - one joint one degree of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e robots - 3 degrees  of freedom in X,Y,Z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rn robot arms have up to 7 degrees of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YZ, Roll, Pitch and Y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uman arm can be used to demonstrate the deg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free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st Crawler- 5 degrees  of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0920" y="18900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Degrees of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9920" y="272520"/>
            <a:ext cx="360972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Robotic  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7559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rovide a variety of degrees of freedo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obotic joints can be used: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ry j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aist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Elbow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ear/ Prismatic j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liding j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imple axi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580000" y="3933720"/>
            <a:ext cx="2448000" cy="1006560"/>
            <a:chOff x="5580000" y="3933720"/>
            <a:chExt cx="2448000" cy="100656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5580000" y="3933720"/>
              <a:ext cx="24480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130080" y="4570560"/>
              <a:ext cx="79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liding Lin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796000" y="1844640"/>
            <a:ext cx="2302920" cy="1800360"/>
            <a:chOff x="5796000" y="1844640"/>
            <a:chExt cx="2302920" cy="180036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5796000" y="1844640"/>
              <a:ext cx="20674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799680" y="2653560"/>
              <a:ext cx="129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otation around joint ax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11280" y="55166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used together to achieve required movement i.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ylindrical Robo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867280" y="5160960"/>
            <a:ext cx="1800360" cy="1652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99920" y="272520"/>
            <a:ext cx="571644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Robot ‘Work Envelop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843280" y="2205000"/>
            <a:ext cx="4032360" cy="2884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4360" y="1125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olume of space in which a robot can operate is called the ‘Work Envelope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530064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ork envelope defines the space around a robot that is accessible to the mounting point for the end-eff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6400" y="274320"/>
            <a:ext cx="5410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lassification of Rob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2680" y="125892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ot designs fall under different coordinate systems or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ends on joint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e system types determine the position of a point through measurement (X, Y etc.) or 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systems cater for different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hree major robotic classification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)  Carte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i) Cylind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ii) Spherical / 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21:41:54Z</dcterms:created>
  <dc:creator>Diarmuid</dc:creator>
  <dc:description/>
  <dc:language>en-US</dc:language>
  <cp:lastModifiedBy>Elizabeth</cp:lastModifiedBy>
  <dcterms:modified xsi:type="dcterms:W3CDTF">2009-04-23T13:35:33Z</dcterms:modified>
  <cp:revision>132</cp:revision>
  <dc:subject/>
  <dc:title>Applied Control  Systems Robotics</dc:title>
</cp:coreProperties>
</file>